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ACC16-940D-4374-ADCE-C1A3B1629C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5.4 | PUBLIC SPENDING AS A PERCENT OF TOTAL PERSONAL HEALTH CARE EXPENDITURES,  BY SELF-REPORTED HEALTH STATUS, FOR THE U.S. CIVILIAN NON-INSTITUTIONALIZED POPULATION, 200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9900A-A9AC-4574-88FC-E5647EC009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9F4-8572-4414-AFD3-89190F2FA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B700-9A5C-4849-B773-FBE8DE4F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B4D1-D7A9-45A5-AF74-DBA7C3F6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FF12-C91C-4EE8-92CB-66AA0C1E2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E10A-41A1-435B-A0E1-A02E541D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1D07-6B56-4CE2-B6F2-7E943D6D3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26EA-F0F1-41FF-9114-A9522686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2851-EA31-4434-BB1A-3CD74D0E7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47EF-331F-4E27-9433-71388845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D17E-272E-4AEA-B464-71E36A8B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07578-F550-4017-9E04-798E01B47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ABDF-3A01-4C6A-BA1B-4CA0A3F9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B26-746C-45A6-9739-7D8674D911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5.4 |  The share of health spending covered by government increases as physical or mental health status dec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244520"/>
            <a:ext cx="8331120" cy="5130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3285720" y="5486400"/>
            <a:ext cx="259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Self-reported health status, 200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614520" y="5853240"/>
            <a:ext cx="795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: Seldon TM and M Sing. The Distribution of Public Spending for Health Care in the United States, 2002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Health Affairs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b Exclusive 2008; 27:5w349–w359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http://content.healthaffairs.org/cgi/reprint/27/5/w349 (accessed June 14, 2010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838080" y="1523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ercentage of personal health spending paid by government (200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7"/>
          <p:cNvSpPr/>
          <p:nvPr/>
        </p:nvSpPr>
        <p:spPr>
          <a:xfrm rot="16200000">
            <a:off x="-2305440" y="3503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16:55:16Z</dcterms:created>
  <dc:creator>Kristy</dc:creator>
  <dc:description>5.4 |  The share of health spending covered by government increases as physical or mental health status declines</dc:description>
  <dc:language>en-US</dc:language>
  <cp:lastModifiedBy>Jia Yao</cp:lastModifiedBy>
  <dcterms:modified xsi:type="dcterms:W3CDTF">2013-09-06T13:59:37Z</dcterms:modified>
  <cp:revision>156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5.4 |  The share of health spending covered by government increases as physical or mental health status declines</vt:lpwstr>
  </property>
</Properties>
</file>