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AF29A-38A6-4889-8EC0-0236E6558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9DD1D-C2D8-46DB-8305-E145F06324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2E02-6782-45AA-BF4E-EAF6714F9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C432-A6AA-415D-8CC6-F33669180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901-C457-44D5-AB7C-02A73CC9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D545-382C-4F49-9ADA-FB0563E28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64B1-31C0-4AB4-A350-F7D8848A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8E3-288A-4E9A-89CB-35A38C791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6D08-45E7-4FD8-894D-FC16C92C2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E5A8-8FDC-4261-AC94-56937EA88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8D85-4EBF-40EF-9CEF-A5D169972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E06-D9E7-4497-8E82-43DDA497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3C8A-1C27-4CD6-9E22-6A0D0CB7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9967-9675-4399-A132-6D0EE0728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62299-8F5A-4160-968F-98F9CD2E82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1066680" y="-4680"/>
            <a:ext cx="700560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3:30Z</dcterms:modified>
  <cp:revision>14</cp:revision>
  <dc:subject/>
  <dc:title>PowerPoint Presentation</dc:title>
</cp:coreProperties>
</file>