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48AFA-65E3-4269-8C98-3DC6B820F1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3B | TOTAL GENERAL GOVERNMENT EXPENDITURES AND PUBLIC EXPENDITURES ON HEALTH AS A PERCENT OF GDP FOR SELECTED INDUSTRIALIZED COUNTRIES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B7873-5725-449E-B720-EE696289E0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1B1B-7240-4406-9E63-A46B0BB9D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368D-C6B6-45F5-B9D0-B11BB0C80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A4D9-486C-49EF-8C9B-14EED087E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EFE5-F136-4967-B29C-8C8575D41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9A5E-4777-4E68-9365-4E57DE809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EEC8-5CF3-4973-BC7A-D2C13F130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7580-AA97-4A3F-802F-217C70877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F616-8EDE-486B-92EF-75DC01CAF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850A-215D-4C2D-AEB0-4E412F620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1F19-AF18-4C0F-91D9-867B0ED7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D2C4-4491-4992-B6E3-061CDB00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1037-D851-4B79-9F08-19B9D743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6ED6C-143D-4DF6-9CA3-FB69493C24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3b | In the G7, U.S. has the highest share of government spending devoted to health , but the lowest public share of total health spend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82760" y="1244520"/>
            <a:ext cx="8483400" cy="52070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33520" y="129528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(200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637920" y="639288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3b | In the G7, U.S. has the highest share of government spending devoted to health , but the lowest public share of total health spending </dc:description>
  <dc:language>en-US</dc:language>
  <cp:lastModifiedBy>Jia Yao</cp:lastModifiedBy>
  <dcterms:modified xsi:type="dcterms:W3CDTF">2013-09-06T14:00:04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3b | In the G7, U.S. has the highest share of government spending devoted to health , but the lowest public share of total health spending </vt:lpwstr>
  </property>
</Properties>
</file>