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209AC-E9C6-42A8-9B00-FEEFCCDDB8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3A | TOTAL GENERAL GOVERNMENT EXPENDITURES AND PUBLIC EXPENDITURES ON HEALTH AS A PERCENT OF GDP FOR SELECTED INDUSTRIALIZED COUNTRIES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70D70-899D-4473-A7E6-B456B1AC10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4F50-6FFD-451D-BF44-AB5E74D43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A2F7-7A3B-4C29-A2C1-35B1E955B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158F-3E3A-45B2-B572-4329DD1CB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A92F-3CED-446F-AB24-78D9111CF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E110-AF13-4871-9381-F5455F7D5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6E1C-1EC4-4ECB-A4CB-64EFFB4EB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A506-D1E0-4FBD-A71F-AC50328D0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8215-6C62-400F-8D48-4D8D33315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BA38-D62A-4705-B55C-21D84E6A7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CD5A-95B1-4BD4-9CC4-51CE30AE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4D28-899F-4E32-BB96-A6D05ADD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270D-D4FB-4095-A014-E8982BE2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FACD2-56F2-4D79-B807-5A1FA4CB3B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3a | The U.S. share of GDP devoted to tax-financed health spending is comparable to that of its G7 competito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331120" cy="496728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2819520" y="586728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G7 members ranked by size of 2007 GD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637920" y="639288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3a | The U.S. share of GDP devoted to tax-financed health spending is comparable to that of its G7 competitors.</dc:description>
  <dc:language>en-US</dc:language>
  <cp:lastModifiedBy>Jia Yao</cp:lastModifiedBy>
  <dcterms:modified xsi:type="dcterms:W3CDTF">2013-09-06T13:59:34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3a | The U.S. share of GDP devoted to tax-financed health spending is comparable to that of its G7 competitors.</vt:lpwstr>
  </property>
</Properties>
</file>