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F061-CADB-4BE4-AB93-AFEF9A54E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3B | TOTAL GENERAL GOVERNMENT EXPENDITURES AND PUBLIC EXPENDITURES ON HEALTH AS A PERCENT OF GDP FOR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DC07-9890-4049-8EF3-549073A8C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55E8-BA41-4A01-936A-95621045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D4DA-4AEF-4492-BB25-4D9B897C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C7FE-5C21-4914-8904-E7DB5C5F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9B4E-3036-47A7-ACE4-5A3501F0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756-FD9D-4A4D-9F56-A6BFBB02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937D-E99F-44B9-8601-7F21B967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354E-78D1-46D1-A3AE-DD588612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E43D-2492-49C8-8EAF-947489B2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4398-BB82-4B59-A411-5ADCB0DE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DC02-AB27-41E4-904E-F47DB963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251-59DF-474B-9008-1B39DF4C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A60B-F31E-4632-908B-00EC4395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1DE8-3BBF-4A19-A742-B60DB7DC3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3b | In the G7, U.S. has the highest share of government spending devoted to health , but the lowest public share of total health spen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48340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2952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37920" y="639288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3b | In the G7, U.S. has the highest share of government spending devoted to health , but the lowest public share of total health spending </dc:description>
  <dc:language>en-US</dc:language>
  <cp:lastModifiedBy>Jia Yao</cp:lastModifiedBy>
  <dcterms:modified xsi:type="dcterms:W3CDTF">2013-09-06T14:00:0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3b | In the G7, U.S. has the highest share of government spending devoted to health , but the lowest public share of total health spending </vt:lpwstr>
  </property>
</Properties>
</file>