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47C5-BAE0-491E-8F82-F4E387596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46F2-A97C-43A2-AF3F-652B60081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6C15-BA28-47EA-9A74-FAD8A4F02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77AA-3596-4CEC-A109-4A189F61D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910C-2B01-4039-AF18-0F14D4569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6DBA-8CC7-4DB9-BE49-FF999693A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EBD4-B52A-4CE1-B33B-8509C202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22B7-2954-4BF1-8247-72BAA1E54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EA29-8F5F-430B-AFC8-F0C04B538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D65B-12B8-45F9-96A4-7F059D51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9728-E795-4C06-9BA7-474240B8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B031-CE1F-48B7-88F8-97168B76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DB226-9796-479B-A1E0-8BED6FED10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127080"/>
            <a:ext cx="9144000" cy="66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6T21:59:59Z</dcterms:created>
  <dc:creator>Jia Yao</dc:creator>
  <dc:description/>
  <dc:language>en-US</dc:language>
  <cp:lastModifiedBy>Jia Yao</cp:lastModifiedBy>
  <dcterms:modified xsi:type="dcterms:W3CDTF">2013-09-06T22:01:57Z</dcterms:modified>
  <cp:revision>1</cp:revision>
  <dc:subject/>
  <dc:title>PowerPoint Presentation</dc:title>
</cp:coreProperties>
</file>