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4BCE-7BFC-4DAE-8094-4BAFB9BA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3185-66F4-4B88-8BE1-A2C1E903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FF44-5572-47BC-8E3F-78D7DD3F1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A5B8-54D5-40AD-ADA7-7E36EE4F5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20E7-9ED5-4AF3-A3FA-E58D3DCA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F19B-1452-4628-A298-A3B4C3BE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2D79-33D2-402C-9C20-2392505C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5917-63C7-42F3-97AB-1206B14F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832E-D679-4C44-8C1A-13F84997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2012-2FBC-474E-83FC-16FE2FF3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79B7-FE02-41A2-8684-EE3E7EAF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4D99-F6F6-4CF0-88DE-8A0ABD78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D55B-A8D9-482F-A702-A47B8D8F0B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26Z</dcterms:modified>
  <cp:revision>14</cp:revision>
  <dc:subject/>
  <dc:title>PowerPoint Presentation</dc:title>
</cp:coreProperties>
</file>