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81B38-7934-425E-A069-F070CF715A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1B | TOTAL GOVERNMENT EXPENDITURES ON HEALTH CARE AS A PERCENT OF GDP: 1929-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18801-814C-446F-9416-848BCE4B44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69F6-8E21-414C-8A75-447FAADFA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9F87-CA7A-4EE8-A5CA-EF1609648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6992-C5E1-4F0A-8F8A-76C5CF601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B67E-D496-4E57-8C6F-AC7C84F83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4641-DD49-4BEA-A582-9D22A607B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5AF5-26DB-4BEC-829F-843276ADD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72A7-AB17-4B7A-ADBB-842FA38B6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31DB-0CFA-4E9C-87B2-F0C55B868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7284-23E9-4D6D-96BE-4E1CB621B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67A9-E0B3-4CE5-BD66-DFE2F8A91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0883-9C3F-4ED2-85BB-5485B17CE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06F5-3C37-4E94-9F75-4D6A09109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3B34D-BF09-4962-85A4-76FB698B76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1b | Between 1966 and 2007, all of the increase in the size of government was attributable to growth in tax-financed health c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254160" y="1473120"/>
            <a:ext cx="8940600" cy="4292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533520" y="1295280"/>
            <a:ext cx="365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Government spending as a percentage of GD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flipH="1">
            <a:off x="457200" y="579132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 figures include debt service, but the entire amount appears under non-health spending. If allocated by shares of spending, this would increase government health spending and reduce non-health spending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1b | Between 1966 and 2007, all of the increase in the size of government was attributable to growth in tax-financed health care</dc:description>
  <dc:language>en-US</dc:language>
  <cp:lastModifiedBy>Jia Yao</cp:lastModifiedBy>
  <dcterms:modified xsi:type="dcterms:W3CDTF">2013-09-06T13:59:28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1b | Between 1966 and 2007, all of the increase in the size of government was attributable to growth in tax-financed health care</vt:lpwstr>
  </property>
</Properties>
</file>