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C278-11B6-4E50-914B-11D2E6CA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FBC-9EF8-4D05-869E-CE8375EE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B88-D84F-442B-9424-A25C9964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35C-3309-4EAF-9B0B-ABA9D3D1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9F4D-28EB-40BF-84B9-78DD93CF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9B7-204C-4D5A-99EC-73DFD354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CC3-DC21-45DC-B69C-E87C16C5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6739-7422-4EAA-B607-8230AD73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BF9-3915-48C0-9AD7-F0A7B1DD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8865-206E-4EF1-8BF9-0E7B9515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08C-A785-4C1E-ACA8-6F7E0A13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946-8719-48BA-989B-84448EFF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186D-588B-4DB0-B0D7-4FAEF3E54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520" y="304920"/>
            <a:ext cx="912348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3Z</dcterms:modified>
  <cp:revision>14</cp:revision>
  <dc:subject/>
  <dc:title>PowerPoint Presentation</dc:title>
</cp:coreProperties>
</file>