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CA37-2165-4BFC-ACD3-50D52CEFA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8216-01FD-449C-BFC7-F2FAB9E1A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0030-43E0-4561-8464-980F9A5AC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FE59-9073-4348-9682-0055E9027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F657-2114-4FE9-945D-BB85B293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C8A2-3649-43ED-84C7-BE596EAB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EAA3-D847-4481-9B38-06AEDA9F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4EF9-DC77-4EEA-A4CC-14848F98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7334-1383-4306-8CC5-330F348A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1222-C1FD-4D3B-BFE0-0A443FA0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E89D-A764-4EF0-A4D5-091FA84D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D7CB-EDF0-4A70-A229-42BFCE23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4F08-93D4-46F8-A7A9-0438C89601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73080"/>
            <a:ext cx="9144000" cy="67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24Z</dcterms:modified>
  <cp:revision>14</cp:revision>
  <dc:subject/>
  <dc:title>PowerPoint Presentation</dc:title>
</cp:coreProperties>
</file>