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8CBA1-8FFD-4A4D-AF24-2136CB767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B5C91-14A7-4030-91BC-42D1F5E46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631F1-5A18-4635-8FC6-B52A9F9C9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4F7D2-7A9B-4DB3-9C7D-978739AA5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69C3F-1E8D-4908-998D-96269569D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4D65B-4534-4ADA-9848-1ACA68AAE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797BF-4639-4AA5-A63E-C6D645BCB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713B3-E523-4B8A-BA47-5489D54A9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EFAD2-7309-497D-A989-F6FDD2956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43E09-9268-40AC-BA93-3C48559FC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2E8E3-5C48-40E2-82E6-D12B3EB23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673A5-EC64-442B-9EDB-896B414C1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0AD90-74AE-4AFA-853A-018E8615C7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20520" y="304920"/>
            <a:ext cx="9123480" cy="62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3:23Z</dcterms:modified>
  <cp:revision>14</cp:revision>
  <dc:subject/>
  <dc:title>PowerPoint Presentation</dc:title>
</cp:coreProperties>
</file>