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6B0-4DDF-4E49-8990-423E18AD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228-7D09-4F63-B8A4-FE83FBBA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75D-02B2-49B4-ACEE-480BAB03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192-263E-4148-AAE0-F02D509C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E8E-A726-41B8-8BF2-800E211F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F5A-6D9F-4C83-8C20-A195E1F9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0C3-4F7C-41D3-978B-6238AA88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DF4-5DF0-4351-9CCA-9D50A007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6E9-99CD-4401-BAF4-661EBDC6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CCB-D3D9-4787-B8A9-9FBE4E9B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266-18F7-400F-A3E4-422E123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03B-2D8C-453C-B872-D862D62B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9269-782B-4760-9D0D-9A632A2BA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520" y="304920"/>
            <a:ext cx="9123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3Z</dcterms:modified>
  <cp:revision>14</cp:revision>
  <dc:subject/>
  <dc:title>PowerPoint Presentation</dc:title>
</cp:coreProperties>
</file>