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A106-A459-4E9F-9592-9B36C6D08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A | REAL PER CAPITA TOTAL GOVERNMENT EXPENDITURES AND GOVERNMENT EXPENDITURES ON HEALTH CARE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E4D8-AA3D-46D4-BAAB-FEC285F69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EB3-1A69-458F-B750-77A46D88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62D-DB74-4A4E-86BC-612D8079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E5E-F61D-4296-A7E3-42ADDF80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716-5DEB-42F9-A11C-4848E198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AD8-CC27-443D-B75D-A6E47A00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B0D-9745-461A-91E7-A0083621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406-E091-41A0-9C06-7C3E6D21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0F8-2012-4FD3-81C3-2CE31EB7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336-7BD8-4DD0-A716-0116BC90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5B7-478B-40AD-86E9-A447CAD0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9E0-67C3-41D3-8F4C-73966AAA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3CC-A11C-4C11-8C80-4CA2B33C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499C-5F9B-4FF7-B785-A303BE2D5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a | Real government spending on health has increased 30-fold in the past half century; the increase is 17-fold in per capita ter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8240" y="1447920"/>
            <a:ext cx="657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dexes of real government spending on health using chained GDP deflator: 1960=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.a | Real government spending on health has increased 30-fold in the past half century; the increase is 17-fold in per capita terms. </dc:description>
  <dc:language>en-US</dc:language>
  <cp:lastModifiedBy>Jia Yao</cp:lastModifiedBy>
  <dcterms:modified xsi:type="dcterms:W3CDTF">2013-09-06T14:00:47Z</dcterms:modified>
  <cp:revision>15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.a | Real government spending on health has increased 30-fold in the past half century; the increase is 17-fold in per capita terms. </vt:lpwstr>
  </property>
</Properties>
</file>