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2672-69C6-4B10-A28F-49F4B6578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37A8-19E4-49BE-ACB1-BB99FDD6BD1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4a | HEALTH INSURANCE BENEFITS OFFER RATES, BY SIZE OF FIRM, 1999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EE36-623D-42CB-A605-0534904E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40F-448D-4D8D-8C5C-44D500E4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D355-FC3B-49FD-A4A4-A6B169F1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225C-5E12-475E-BD11-EDAAA703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8908-8E69-441E-858F-0BE52DE8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4734-1253-4321-9F05-A8E25E35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BC3B-4D53-4A13-A1FF-306439C2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96A2-6722-4B45-90A6-F6C2548E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E3C9-CA1C-4138-A897-EBF5176C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B986-E584-4D24-B223-73F7CC0F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4D5B-89C6-4880-A666-987E342E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A42-B55B-4C71-8E1E-F4003A36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44CA-8E46-4F35-9BAE-2FB228CD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872C-B13F-42FE-8A32-984C0ADC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D9CA-029B-45BB-9B2B-855DE87F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6431-E5E0-46F6-ADCA-32B976EA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32A1-97DF-4E81-A783-AD9EEDD0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195-3DF9-422F-89B9-4262C612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808-9BF0-43F6-B412-E039E7B8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F1B-0DBE-466E-8E37-03CB3141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917-F811-42E6-9E31-C01E1591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FCFE-ED99-4601-82F7-B6EBEDD4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E19D-CB67-4EF0-8279-125D38E2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FD6-EC6A-46DC-A98C-15F1991F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CA65-4CC4-4953-BFE5-13AFF60AC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2EAE-5E73-422A-B52B-2959B74E0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4a | The percentage of the very smallest firms offering health benefits has been below 60 percent for more than a decad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49400" y="787320"/>
            <a:ext cx="904536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4a | The percentage of the very smallest firms offering health benefits has been below 60 percent for more than a decade</dc:description>
  <dc:language>en-US</dc:language>
  <cp:lastModifiedBy>Jia Yao</cp:lastModifiedBy>
  <cp:lastPrinted>2002-05-16T21:44:34Z</cp:lastPrinted>
  <dcterms:modified xsi:type="dcterms:W3CDTF">2013-09-06T13:50:08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4a | The percentage of the very smallest firms offering health benefits has been below 60 percent for more than a decade</vt:lpwstr>
  </property>
</Properties>
</file>