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0CD9-882C-41DC-9CAE-7F7CDE1D7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E79E-B6D6-4DD5-8227-B2DE36AFA8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a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A17-8CCB-46F8-88E7-6A8CFD34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B40-CCFA-4E85-B59D-8810B232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EAB-7FAA-46EC-9C2B-8B15840D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03A-5A52-4947-9035-83D5A694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9A60-2F09-49B1-B185-DD6FF448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DA39-B436-44F0-9493-694411B0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E92B-1304-4AFF-985B-5EE37D1E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B8EB-4429-4A4E-BFB7-42E9C5D3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1648-D5B0-442E-9808-90600BAA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1EF4-8774-40CC-86CD-5673F55A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8655-BAC3-4B6F-BCAA-773ECDC0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954-9E3E-4308-BEA4-710ECAD7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5E54-4A88-4E2D-821D-9A04649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7134-ADA1-483A-A7A2-A4D403A6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9E34-E6E2-4EAA-AA51-2528D649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344F-A8A1-4F54-BF53-529A81A0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2C9E-FDCD-4454-88B8-A6B59AF5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032-DF34-4F5F-A2F5-4ABA7CAF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20A-C51B-44AA-8EDF-03F5896A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6CA-42FD-4275-98F8-951216AE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9D7-E675-4D62-A694-F29993F9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A94-D5A4-479E-ACD7-FA490DD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552-BF94-434C-87FC-3EE1854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FFC-EDB0-433F-A1E2-492A124F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4237-D29D-4F61-8B76-D8B7A0F56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D17C-5BAA-4AEB-848C-11FFD5E6D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a | Under two-thirds of small firms offer health plans, but the share of workers eligible and participating in such plans is similar to large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a | Under two-thirds of small firms offer health plans, but the share of workers eligible and participating in such plans is similar to large firms</dc:description>
  <dc:language>en-US</dc:language>
  <cp:lastModifiedBy>Jia Yao</cp:lastModifiedBy>
  <cp:lastPrinted>2002-05-16T21:44:34Z</cp:lastPrinted>
  <dcterms:modified xsi:type="dcterms:W3CDTF">2013-09-06T13:50:05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a | Under two-thirds of small firms offer health plans, but the share of workers eligible and participating in such plans is similar to large firms</vt:lpwstr>
  </property>
</Properties>
</file>