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09D6-86CB-4316-B8EF-D81830C7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203C-5C3C-4B8E-8384-87AF1AD6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F957-A7CA-4F80-98C3-17D35DEDE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3A6D-C5ED-4FFF-9B92-CAD5FB8A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9510-FDD5-491E-AEE2-DB049752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11A8-BBD9-41E6-A624-117E991A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D6F2-0C7C-41C5-92E1-9E07F4FA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7464-36D1-4222-B07C-B7A935A1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B349-5F27-4A99-9CA0-51F1605F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24A7-48C0-473D-BBCD-CF61A49E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4656-F79D-4ADE-8A72-12C3212B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B1FF-69D4-419D-A73C-64A3D600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EB3F-44A7-4CE3-BB73-45B670490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5440"/>
            <a:ext cx="911556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6Z</dcterms:modified>
  <cp:revision>14</cp:revision>
  <dc:subject/>
  <dc:title>PowerPoint Presentation</dc:title>
</cp:coreProperties>
</file>