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83D3-640D-4F0D-9F59-EFC544EFC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9032-328C-481B-8705-6D0B497F41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a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15E-8219-481F-A06D-3E07A1D2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842-3530-4B48-9B88-A42122A3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FC1-3C74-4B90-AA6B-CE180C76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4D8-4A72-4D22-AB22-09037363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3FBD-2A31-4818-8BC0-565B07F6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327F-6CEE-4ED2-AF84-4557F278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F5D5-23FA-455E-9B27-16B0C455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AB85-43C3-405A-B226-A7584B74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EAC6-95F5-4816-BE16-D9D28632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A168-7484-4926-B20D-CD8D8BCA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5870-D71F-4FB3-8170-BF2742D1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FD9-6C9B-43D6-B235-E6B9FB5B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C6CB-77CF-4BAD-A130-A823A37C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CDDF-26D2-47E4-9A12-DBD14174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1C7A-2872-4CA2-A6B0-4BA1D7FB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FA98-E1D6-4771-A5C5-299FABE7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DA9D-AC57-469E-A13A-74EF77DB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C3F-1C4A-4CA4-BFDC-1026D635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4297-7E8A-49C4-A69B-8E2D60DE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A63-211D-4C8C-894F-682474C7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D82-F815-48B2-9ADD-4E5303BA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CCA-861E-4193-A3D5-63107447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5BB-6141-44B8-A277-CA5E02F0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9FB-5BBC-4F90-9A01-6F454268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D9D4-8E4A-431D-A8A7-FAF609F57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759C-A6BF-40B1-BF18-8D298163A7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a | Under two-thirds of small firms offer health plans, but the share of workers eligible and participating in such plans is similar to large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a | Under two-thirds of small firms offer health plans, but the share of workers eligible and participating in such plans is similar to large firms</dc:description>
  <dc:language>en-US</dc:language>
  <cp:lastModifiedBy>Jia Yao</cp:lastModifiedBy>
  <cp:lastPrinted>2002-05-16T21:44:34Z</cp:lastPrinted>
  <dcterms:modified xsi:type="dcterms:W3CDTF">2013-09-06T13:50:05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a | Under two-thirds of small firms offer health plans, but the share of workers eligible and participating in such plans is similar to large firms</vt:lpwstr>
  </property>
</Properties>
</file>