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DDA-6D4C-4859-81E9-62383B79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451-CA8E-4D97-A673-2B6E0B85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D32D-0B04-47CD-B995-AA831C5A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3CAB-44C2-491C-B09A-A9BA7B8F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01B-D089-41C9-ADBB-B4521A60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261-B429-4535-A409-89327AAE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E06-20F8-47CE-BE4E-9651B265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9DE-4E89-4DA6-AC02-E9E1D5E4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6BD-B71A-4B9E-9DAD-2155B2E9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2C4-DB1E-4CFF-98C7-EF476426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293-9313-4338-8676-4FC35E27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411-149D-44A8-88DD-CD6A67E2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1CCF-2837-4A18-AF35-4EED6667C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268200"/>
            <a:ext cx="909000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5Z</dcterms:modified>
  <cp:revision>14</cp:revision>
  <dc:subject/>
  <dc:title>PowerPoint Presentation</dc:title>
</cp:coreProperties>
</file>