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A2E-3DFE-410D-9987-FCC7351F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80AB-5F1F-4C31-A307-5FF9A9AB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27DD-943C-4CB2-83C4-E282A779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798E-7C30-456E-9FFC-9EB06BFA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1CD-56D9-47A5-916A-0FC63FF5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E5A4-4724-40EF-B77B-1F188F9D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4775-5DFD-49F8-AB02-729E6E72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C28A-A341-4779-B8A1-4F27AF45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572-B4A3-4067-A3B7-A8BAB73B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E831-FD3D-438F-92B6-F6392B8E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0B18-85B2-419B-8916-A825E30A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87A2-8BE9-4DCF-8367-5D835E94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DF1D-1AE1-4072-8999-10D559A2F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5440"/>
            <a:ext cx="911556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6Z</dcterms:modified>
  <cp:revision>14</cp:revision>
  <dc:subject/>
  <dc:title>PowerPoint Presentation</dc:title>
</cp:coreProperties>
</file>