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217-DFC5-4A1C-922A-FC73DC67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A93-FC7B-495F-A965-99EBAFD0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630-73FE-41AC-A4FB-AA69FEE4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90D-4FB3-405C-A129-385AB94C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5EE-4332-43EA-B053-3102139C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71C-4121-4F56-9638-BA5039BD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305-A8A3-4A98-88F9-7450ED14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583-80F7-46D2-8AD6-ECC6A11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A81-598C-461F-A130-710F1051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4AB-BEEF-4491-B785-8C98B30A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3B1-A0DD-44E9-BDC8-D8952B77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78D-7B49-40E0-A765-57837851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526-4FA6-43F2-B086-9BAA38C4C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4Z</dcterms:modified>
  <cp:revision>12</cp:revision>
  <dc:subject/>
  <dc:title>PowerPoint Presentation</dc:title>
</cp:coreProperties>
</file>