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ED02-DB10-4689-9F5F-F53FB2E4F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F46D-A930-47A2-B963-BD9CC5F8E3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2b | TAX SUBSIDY AND PREMIUM AS A PERCENT OF AFTER-TAX INCOME, BY INCOME CLASS: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CDC-8CAB-4C55-A15B-F89373BD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47F-B49E-4A8B-BDE4-CBC8805F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7152-6FE6-4D77-BE7F-38A0CAFB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83B-C81C-4770-B5E0-E06C04B3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8227-98BE-478C-BFFD-D8AE7D52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3B40-7921-4F45-A4D0-E6E8390A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9080-B94C-4CA3-A7DB-D4A8FF3F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271D-C2E7-4068-9294-540B4195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BD78-4366-4EF9-ADD4-66FC8E2F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BF0E-F7F8-46E6-B3BF-4C6BFD79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967A-AA0B-40BF-B6A9-E44B7B86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BB4-28EB-4A3B-9C92-09826486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9354-1FA7-443C-9312-85844F94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2D64-1B93-49DD-B83E-830AFBBA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0793-6513-45D0-AC30-2FBBC3EE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DC27-BFE0-4A29-84AD-D77FDBE7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89EE-369C-4DF9-9984-EA302FA0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D8E-107F-4F6F-8614-E2D3CF57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EB7-B5D1-46DE-B568-B998C4AC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7CFA-A185-45BC-B1E7-64893DB3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DC0-D88B-4405-8780-26F9D27C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8BEB-C341-43C5-BC23-3B490F7F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C59F-51CD-4E4D-B8DE-7C31B536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191A-5A40-4C58-B58B-AAFCAA0A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3E48-5724-4CB1-80A1-B0DCE6021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8445-7C34-40FA-BA1D-3C5192C553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2b | The share of income needed for health insurance rises sharply as income declines; the tax exclusion mitigates this only slightl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44600" y="787320"/>
            <a:ext cx="852156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1240" y="5867280"/>
            <a:ext cx="96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Burman L, S Khitatrakun and S Goodell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ax Subsidies for Private Health Insuranc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o Benefits and at What Cost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bert Wood Johnson Foundation. 2009 Upda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ceton. July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2b | The share of income needed for health insurance rises sharply as income declines; the tax exclusion mitigates this only slightly</dc:description>
  <dc:language>en-US</dc:language>
  <cp:lastModifiedBy>Jia Yao</cp:lastModifiedBy>
  <cp:lastPrinted>2002-05-16T21:44:34Z</cp:lastPrinted>
  <dcterms:modified xsi:type="dcterms:W3CDTF">2013-09-06T13:50:43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2b | The share of income needed for health insurance rises sharply as income declines; the tax exclusion mitigates this only slightly</vt:lpwstr>
  </property>
</Properties>
</file>