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ED42-DD45-4D75-A4A7-A44EFBF25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CB785-5931-4DF0-A3FA-42DC88A807E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1b | EMPLOYER CONTRIBUTIONS FOR HEALTH INSURANCE AS A PERCENT OF ALL EMPLOYER-PAID FRINGE BENEFIT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F253-9344-419C-84BE-BDBD860F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1796-D9A2-4021-AE41-B1CEE267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0F2-6E17-43FF-816B-336AA5E2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E95-CCC3-489E-BE22-895EFBE9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9A78-F1A6-4E8D-B560-1BAEA9BE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1958-8406-4D1C-9CED-83C2D92E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0D3E-C33B-48BE-820E-64FD9197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8B02-0741-4E24-B7EE-ABB1B274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095BB-D578-4083-A692-4ED8A242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0DAC-E019-4B5C-9E15-948F2F51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EE0A-C8C0-491F-8631-82FF914A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1A4E-8212-4823-A2BB-86F90A85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6643-BD7D-4E57-AF37-350AFA9D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6631-CFEE-44F8-B02F-0B3CEB4C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578DF-81E3-40A9-9407-891DCF86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CC0C-EF9E-4D2D-8973-70226591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2D9B-2D34-42FA-9D4E-29D320781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506-21F2-4EC3-AD5D-C0DE063C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4701-B8A8-456D-BE53-BE77DF41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7F27-C4D2-40A2-8CED-DCCDD84B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24D-02F9-4527-9322-C937EA1A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C94-451B-421A-B5AB-9BCF3220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358A-EC00-45A8-8438-B3D8CBCF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08F7-2B11-4928-946C-06EEE450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6313-FC95-4D28-91EC-FE012B37F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E392-37F9-4F7E-A12D-C9A9499E58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1b | Health-related employer contributions have absorbed a growing share of supplements, now accounting for nearly half the total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1b | Health-related employer contributions have absorbed a growing share of supplements, now accounting for nearly half the total</dc:description>
  <dc:language>en-US</dc:language>
  <cp:lastModifiedBy>Jia Yao</cp:lastModifiedBy>
  <cp:lastPrinted>2002-05-16T21:44:34Z</cp:lastPrinted>
  <dcterms:modified xsi:type="dcterms:W3CDTF">2013-09-06T13:49:59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1b | Health-related employer contributions have absorbed a growing share of supplements, now accounting for nearly half the total</vt:lpwstr>
  </property>
</Properties>
</file>