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E73-7882-4532-836A-C7EA7BC5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C114-4F96-4BB0-B6EF-F356065F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CBA-634B-4746-8235-696FD73D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7B2-14FC-4F36-B76C-0C60C487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843D-C20F-4235-8D1E-0F67967C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D41-94BB-4AB6-B8E7-5D2B7EB8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0235-5259-41A4-9359-1EFEA936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179-B287-4826-A5EC-70EE4382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1CFB-29A8-4D1A-BDEC-BC6F63A1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638-65B2-403F-9F62-55005303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0F8-715A-4353-BE9D-A09DC4CE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61EE-52CB-4AC4-84D5-9DD73B85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4019-E5E1-4D37-ADB9-AEB9FF343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3680"/>
            <a:ext cx="90946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2:10Z</dcterms:modified>
  <cp:revision>12</cp:revision>
  <dc:subject/>
  <dc:title>PowerPoint Presentation</dc:title>
</cp:coreProperties>
</file>