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76EA3-F15C-404D-9012-F9089CD763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77B05-802E-4B12-95A2-0B6B6FB250A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4.1a | EMPLOYER CONTRIBUTIONS FOR HEALTH INSURANCE AND OTHER FRINGE BENEFITS PER DOLLAR OF WAGES AND SALARIES, 1948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C267-3D9C-46B4-B7BC-F622E5920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9C76-C62C-47B8-8EB7-400BC4F34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31BB-9DFE-4F09-9634-AE58EB56F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77E7-FF50-4AC3-A132-BE7B28E4D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7AD68-67FC-4C23-801C-1B4C09760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015FD-5FFA-4119-BE54-6E48D1832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A7ABA-E21F-468F-8480-ADE6903E7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9C74B-70A1-4829-B782-63185A525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F847A-4549-4080-9E87-85CE45679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9B553-7ACD-41B8-8245-1A8B73803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4108E-E082-4864-8119-B814E393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9B87-F38A-4F2C-8BFF-1EBCAFB56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73F46-399C-4E8D-A721-4125F472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51480-8708-4DE6-8429-0F61986D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16C97-A4B1-4E6C-B38D-91BD41B1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16DE0-4B5C-487F-801B-F2FC408C6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DB9F1-A083-4126-A920-9F56D70AF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3C7E-2F12-43E2-9497-FD32EED68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05C1-3D97-423D-95A9-715B7AC16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797A-97B9-4643-88D4-A3039B926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EF19-7A9D-4AD2-89A4-CB9C2D0A0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9832-3839-4D0D-B623-86C41760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8D89-AFAA-4828-A8A9-78046B27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D7C8-0C01-4F0A-8AD2-D5589F6B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2BE58-B606-4204-BFFA-F04E7BB1E8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6EB7B-C610-4B26-BC30-B7A912AB22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4.1a | Over six decades, both health and non-health supplements to wages and salaries have grown dramatically relative to worker pay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4.1a | Over six decades, both health and non-health supplements to wages and salaries have grown dramatically relative to worker pay</dc:description>
  <dc:language>en-US</dc:language>
  <cp:lastModifiedBy>Jia Yao</cp:lastModifiedBy>
  <cp:lastPrinted>2002-05-16T21:44:34Z</cp:lastPrinted>
  <dcterms:modified xsi:type="dcterms:W3CDTF">2013-09-06T13:49:57Z</dcterms:modified>
  <cp:revision>94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4.1a | Over six decades, both health and non-health supplements to wages and salaries have grown dramatically relative to worker pay</vt:lpwstr>
  </property>
</Properties>
</file>