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225-B1A1-4DEB-A2C7-DA787051F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2006-EA64-4882-86FA-BD21486E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A0A1-3C0F-492D-97CC-86DCAF80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BE40-6903-476D-AEED-BA5FBF9F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0059-C6FF-43EB-B325-6FFAB697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FEE1-069D-4160-AC6B-85A1DA02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5EF1-488D-4781-ACF8-E3BFFB42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49E-C614-4130-AB68-1BBD2AE2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3B04-20B6-4A31-97BD-A41369A7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F5D4-7044-49E8-A1FC-E8F77D6F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DD5-FE4D-471E-B894-F8045C1E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F23-C42F-4520-BF3F-6B560754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340A-F447-4BC8-84BD-5A13C6119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6048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1Z</dcterms:modified>
  <cp:revision>12</cp:revision>
  <dc:subject/>
  <dc:title>PowerPoint Presentation</dc:title>
</cp:coreProperties>
</file>