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791F6-6A76-4503-B0DC-B5C7EE075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4230-6900-4E5A-AED6-9B9D047BA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44F8-EF8E-4A31-8876-7821F32D8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211E-E7D0-4893-A083-4E849CEFE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8B3F-8B69-4BE2-AC2F-324355738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EA8A-F396-4821-A92B-8FF48FF63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E846-A65B-4296-9A4B-0C9543CAF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033E-4E91-40A1-9D14-F59E6668F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7D34-F088-4E84-9B40-1FF7C6CF5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49CED-591B-4F5A-B70F-BC6230670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E320-1566-482E-ADB3-8B04AFD08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4EBB-3D8C-452D-81BA-D7045AA7B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D2354-B49E-4EB9-99F6-668FA05D5B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0" y="46080"/>
            <a:ext cx="9144000" cy="67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35Z</dcterms:modified>
  <cp:revision>12</cp:revision>
  <dc:subject/>
  <dc:title>PowerPoint Presentation</dc:title>
</cp:coreProperties>
</file>