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D40C-CF87-4180-9BE0-779097E2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2F96-BEDA-4BA2-9DA0-91DB5B6C7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2CE6-508D-4BC6-8829-A55E2F120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FF13-813C-40BE-A2D9-9B0F36612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CDF2-2369-48D7-A724-51873A57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E8B5-3321-4CB5-A6F9-83A5C37A7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5B3A-91E9-4079-AFCB-04F5F858F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B54A-41CC-416F-B927-9614DE9AB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89A4-A06C-4768-86F3-D115C8D0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76B9-D40A-4886-A726-FE3215225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D0114-3B82-4F56-81A5-287CEC12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D5D-93D2-414A-B07D-CAEFFD32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B41A4-7C1A-4123-BB64-C127883EB6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60480" y="152280"/>
            <a:ext cx="9023040" cy="655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33Z</dcterms:modified>
  <cp:revision>10</cp:revision>
  <dc:subject/>
  <dc:title>PowerPoint Presentation</dc:title>
</cp:coreProperties>
</file>