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206A-6948-4F29-A0D0-52B83FD95D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D36E6-1FB4-4668-95B1-76DAB459BDB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3.9a | Sources of Payment for Persons, by Insurance Status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1F66-C786-4DA2-93E6-275BA0FC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513B-09C6-4D22-BAE7-0BD5C47C4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3678-7ED1-469F-8873-D84229D1A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3A3B1-5889-4941-8058-44FFB3A16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38005-81D2-474D-B94C-5100F3874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92DA-62E2-4E7B-BC46-D77B62B5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380BA-F1AA-47F4-B9E9-64BF7BF5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372D1-707A-4033-9AF1-1D7BDD39E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3A42-EB25-4669-AEB6-36F22D0A2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B6BE3-4759-4ABA-84ED-562B4FCFF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9887-B770-4CE0-8F8F-2DB95EDB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50BE-375D-40B9-B30E-9E97101FD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96F9F-DD31-4E43-8A56-EB23BDF6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462B5-F0E4-4575-A342-F344637F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3747A-81AC-4DD1-A137-2C37B414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69BA-C3C9-4021-9363-5A00E9658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7C83B-6C71-47A6-A420-56DAF11EC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31F8-F1C9-4E9F-950C-B4207687F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5BFD7-D731-48E9-93F3-C5360CC8F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CACE-8CDA-4710-9868-9891B4DCF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ED2F-BAE0-4651-8191-90C68777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E5C2-6CE5-495F-9850-EE94ECE5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A708-5B16-4DC6-B04B-56E248EC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4875-A62A-44E6-8FAC-6F826F1F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DC818-DD6E-41BA-B383-F6FA40C502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09A05-0DCA-41ED-894F-BE013F93C8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853452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9a | Out-of-pocket spending is similar among the uninsured and privately insured, but the former receive much more subsidized care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177840" y="787320"/>
            <a:ext cx="890280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/>
          <p:cNvSpPr/>
          <p:nvPr/>
        </p:nvSpPr>
        <p:spPr>
          <a:xfrm>
            <a:off x="380880" y="5610240"/>
            <a:ext cx="8553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 Hadley J, J Holahan, T Coughlin and D Miller.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overing the Uninsured in 2008: 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etailed Examination of Current Costs and Sources of Payment, and Incremental Cost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of Expanding Coverage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Prepared for the Kaiser Commission on Medicaid and the Uninsured. Kaiser Commission on Medicaid and the Uninsured. Washington DC. August 2008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6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9a | Out-of-pocket spending is similar among the uninsured and privately insured, but the former receive much more subsidized care</dc:description>
  <dc:language>en-US</dc:language>
  <cp:lastModifiedBy>Jia Yao</cp:lastModifiedBy>
  <cp:lastPrinted>2002-05-16T21:44:34Z</cp:lastPrinted>
  <dcterms:modified xsi:type="dcterms:W3CDTF">2013-09-04T21:04:14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9a | Out-of-pocket spending is similar among the uninsured and privately insured, but the former receive much more subsidized care</vt:lpwstr>
  </property>
</Properties>
</file>