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4858-9CF8-4390-AEB7-15DE4FB3D6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2558-EEAD-4604-93AE-18218D79C94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b | Percentage Distribution of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1C5A-6DEC-48CC-B302-E58AC3482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99B2-F436-4485-9AC1-E2E6E4A50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F78AB-CB73-416C-9CF2-E484242C4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9773-89C8-4D71-A757-A578747F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67D0A-7776-4CA3-9324-759B3DB51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9350A-FB15-4608-8770-449919BC0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81EFE-E4B6-4FAE-9436-114E8BC4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0092F-F3F0-4292-A1C9-DBD30321A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8974E-17AB-4F78-B534-5D09D33C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6826-290A-4DAA-881C-2F4B35BA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C4483-65D5-4CB2-B4B0-30DFCAA4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FB4-4138-4B60-B97E-F56BD5DD6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D5D-7539-43B7-820D-81E0462FF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3E522-8196-4E64-8D4E-095A43E5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6915C-A54A-48C9-AF4E-74EAAE35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E62B-C8C7-40CF-850E-22A3B452E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53A69-0AF0-483A-93CA-E9FDFA8A5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2A18-FC9B-4B11-ADCC-59CE818F1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B788-A448-488D-8367-7DA56AA2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4321-0530-432F-9238-B467BEDC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6AE-9732-4CCA-83C0-C6FB1E4AB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1C2E-DBB3-48BB-B99C-851A053F9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B382-1744-4ED0-AD9F-88B84D96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62791-0488-4608-BFE2-B8E69049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17585-A875-47DD-87C4-EB42AE280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5F1A7-40B4-401D-8C41-297D64AB1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3059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b | Nearly two-thirds of health expenditures for persons uninsured all year are subsidized through taxes or private charity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368280" y="787320"/>
            <a:ext cx="886464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609480" y="5610240"/>
            <a:ext cx="85168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b | Nearly two-thirds of health expenditures for persons uninsured all year are subsidized through taxes or private charity</dc:description>
  <dc:language>en-US</dc:language>
  <cp:lastModifiedBy>Jia Yao</cp:lastModifiedBy>
  <cp:lastPrinted>2002-05-16T21:44:34Z</cp:lastPrinted>
  <dcterms:modified xsi:type="dcterms:W3CDTF">2013-09-04T21:04:16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b | Nearly two-thirds of health expenditures for persons uninsured all year are subsidized through taxes or private charity</vt:lpwstr>
  </property>
</Properties>
</file>