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1E4A-83F0-4E4C-8406-32AAFFAEDD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69A1-A5B0-4EB8-98E0-3DAED0B5672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8a | Major Sources of Payment for Personal Health Care Expenditures, by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ge,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7D04-CD5E-47B1-8A9C-00920AE54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20AF-4BB7-4284-9B46-4C5ACFA2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866E-5EAA-4E5E-9144-E6E72CEA1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3217-03E9-466C-AD53-795A2FAB5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3E5D-0D13-40B3-A2B8-3463427A6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9303-5C3C-44D3-8180-7E692D60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6ADB-EB12-4AC3-862D-F036B7C3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27FE-672E-4644-A713-6A81C34E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7EC0-F954-45D5-B92B-2B59D39F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6B61-0CB0-4717-8FA5-3A49EB50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649E-F7C6-43E5-B933-3819B70B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5358-B9BE-4BB4-8C29-A6D58AD7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E450A-1865-4F0A-AB32-18BE8C0E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C367-5DEA-4984-8B2E-37578CAC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8F52-8AB2-4500-9D1E-3D741676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6D09-F1B9-4A50-96DA-5F38BEC81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26B3-5872-43D4-8A4F-86473E5AE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D785-C922-4DF5-AC8F-4CB58D9E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7517-09A7-4EEB-AAE8-083201BC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19DA-04DD-45CA-8256-DBF69F79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C6ED-E833-4CAA-A2AE-65F5A025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F6DB-BE6C-464D-AE61-A1AADFF9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5A6D-649B-4851-96B4-E16E9EB4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59C4-150E-47E5-8723-50AE0CDF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05F3-9208-4493-A7B7-7A0AF0C72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236A-EC14-4C9F-B157-084F77B3BB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8a | Less than one eighth of Medicare spending is financed through beneficiary premiums, but this varies greatly by component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8a | Less than one eighth of Medicare spending is financed through beneficiary premiums, but this varies greatly by component</dc:description>
  <dc:language>en-US</dc:language>
  <cp:lastModifiedBy>Jia Yao</cp:lastModifiedBy>
  <cp:lastPrinted>2002-05-16T21:44:34Z</cp:lastPrinted>
  <dcterms:modified xsi:type="dcterms:W3CDTF">2013-09-04T21:04:10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8a | Less than one eighth of Medicare spending is financed through beneficiary premiums, but this varies greatly by component</vt:lpwstr>
  </property>
</Properties>
</file>