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A123-FDFC-45E1-8553-0B3696A5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48C-88B5-4BEC-BFE5-5CB65E4E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1313-BA6A-4270-ADC3-ED079BD9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703-2D74-48A7-819C-E7FFDBE6A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8DE2-2D25-413E-AF13-A806FCD0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F813-6C5A-46B0-AE60-DC7F0808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8F02-AE3D-45F9-91EA-7BA1A6B6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2F79-D17A-48EA-A431-032C6AFE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48A1-5603-40DA-86AA-2A421F5E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706-C717-47BF-87EF-00371007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380-7A90-4467-8808-C1F4B95D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4893-35FC-4831-AC86-A69616E4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AC78-3E7F-42C3-AE51-232ADB22C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23920"/>
            <a:ext cx="913752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1Z</dcterms:modified>
  <cp:revision>10</cp:revision>
  <dc:subject/>
  <dc:title>PowerPoint Presentation</dc:title>
</cp:coreProperties>
</file>