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907-EBFB-4994-AB86-EAD5AED6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1E3-7A3C-4CEB-843A-8F96C722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9F6-12A5-4F04-88F2-C2BFD9DD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4EC-F3FA-49C0-A986-A1BE59DC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9E9-C3F8-4996-BDF3-1A63CFB6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C13-D675-4A10-8BA8-5EB78080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B7C-C67C-468D-B054-16708895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EA6-1DBD-4BB1-8B1B-5CBBBD93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C60-9059-4A81-8FBC-FD47864B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5D0-2BE5-4A24-9126-87B686E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ABE-550F-4464-9CDF-D897DEA2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6C5-96A8-4006-B1E0-D7E17FA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A758-48E4-4570-AA3A-9F758F33D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0:06Z</dcterms:modified>
  <cp:revision>10</cp:revision>
  <dc:subject/>
  <dc:title>PowerPoint Presentation</dc:title>
</cp:coreProperties>
</file>