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C396-C447-4A72-BE94-A33DE0CDC4C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85EE-9652-416B-A1DD-1F1EEEC561E8}" type="slidenum">
              <a:rPr b="0" lang="en-US" sz="1200" spc="-1" strike="noStrike">
                <a:solidFill>
                  <a:srgbClr val="ffffff"/>
                </a:solidFill>
                <a:latin typeface="Calibri"/>
              </a:rPr>
              <a:t>&lt;number&gt;</a:t>
            </a:fld>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b | Distribution of Health Expenditures for Medicare Beneficiaries, by Program and Beneficiary Perspectives, 200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A9C97-CB1E-4F15-B024-C59FE9285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2E709-5470-491D-81DC-24821F6BE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F506B-056A-4FD7-A882-696119EFC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525F0-24FD-467B-87E3-6B37DA423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3EFE6-C9DD-4733-AD87-0066BF11F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83876-1E82-4D84-83F6-F76484327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5E0D3-CD8D-4356-AC74-5189A371C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09E35-D9A2-418B-8CAA-37C389714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793EC-0AEE-4278-81F8-C1FC1F1C4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FDCAE-D244-4E36-8035-AC0CE6275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CFAD8-0FB8-4E81-8068-6DBB72F03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584FC-832A-4314-9837-8A5B7017B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D3654-1FB7-4641-B913-777EEFDDA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AE82B-3F3C-4E04-BF74-AC2FB8EA5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B0A80-E00B-40BA-BAEE-25A8DCB08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7EE29-B451-4813-9CFD-3545970A8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1D0EE-A405-4F85-8F79-A07226AC5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51EF4-D890-4320-99A3-211E2CAA4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757DC-4A97-4B3C-BB5C-1AA6108A9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DC637-7033-4269-9BD7-7C83A6F38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27D09-13F7-46C5-89C0-0FDDCCF5B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C2FFC-3377-49BD-A443-54CF75D4B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74C18-B4B2-4085-A1D5-C63EE5A52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82122-8B7E-4AD6-8556-6AF17370E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DF46-7444-4531-9432-DC42140B1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A158-B6F8-4DAA-B556-5400F19E1D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60"/>
            <a:ext cx="84582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Narrow"/>
              </a:rPr>
              <a:t>3.8b | Medicare pays for less than half of health spending by Medicare beneficiaries; about one quarter is paid for by beneficiaries</a:t>
            </a:r>
            <a:endParaRPr b="0" lang="en-US" sz="2400" spc="-1" strike="noStrike">
              <a:solidFill>
                <a:srgbClr val="ccffff"/>
              </a:solidFill>
              <a:latin typeface="Tahoma"/>
            </a:endParaRPr>
          </a:p>
        </p:txBody>
      </p:sp>
      <p:pic>
        <p:nvPicPr>
          <p:cNvPr id="91" name="Object 3" descr=""/>
          <p:cNvPicPr/>
          <p:nvPr/>
        </p:nvPicPr>
        <p:blipFill>
          <a:blip r:embed="rId1"/>
          <a:stretch/>
        </p:blipFill>
        <p:spPr>
          <a:xfrm>
            <a:off x="254160" y="787320"/>
            <a:ext cx="8559720" cy="6121440"/>
          </a:xfrm>
          <a:prstGeom prst="rect">
            <a:avLst/>
          </a:prstGeom>
          <a:ln w="0">
            <a:noFill/>
          </a:ln>
        </p:spPr>
      </p:pic>
      <p:sp>
        <p:nvSpPr>
          <p:cNvPr id="92" name="TextBox 3"/>
          <p:cNvSpPr/>
          <p:nvPr/>
        </p:nvSpPr>
        <p:spPr>
          <a:xfrm>
            <a:off x="439560" y="5105520"/>
            <a:ext cx="870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gram perspective counts all Medicare spending under Medicare and all bills paid through public and private third party payers under third party payments. Beneficiary premiums include only administrative costs related  to Medicare and such payers. The beneficiary perspective includes the full amount of premiums paid to Medicare and third parties under beneficiary premiums and deducts these amounts from Medicare and third party payers.  </a:t>
            </a:r>
            <a:endParaRPr b="0" lang="en-US" sz="1800" spc="-1" strike="noStrike">
              <a:solidFill>
                <a:srgbClr val="ffffff"/>
              </a:solidFill>
              <a:latin typeface="Tahoma"/>
            </a:endParaRPr>
          </a:p>
        </p:txBody>
      </p:sp>
      <p:sp>
        <p:nvSpPr>
          <p:cNvPr id="93" name="TextBox 5"/>
          <p:cNvSpPr/>
          <p:nvPr/>
        </p:nvSpPr>
        <p:spPr>
          <a:xfrm rot="16200000">
            <a:off x="-2305440" y="3732480"/>
            <a:ext cx="518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om The American Health Economy Illustrated Online</a:t>
            </a:r>
            <a:endParaRPr b="0" lang="en-US" sz="1400" spc="-1" strike="noStrike">
              <a:solidFill>
                <a:srgbClr val="ffffff"/>
              </a:solidFill>
              <a:latin typeface="Tahom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21:37:09Z</dcterms:created>
  <dc:creator>conoverc</dc:creator>
  <dc:description>3.8b | Medicare pays for less than half of health spending by Medicare beneficiaries; about one quarter is paid for by beneficiaries</dc:description>
  <dc:language>en-US</dc:language>
  <cp:lastModifiedBy>Jia Yao</cp:lastModifiedBy>
  <cp:lastPrinted>2002-05-16T21:44:34Z</cp:lastPrinted>
  <dcterms:modified xsi:type="dcterms:W3CDTF">2013-09-04T21:04:12Z</dcterms:modified>
  <cp:revision>2214</cp:revision>
  <dc:subject/>
  <dc:title>Financing the U.S. Health System: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Financing the U.S. Health System: 1</vt:lpwstr>
  </property>
  <property fmtid="{D5CDD505-2E9C-101B-9397-08002B2CF9AE}" pid="3" name="SlideDescription">
    <vt:lpwstr>3.8b | Medicare pays for less than half of health spending by Medicare beneficiaries; about one quarter is paid for by beneficiaries</vt:lpwstr>
  </property>
</Properties>
</file>