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8016-E966-4A1B-9E8D-FFA90D49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1DC-5A78-45AA-9281-307DD195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50E7-7FDF-46A6-8C9D-FFD51136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A6F6-CF0A-40E7-9FED-08918155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B25-B2B3-4B71-B64B-D2BBA443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B02-52A4-4889-AF8C-13A094D4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7FA1-141A-4128-8FCC-2F0D5DD5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E728-875C-4AFF-9347-D7B9971E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68B-7472-4FB3-8738-DE64D067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C813-F12B-4B33-AE34-EA33C740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541-D078-46B9-85DE-19C0A2ED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515D-536B-4E0D-832F-C56973C2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D697-1E0B-4D21-891B-AADD9FC38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0:06Z</dcterms:modified>
  <cp:revision>10</cp:revision>
  <dc:subject/>
  <dc:title>PowerPoint Presentation</dc:title>
</cp:coreProperties>
</file>