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FCECB-2B81-4817-B81F-9FB4AAE622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3EA80-A48C-480F-9727-41F611D3CB3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8a | Major Sources of Payment for Personal Health Care Expenditures, by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ge, 20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492D-0213-48B7-B17F-03CE87989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DB0B-F1A4-41EB-A362-101C3F482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0E8A-36D4-4B34-ADF5-40D80BB4A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4AEB-F067-4844-A32D-AAA896E29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6EA40-69A7-42FD-9FC0-6C989B503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D4B8D-8C0D-4E0D-91FB-603F60603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A26A9-7BBC-42A7-8F5E-BBD89E8CD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C8F54-13CD-403C-97E6-37E5AE0C2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72B65-1C1A-4B97-82ED-14B5C19EF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58B53-FACC-4FBC-840A-8578D5380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F3E2F-622B-4D67-A4B0-3CB1293F1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B5F8-3BCA-40F0-8AF4-54639F912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AB14E-C2CB-49B1-A0A4-39EAEEF1D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AA252-CA19-43AC-9E31-117ECF090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A41A3-F335-4A13-9326-0C11A83C8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D6689-2B26-4808-8346-EBF1373AF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A9968-FF6C-476A-A174-C1261CC07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281D-8675-4D67-80F2-3ED978CA2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5A17-3ECC-4F18-B3C2-AFFC031FC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0C19-8163-4350-AF9F-0CAD286FC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5A77-0905-405F-B022-58F733604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50AB-7F25-496A-AA5D-51E05717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B627-915E-4693-978E-2C9E1609F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B63A-7CA8-4E68-A05D-007D5B6A0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9A58B-5EF4-4A3B-B58F-D85E1EF62C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D8EF6-555E-4FD7-89FB-D8B1C4D4AC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8a | Less than one eighth of Medicare spending is financed through beneficiary premiums, but this varies greatly by component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254160" y="787320"/>
            <a:ext cx="855972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8a | Less than one eighth of Medicare spending is financed through beneficiary premiums, but this varies greatly by component</dc:description>
  <dc:language>en-US</dc:language>
  <cp:lastModifiedBy>Jia Yao</cp:lastModifiedBy>
  <cp:lastPrinted>2002-05-16T21:44:34Z</cp:lastPrinted>
  <dcterms:modified xsi:type="dcterms:W3CDTF">2013-09-04T21:04:10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8a | Less than one eighth of Medicare spending is financed through beneficiary premiums, but this varies greatly by component</vt:lpwstr>
  </property>
</Properties>
</file>