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E7B2C-BF81-4E6A-9F16-593E45E81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38001-5472-41C2-954B-A62DCC9E6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FD603-D211-4744-8A5A-AA76496FE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F0AB5-81D5-426B-90B6-AB0F4D4D3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07110-34DB-4B7C-9E24-FAA8D8F76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BB547-9E6F-4B74-9A0A-CA702D7E4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A1E13-82D6-4186-8F28-AF98F44C5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9A3E2-58DB-47C6-978C-0BAB8A344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7226B-C288-46BC-8F49-FEC6A82F1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977A8-66D5-4347-A9D9-E92050B84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C744F-9FA1-461A-8C25-0D8A00E5B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F1671-180B-422B-84ED-2C4D5CFA3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16742-43F1-4689-B029-ED47503B38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66600"/>
            <a:ext cx="9144000" cy="672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6:59:29Z</dcterms:modified>
  <cp:revision>10</cp:revision>
  <dc:subject/>
  <dc:title>PowerPoint Presentation</dc:title>
</cp:coreProperties>
</file>