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BE82-FB3A-442B-A364-9EAC0370A3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6972-4B26-4A1F-9F77-4CF62F4287E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7a | Distribution of Elderly and Disabled Enrollees and Expenditures under Medicaid,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CA7D-4A3E-44B7-AAC6-B5251706E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EE3A-3C3C-4717-AF6F-DFC18AE4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4D12-85A7-4A1B-B295-B5EB8343E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45E0-0FB5-45A2-8E2E-064905E46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C44FA-7EA2-4B67-A218-F496CB321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03F0-B919-4F25-9FB6-E8F82C2B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1EA4-DFEC-424F-9E9D-0ACBE112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636F-EB30-46E3-B7E1-62AA36F1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76FC-8CAD-47E1-BB95-808B739E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36D4-461F-4A20-B2BC-3F387E96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4A94B-C4C9-43B3-816A-DD757048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3B7A-B616-4A49-912C-098AEB8E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FCC5-2E43-464D-928B-FD196414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B92E-A90B-4EE2-BAD6-26B3E8BB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209D-835D-4065-8D3B-6AB19EA7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115DA-47C8-4DDA-B2DB-A6D17FFF0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48CBF-39A0-4590-B018-17B8A2B75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F09B-FF93-46A1-A5F9-5942ABFD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6B76-9A1A-4101-8A5B-A8E1FA61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7BE7-F638-4DCA-B94D-9AF47E1D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C161-3C2A-4175-BD83-1EF22276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D6D1-DD11-4B05-9A55-C6C41094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980B-6A21-46D2-8C70-82EA1FB4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021F-63A4-4404-A16B-3CC9A67F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5BF2-995D-4894-A77C-519919509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3281-3A2E-4F6A-B0EF-96E9A45248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7a | The elderly and disabled constitute one quarter of Medicaid enrollees, but more than three quarters of Medicaid spending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609480" y="5867280"/>
            <a:ext cx="815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Kaiser Commission on Medicaid and the Uninsured.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Medicaid: A Primer.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Key Information on Our Nation’s Health Coverage Program for Low-Income People. June 2010. http://www.kff.org/medicaid/upload/7334-04.pdf (accessed October 13, 2010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7a | The elderly and disabled constitute one quarter of Medicaid enrollees, but more than three quarters of Medicaid spending</dc:description>
  <dc:language>en-US</dc:language>
  <cp:lastModifiedBy>Jia Yao</cp:lastModifiedBy>
  <cp:lastPrinted>2002-05-16T21:44:34Z</cp:lastPrinted>
  <dcterms:modified xsi:type="dcterms:W3CDTF">2013-09-04T21:04:03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7a | The elderly and disabled constitute one quarter of Medicaid enrollees, but more than three quarters of Medicaid spending</vt:lpwstr>
  </property>
</Properties>
</file>