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C76-25F2-46C1-9AF6-773F0584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0DD-1F45-4E14-A220-CEC12F86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A3F-C8C6-41FF-8668-B0E00A9F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FCA-29D8-40FE-A14D-6D74790D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45E-6730-4F16-9931-B081D5ED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964-D976-4002-8900-5151BA5A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C92-E6F5-4130-BF59-75173F0A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C8A-EC5B-4EC4-BF5E-37CBDEDE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0FF-2615-494B-82AA-09E2CE63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BE2-093A-4836-ABFC-32F7B0C8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0FF-D726-4252-8A68-FB3BD524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00D-C069-4558-8A08-F4F83427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8863-2422-4A18-8A02-46FBE26B3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8Z</dcterms:modified>
  <cp:revision>10</cp:revision>
  <dc:subject/>
  <dc:title>PowerPoint Presentation</dc:title>
</cp:coreProperties>
</file>