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AB8-6F02-4D8B-BCE1-769335B9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33E-6CDB-4B3A-B35B-3D8D8B02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8D2-EC36-403C-9CF9-A4DDB932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9669-21A5-45E6-9105-EB8823F8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39A-DD2B-46A4-B2D2-1690B4D5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864-257E-4480-AA9A-EAAF0F46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68E1-D78D-42B3-896E-E32B845E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9229-E6B1-406C-A701-5CB2BBCF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28B8-8DD5-4535-AF18-75318997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B8C-555E-4E6A-B6E6-F0D24FB6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E5F-18D4-4EFF-9674-A1739458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04F-707C-4EC8-8D35-6D3D74D3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D991-88C3-4F97-A9C8-2072C2AFC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9Z</dcterms:modified>
  <cp:revision>10</cp:revision>
  <dc:subject/>
  <dc:title>PowerPoint Presentation</dc:title>
</cp:coreProperties>
</file>