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33FF-3719-4223-AF18-F0BE736B7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2221-D1DA-49DC-91F5-A5B9A91230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b | Out-of-Pocket Share of National Health Expenditures in G7 Member Countries, Selected Years, 1960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1AB-D313-44E2-9C3B-511556AB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86F-064A-43F5-A596-8BDC0E18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96D-72F5-43CD-A6AE-4F9B29C5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BE6-F58B-4127-9E0A-9F176B18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AA4D-CFD9-4206-BDDC-9B2ED041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7F4F-269A-459B-B969-6BFAE59B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00DD-B243-41EC-BC68-D814228D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9272-5D8E-47A0-BFB5-DDC3FA62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341A-79A4-4072-B395-9732AD56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27DA-B35E-4F76-A511-2CCF7A73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5632-F606-47D2-9335-DEF7FEF2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9D2-288A-49D2-A0CB-1C8591C7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0AA2-E4DF-4D9D-9CB3-F4710846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590E-AAE3-4931-AC85-E35706E5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62E5-D56A-4393-8A99-3B6FF54B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C32C-CD71-4D77-BFF1-1D799F7D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09AA-3D47-413A-8FB8-861BFE1C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499-854E-49EA-9BFD-403CFB22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54F-7C0F-43D9-867A-2BFF3BCC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6CA-3E03-4613-8406-FF2C1A2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16C-6250-49FA-83C2-DD807F6D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F75-BF07-4BD5-BED5-94D885F9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F0E-EAFD-49B3-94F8-0A8F8B01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517-5E1A-41D9-B775-BA6D456A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585C-9E68-4C19-80A3-5F50A8179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7846-002C-42EE-9055-6A23C879E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b | The U.S. in the past relied far more on out-of-pocket spending compared to its competitors, but that is much less true tod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b | The U.S. in the past relied far more on out-of-pocket spending compared to its competitors, but that is much less true today</dc:description>
  <dc:language>en-US</dc:language>
  <cp:lastModifiedBy>Jia Yao</cp:lastModifiedBy>
  <cp:lastPrinted>2002-05-16T21:44:34Z</cp:lastPrinted>
  <dcterms:modified xsi:type="dcterms:W3CDTF">2013-09-04T21:04:01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b | The U.S. in the past relied far more on out-of-pocket spending compared to its competitors, but that is much less true today</vt:lpwstr>
  </property>
</Properties>
</file>