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270-ECE8-46DF-8B25-39821739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095-18D6-4860-8C10-BA165F33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AFA0-A41D-428B-B886-FDEF809A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E3E-CAAD-4530-8AF6-1A021825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3487-3FB2-4442-9FA8-A44192B7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C25-8DC6-4EFD-A5E7-CD22609A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F12-8F22-4422-82D0-9F90C62E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E23-4700-4E4E-9180-540C2D5E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D21-B158-4CFB-B48D-E03C7A34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6AC3-B964-41E8-B906-E57963A7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30F-9433-478B-A6DE-559BF2F7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0806-34EF-4672-B78D-05828D8F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0CF6-C22A-4946-8794-05BE2FDA7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5560" y="609480"/>
            <a:ext cx="911844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0:05Z</dcterms:modified>
  <cp:revision>10</cp:revision>
  <dc:subject/>
  <dc:title>PowerPoint Presentation</dc:title>
</cp:coreProperties>
</file>