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7BA-23E9-4CC1-9372-5149D0EF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F9CC-06E9-43CA-B162-ED69823F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64DB-0419-4954-AC02-6B03F81B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B60A-1870-48D1-A7FB-BE103089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846C-1061-429C-BB43-69124598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8164-25D6-4049-A191-78BF7CD0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63BC-0B17-469B-BA5B-70691960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1F83-69FB-4220-A7E0-82681E52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AD9B-56C9-41D5-91D5-ADD72EEC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51A1-DA40-4763-A405-92AD1568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249E-A634-453D-926C-FC32F54A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12A4-0351-43B2-9A06-E4AF44A5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EFB8-3047-4BFB-AFA6-D19A06A1E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57200" y="7920"/>
            <a:ext cx="824076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6Z</dcterms:modified>
  <cp:revision>8</cp:revision>
  <dc:subject/>
  <dc:title>PowerPoint Presentation</dc:title>
</cp:coreProperties>
</file>