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3232-43F4-472E-A148-2B4F42F8F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1614-2ED3-4B9B-AB7C-DAA8ADE2BE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6a | Health Spending, by Source of Financing, 20 Largest OECD Nation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F91-CC5E-4C03-B6B3-FF6A15DC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5F1-ED28-4477-B548-F6A86967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72B-F3E8-4F0A-8043-A515BA4B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D908-A813-497B-8925-D8DDAC27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FAA5-19B9-4917-9BA6-4A2B67E5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1F02-F966-4D6E-A575-FF3AFE37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11C8-09D3-468B-A025-4A22CE53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D791-0979-493E-A6F5-3472E7B9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402D-0927-420B-A2B2-64EEAF4A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9507-4E87-4513-A778-B627D6AB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117D-E4DD-4B43-9629-1C0C4E2D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6FD-5AFA-4332-8F28-35E73FA8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1E90-1B07-4DD4-A661-DD8FFC59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B63C-D070-4BD4-889C-7D1A8E17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58C0-C416-4201-83B8-30E4B870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7037-67AB-4F1D-85EE-409ED8F2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2B33-C799-4B91-88DD-05F46536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C80-C736-4B24-B386-EDBC7BB1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F69-A88B-4572-B33F-532FB128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E5B-730F-49F7-B34A-7A37E194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0AF-9D08-4784-9C87-58BAEDE8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BBF-AF03-46E9-90D3-B1833208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71E-F82C-4D9D-B348-E8C56D08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8BB-5778-412E-B123-69A06B8D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6C56-38A9-4580-A45B-883908837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0F93-6E72-4B3A-8827-3534B5D960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6a | Among the 20 largest economies in the OECD, the U.S. has the fourth lowest percent of health costs paid for out-of-pocke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291960" y="787320"/>
            <a:ext cx="8560080" cy="5626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495520" y="6019920"/>
            <a:ext cx="576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Countries ranked by out-of-pocket share of total health spend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293400" y="6392880"/>
            <a:ext cx="644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Version: June 20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6a | Among the 20 largest economies in the OECD, the U.S. has the fourth lowest percent of health costs paid for out-of-pocket</dc:description>
  <dc:language>en-US</dc:language>
  <cp:lastModifiedBy>Jia Yao</cp:lastModifiedBy>
  <cp:lastPrinted>2002-05-16T21:44:34Z</cp:lastPrinted>
  <dcterms:modified xsi:type="dcterms:W3CDTF">2013-09-04T21:03:59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6a | Among the 20 largest economies in the OECD, the U.S. has the fourth lowest percent of health costs paid for out-of-pocket</vt:lpwstr>
  </property>
</Properties>
</file>