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45F3-D794-410E-A52D-51706E1B46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4DB0-1974-4EB6-B40C-9F34A3F304B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5a | Percentage Distribution of Personal Health Care Expenditures, by Major Source of Financing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4432-8B9B-4E41-BBF9-ED4AF56B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55DE-A245-47F4-A8EA-8A07CA50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981-EC56-4D82-9992-24195FA0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B935-C0A3-4D66-A6F3-14A3C2A47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5F67-9070-4572-8F3B-0740A4D0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E00E-4B1B-4E0E-BEA7-CE07E8F8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8690-735C-4910-BBC2-78F3797B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BDA5-40BC-4A9D-872C-DE3E1465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8E1A-16E5-460E-BFFA-2F27F4F6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0B83-154F-45AD-8BE9-1E22FF6A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691B7-39D4-4BB6-8AC7-48C1F50C4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E324-CA04-4B0D-9688-D3F7A5FE3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F7685-A991-49BA-9D61-0B92D900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5078-BEF4-4EFD-9387-98A3AC971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5C51-9074-473A-B768-98393357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82CA-B82C-484D-A6FD-5D39B92C4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50F04-BB7A-42BA-93E5-3B55C42A1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6D44-F9C1-40B8-9DAC-F6D2F822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FF00-D457-4B32-A990-B1B71A56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8A27-2F92-4A35-8ED3-0A3461273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88C9-BCA7-4D1C-87DD-A46228CE5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2185-5B81-48EE-A3E1-CA17D1AA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FF56-FA10-4058-B5DB-1FE6AEF0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02F6-E081-4383-84F7-98E7C2D2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957A-EF93-480C-AE33-4FA4B42F0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7894-16B4-46CE-BD23-9014089550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5a | 1 in 7 dollars of personal health care spending now are paid for out-of-pocket compared to 7 in 8 dollars 80 years ago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5a | 1 in 7 dollars of personal health care spending now are paid for out-of-pocket compared to 7 in 8 dollars 80 years ago</dc:description>
  <dc:language>en-US</dc:language>
  <cp:lastModifiedBy>Jia Yao</cp:lastModifiedBy>
  <cp:lastPrinted>2002-05-16T21:44:34Z</cp:lastPrinted>
  <dcterms:modified xsi:type="dcterms:W3CDTF">2013-09-04T21:03:55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5a | 1 in 7 dollars of personal health care spending now are paid for out-of-pocket compared to 7 in 8 dollars 80 years ago</vt:lpwstr>
  </property>
</Properties>
</file>