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88B9-2559-4442-92BC-4A3A0FAC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6373-6BFF-49A9-83A2-80D25AD0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24ED-4A6C-44B3-9B99-11A742668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B0B-7194-40E2-8CF7-694B81347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2FF4-99A6-48B9-8B8F-CC5B8894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C8F-B8E9-4FA5-B93A-52D59A5D4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F79B-AB0B-4B8B-8566-98EF6B8E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5DF-79DB-410B-A81A-2D98398B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6470-5AD1-4443-AD35-632E00EEF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2C97-4101-47FD-9886-E1B123C1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8E1C-E663-4D73-8ADF-E2CF4A7D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877-B339-46D1-93C0-86BC6D65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60C3-C9CC-445D-BD31-4D416D9534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76320"/>
            <a:ext cx="9123480" cy="67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22Z</dcterms:modified>
  <cp:revision>8</cp:revision>
  <dc:subject/>
  <dc:title>PowerPoint Presentation</dc:title>
</cp:coreProperties>
</file>