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93E3D-635B-489F-9971-7AD02DD93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F976-1851-403B-A1AC-1E54357BC6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5b | Percentage Distribution of Personal Health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BA05-EF3B-4296-8853-971DD0DB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EE4A-60F5-4578-82D6-2BD69611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5C0-0A6A-4CDD-B1F0-5F38209E0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14DE-F1F2-4604-B091-B19B7C1F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5955-15DA-4BB4-B53F-A4E62049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C50D0-925D-4E87-BA26-DE67067A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D937-DD99-46C8-9F6E-B551F999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BB9E-3827-4CE0-B65F-658C8BB46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0CE72-53C4-4DC4-AD02-98B6A3A4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9EBAB-6C91-413D-A402-6D4A70821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6D1B-A759-474E-8E34-6C92F0D5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6C70-AE9A-49DC-9786-53D02359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13C-1409-4F0D-8F92-EF2B18C5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BA16-A15F-4B52-9E81-A8EF1AF6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2061E-B46B-493D-924E-A5DAF5BA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D986D-F72D-4CEC-8E0F-56AFE1DF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F512-B32F-4957-BA1A-9FBE3B1DB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9192-ABE8-4307-88CA-06C5167C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8253-C528-487A-AFEA-B3FC070D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411A-B123-48D4-B3C9-C20FBDED2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A64A-07A4-493C-895B-D02320A4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60A-0639-4453-B535-D2C8A6CD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EA4A-D132-4606-B2E1-008D282B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A8AD-4C6A-4DF7-809E-F4D7035D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2158-29F7-4650-A6C1-77C183AC7F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A520-4428-4DBA-A530-440B633C61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830556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b |The out-of-pocket share of spending has declined much more rapidly for hospital and physician care than other health services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b |The out-of-pocket share of spending has declined much more rapidly for hospital and physician care than other health services </dc:description>
  <dc:language>en-US</dc:language>
  <cp:lastModifiedBy>Jia Yao</cp:lastModifiedBy>
  <cp:lastPrinted>2002-05-16T21:44:34Z</cp:lastPrinted>
  <dcterms:modified xsi:type="dcterms:W3CDTF">2013-09-04T21:03:57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b |The out-of-pocket share of spending has declined much more rapidly for hospital and physician care than other health services </vt:lpwstr>
  </property>
</Properties>
</file>