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47CB-4DF9-4767-B054-AB1B8B828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4E1-371E-4571-86BA-30CE6C22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FE2-D97A-4738-9CF3-3AA56D82E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F30-B2B3-4A84-AA19-785EB62ED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1C1-4283-4482-B8AC-AC52227B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B2D3-58EC-4763-9D8B-ACFE9984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BCD5-99A2-4F1E-9B64-27434DF61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6DED-3AFF-4D51-9E3B-64DB4E262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7CA-55E8-4B2D-93B0-17B4F9F4F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C72C-4D8F-4820-BE3F-407DA077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A0B9-436D-40EB-9201-7FE41C2B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CD76-6E12-40A8-BCA4-8B8ABF9D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E2DE-8E0A-4736-BEBC-1BBDD0140B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4Z</dcterms:modified>
  <cp:revision>8</cp:revision>
  <dc:subject/>
  <dc:title>PowerPoint Presentation</dc:title>
</cp:coreProperties>
</file>