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142F-06E6-4602-8BC0-60930716BE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F253-78C5-4618-A673-E740B920AD3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5b | Percentage Distribution of Personal Health Expenditures, by Major Source of Financing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5D68-3847-4E01-9879-02170BC1E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1B4D-036D-40DC-9BE1-A0AF030F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08A1-44D9-4CF7-B08E-CF33A39E3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C947-3451-4058-BCAF-B52A9F145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8600-83F8-4610-B3E5-EA3B0347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71E5-EB08-4CCF-9204-22D84C72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02BA-AB84-4853-B918-F6536B65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8E5D-BF5E-4542-B660-760E4673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A580-EC41-42E4-A268-A800A934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5D90-846F-46BB-A347-FE5D4AA6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D9C2-EEDA-470F-B779-A8A04F11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8980-2ADB-45A7-9AFB-D4A9DB3C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143E-174C-401B-A68B-F314AD2F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5726-9012-4F60-B2E5-3EFCE267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CCA4-3EF8-4271-958C-732AF68A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FE24-5A2C-4BE2-8C4F-F1D32A668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BDEE-376C-46D1-B25A-F01E64C68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2906-5191-4048-B8E9-7117976D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237E-FFA2-4484-B943-D9C06C52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1272-062A-40CF-B070-EF15159A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6600-E4D4-4157-9351-E20B2A9D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A5EC-31A2-4263-BDFA-2FD9AA5D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6F98-4D35-413E-8AE4-006776B9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FEF8-DCB5-4E91-82D0-B3C8074F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B442-BEB5-46A2-9983-DA4C66C1B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2BFF-C24F-475B-AA2C-DFF478E187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5b |The out-of-pocket share of spending has declined much more rapidly for hospital and physician care than other health services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5b |The out-of-pocket share of spending has declined much more rapidly for hospital and physician care than other health services </dc:description>
  <dc:language>en-US</dc:language>
  <cp:lastModifiedBy>Jia Yao</cp:lastModifiedBy>
  <cp:lastPrinted>2002-05-16T21:44:34Z</cp:lastPrinted>
  <dcterms:modified xsi:type="dcterms:W3CDTF">2013-09-04T21:03:57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5b |The out-of-pocket share of spending has declined much more rapidly for hospital and physician care than other health services </vt:lpwstr>
  </property>
</Properties>
</file>