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7D9AC-D9FA-45D7-B62B-5FA92A5FBD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3100F-BD18-40F9-B9DC-22729A9C94C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5a | Percentage Distribution of Personal Health Care Expenditures, by Major Source of Financing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43CB-A2B4-4EBA-A44A-A202645E0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E855-44B0-4EF9-98D7-A2994B8A2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C638-5A6B-4E22-979C-4A1444467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0E4A-D307-4E8F-A944-BF2B63A5F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5CC17-8152-4D73-8BB7-4DA7E32BA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A4A9C-88E9-4C04-8368-AE57E25B7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EC964-425C-40E7-B745-A5D9311BE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A8410-4FFD-4C28-B9A5-525683FCF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40CF4-1B58-429A-B14B-C69186909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D2957-F296-4D49-B9F6-A6BC00958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159C1-669F-4927-99C4-FE5785A73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4F4D-1783-4ACB-AC6E-9EDF5B5B8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65CCD-3838-416A-8E67-3F22701C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DAFB3-8384-4D79-88DA-2614896C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6E7AB-F9E6-47A7-901D-C7C70D483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A7D3A-BDDC-4640-A010-28D743E8F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976FC-DFCF-4351-8B8C-B100450D8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0852-BA33-4552-B758-52B5A8656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A654-AEAF-4CDC-88F0-362091913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A17A-85AD-4BBA-8B33-FDC2B6A69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01D2-CC6A-4B5D-8740-9A1F7F751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05C1-89F8-48F7-BDAB-FF50E4E8B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42C1-B15B-4F81-A991-DE7A98AFE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59E1-B60E-4A57-B4FA-04C0945DD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93241-68E2-4217-8088-37E2C90EA9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F1D25-8BEE-454B-9772-597AE9C359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5a | 1 in 7 dollars of personal health care spending now are paid for out-of-pocket compared to 7 in 8 dollars 80 years ago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254160" y="787320"/>
            <a:ext cx="855972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5a | 1 in 7 dollars of personal health care spending now are paid for out-of-pocket compared to 7 in 8 dollars 80 years ago</dc:description>
  <dc:language>en-US</dc:language>
  <cp:lastModifiedBy>Jia Yao</cp:lastModifiedBy>
  <cp:lastPrinted>2002-05-16T21:44:34Z</cp:lastPrinted>
  <dcterms:modified xsi:type="dcterms:W3CDTF">2013-09-04T21:03:55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5a | 1 in 7 dollars of personal health care spending now are paid for out-of-pocket compared to 7 in 8 dollars 80 years ago</vt:lpwstr>
  </property>
</Properties>
</file>