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044E-C6E6-4451-9E52-18F720607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42D4-9210-4472-BE33-98511EC1D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0098-0031-498E-830D-56A0C9A74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8526-FFE9-4E01-A4D4-87DD7DE9D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80B9-AF53-4FEF-8CB4-65088FFEC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3812-AA0B-497A-A25C-BDC03CF53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63B2-5DB2-4096-B57F-E7630399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8FCF-8E68-40A2-9E58-B21566068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5A20-75C0-453A-BCE7-9846839B3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E1A0-4FE4-4279-8654-0857F7C2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4655-107C-4FDA-ABAF-2BA4BD4F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B44A-2B47-4F93-A6F5-C34FE195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F1B79-FC34-4A74-B6DF-B34711465D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4520" y="0"/>
            <a:ext cx="8994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21Z</dcterms:modified>
  <cp:revision>8</cp:revision>
  <dc:subject/>
  <dc:title>PowerPoint Presentation</dc:title>
</cp:coreProperties>
</file>