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0EEE-64C4-42AE-ABC1-5829C57B2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4BC4-9FB9-4E46-838E-AF62C65858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b | Percentage Distribution of Health Insurance Coverage, by Type and Age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170-BD8E-427D-8BD1-1E0398A7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C4B-79A7-48C4-BE6A-6943CD43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720-22E2-4D79-BC60-85628AD1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4A0-E84E-4FC8-AD47-754E2B9F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FF5E-D72F-44B5-AE68-7B2D6304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D22B-9DFE-4347-A574-37FC561E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F127-BD74-43A1-99A3-72AA4E06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4D03-5AE9-46B4-957C-E265AAB2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52E3-8BB6-43FA-996C-B48182F7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E737-5288-4E37-AAAB-A86014BE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3BD8-E377-46EF-B4E0-CB84525E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43C-7338-4E6E-8ED1-2C0D0ABD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31D0-218D-4A67-BB85-A267790D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19C3-4394-4C84-966C-E48BD9A5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8A42-0B9A-4177-A57C-1671160D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3290-20B7-459D-9B6A-8A5E2333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E335-CF4E-45E5-B824-13E48C1D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346-B949-47BA-BBF3-C0FE47F1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0D7-B66A-47A7-A480-9DAC0C35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6E1-4C6F-46C4-A52E-7465ECF1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00C-939B-47A6-AD60-C02F27E7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118-7EA0-47B6-B639-337C192D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3838-1EAD-4836-A348-0E9478F6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526-9ECE-4815-A762-BF75A662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7AAD-F5B3-41BC-B70A-E041C7F8F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9C6D-AB81-4CCB-A487-1E57ABDE0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2b | Children and the elderly rely much more on public health insurance than adults under age 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8760" y="70488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57200" y="6172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igures add to more than 100% for each age category due to individuals with more than one form of health insurance cover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2b | Children and the elderly rely much more on public health insurance than adults under age 65</dc:description>
  <dc:language>en-US</dc:language>
  <cp:lastModifiedBy>Jia Yao</cp:lastModifiedBy>
  <cp:lastPrinted>2002-05-16T21:44:34Z</cp:lastPrinted>
  <dcterms:modified xsi:type="dcterms:W3CDTF">2013-09-04T21:03:4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2b | Children and the elderly rely much more on public health insurance than adults under age 65</vt:lpwstr>
  </property>
</Properties>
</file>