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0BA-1B23-4741-9A74-B1C971A0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555E-4043-4C4B-A1BE-16A8A4ED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5AC-0E32-49B3-8DF0-E756196F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42F-F864-425D-8C19-ABBC887E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9417-59D7-4F09-B68A-599C0F11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19C5-C130-4D6E-AA51-A915FD93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3A9-58AF-42E5-9A7D-A158CEA5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51E-8141-4957-BB87-41A9B04E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5A9-429C-42F6-ABE0-0274D504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2724-D4A9-473A-8DA6-FF6ED9EF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10D5-3442-42F4-AD2B-3A480B89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348-6930-4188-B551-5543EE07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D2FE-AD7D-4042-8036-A2C86FC48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60"/>
            <a:ext cx="91598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4Z</dcterms:modified>
  <cp:revision>8</cp:revision>
  <dc:subject/>
  <dc:title>PowerPoint Presentation</dc:title>
</cp:coreProperties>
</file>