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C21E-D82A-48DD-A020-F3E525D3D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9BC9-A7BC-4D57-B713-21191C00F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a | Percentage Distribution of Total National Health Expenditures, by Type of Health Insurance and Other Sources of Pay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2DB-274D-4077-8DAD-5F062277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BC03-8797-4225-8625-9750ECCB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28A-48B4-49FF-B4BB-526B78CD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B7A-643C-445D-B4D5-08E5C62A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B27B-8A21-4B58-9272-EDD4F243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4825-5B32-4AEA-8F82-398A350D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E930-F2B9-4E8F-96C1-9E0EAFAD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0F55-39BC-4259-8CB1-9896FD50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4E34-FDE1-4757-B1B7-9132267E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C472-6BC3-400B-9231-688CC843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68C6-EF59-4AC0-92E3-8F7C6F0A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E2E-53D1-4BD8-8607-DA8855B5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595F-4946-496E-A056-DFDE433A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F623-9E96-4F27-840E-D0182A9A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0DF9-186D-4084-B976-C9F6A627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9D51-262A-4388-A9EF-3E78FF72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ADD0-0A7B-4D62-8FA9-420EEB5E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8CB-2779-4B52-A8BF-7E0A6376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199-B918-4218-900B-1FB9F429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C69-CE58-423E-AA84-E7AF12CA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20B-EF23-442A-82BB-A31E77D3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F7E-2BDE-43A5-AE5B-A3E32FE4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D7F-8CEC-45BF-A628-B06D5299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CF2-E940-4BCD-A59E-0A0EA0DF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B614-E38A-4EA4-AD54-3F588E060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A974-CAB3-4BE3-9BF3-5900C7853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3.2a | Private health insurance pays for slightly less spending on personal health care (PHCE) than Medicare and Medicai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10:21Z</dcterms:created>
  <dc:creator>Jia Yao</dc:creator>
  <dc:description/>
  <dc:language>en-US</dc:language>
  <cp:lastModifiedBy>Jia Yao</cp:lastModifiedBy>
  <dcterms:modified xsi:type="dcterms:W3CDTF">2013-09-06T21:10:52Z</dcterms:modified>
  <cp:revision>1</cp:revision>
  <dc:subject/>
  <dc:title>3.2a | Private health insurance pays for slightly less spending on personal health care (PHCE) than Medicare and Medicaid combined</dc:title>
</cp:coreProperties>
</file>