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452-6DD1-4E99-8086-B7DE8254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515-0CC4-44FD-9E0E-056FB024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FFF-6607-495D-802E-8EA1DF87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8D9-316F-4D2C-94FC-10D37F6A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A94E-7073-48CD-A3FF-6613843A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812-79A8-4272-91C4-A5510E6A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FF6-C4F8-41F2-9C51-FA1AA537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04A-DB39-41A8-A0E5-3FE2FD0A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1DD-E749-4B20-92D1-5E86485C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5BE-CC31-43E6-9B94-23CBEB4B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00D-CBD3-4F9B-B76F-F1D4C52A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78E8-67A0-4A4C-9F08-B1FAF79D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B1D7-DA42-43A7-BDC2-F85B1F4B8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3Z</dcterms:modified>
  <cp:revision>8</cp:revision>
  <dc:subject/>
  <dc:title>PowerPoint Presentation</dc:title>
</cp:coreProperties>
</file>