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D69E-A98E-4150-9C00-0B476D88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0EC-09B2-467B-A0BE-2FBE8682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C2E-4902-43FA-A8C1-423A807B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AE6-E007-47FA-BAF9-75F3851D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5552-7269-4C86-819D-1E4C6753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6CC1-7D08-4CC8-9CFC-BDB0720B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85AD-D908-4519-B2EB-6CCB1A51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353-6043-4C33-ACC5-B24A39D5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C1A-FDFE-4849-9AF2-4C46ADF7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B7C6-22D6-49CE-8D95-207472AB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7F0-DF12-4EFE-856E-3EEA5CFE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B6F-5A12-4B39-80E3-F37CA18B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1AB5-2091-4A03-9E2B-2E447A543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160"/>
            <a:ext cx="91598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4Z</dcterms:modified>
  <cp:revision>8</cp:revision>
  <dc:subject/>
  <dc:title>PowerPoint Presentation</dc:title>
</cp:coreProperties>
</file>