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6559A-AE53-41B1-9975-41CAB75425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BFC62-185C-4115-8AD7-B64A37EAF1E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3.2b | Percentage Distribution of Health Insurance Coverage, by Type and Age,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2A78-A9A1-4BFF-BA83-6A0AC89F3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1F6E-AA53-4CAE-85D3-FD5962B37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59C1-4637-4201-8EFA-C5E1BD149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B9AE-9E18-4658-938A-9CEB1C417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CC4A0-3342-4869-8F73-A37D81C05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A0147-E391-45B6-BEA5-7A3C32864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8488A-0D69-4E81-9264-37C70F9A4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0218D-CBF3-4126-BA41-99C6211DB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721B0-7235-44EA-A7F6-A496F25FF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5435D-20EB-49BD-940E-4072C4232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DE1D9-DEB5-4386-8B4B-66D7B6910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BD92-8C3D-480B-BC93-3230A3052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48C1E-6322-436B-ADF1-B42D96FF5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0D818-2667-4400-87D3-B3105350F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62F9F-6ED9-4613-9775-54B16638D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9BD0D-425F-4C32-9858-1B6BADC58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1513B-B728-4745-9C3D-EA96D6C0C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5439-B9DB-4646-92DF-0B75326B4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D175-0B74-4FA6-8958-10604FC85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396D-294F-4253-AF69-4BB5FACF4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A19C-BDF7-4281-B429-874098D0D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966C-2167-41FA-A9AE-C5B65017D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D888-1A43-4865-9DEE-E4E300499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BAF5-024E-4941-AB93-D7EA7E1A6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9EBBC-2E15-4FD0-AA1B-393B0BC84C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9312B-41EC-44D0-9F13-F30DBBFCE9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80010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3.2b | Children and the elderly rely much more on public health insurance than adults under age 65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1" name="Object 3" descr=""/>
          <p:cNvPicPr/>
          <p:nvPr/>
        </p:nvPicPr>
        <p:blipFill>
          <a:blip r:embed="rId1"/>
          <a:stretch/>
        </p:blipFill>
        <p:spPr>
          <a:xfrm>
            <a:off x="158760" y="704880"/>
            <a:ext cx="8559720" cy="6121440"/>
          </a:xfrm>
          <a:prstGeom prst="rect">
            <a:avLst/>
          </a:prstGeom>
          <a:ln w="0">
            <a:noFill/>
          </a:ln>
        </p:spPr>
      </p:pic>
      <p:sp>
        <p:nvSpPr>
          <p:cNvPr id="92" name="TextBox 3"/>
          <p:cNvSpPr/>
          <p:nvPr/>
        </p:nvSpPr>
        <p:spPr>
          <a:xfrm>
            <a:off x="457200" y="617220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e: figures add to more than 100% for each age category due to individuals with more than one form of health insurance coverage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TextBox 5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3.2b | Children and the elderly rely much more on public health insurance than adults under age 65</dc:description>
  <dc:language>en-US</dc:language>
  <cp:lastModifiedBy>Jia Yao</cp:lastModifiedBy>
  <cp:lastPrinted>2002-05-16T21:44:34Z</cp:lastPrinted>
  <dcterms:modified xsi:type="dcterms:W3CDTF">2013-09-04T21:03:47Z</dcterms:modified>
  <cp:revision>2214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3.2b | Children and the elderly rely much more on public health insurance than adults under age 65</vt:lpwstr>
  </property>
</Properties>
</file>