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7AAB-1B86-403E-98A4-ECE84CAC3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3C36-DF69-483D-A506-7165B811C9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2a | Percentage Distribution of Total National Health Expenditures, by Type of Health Insurance and Other Sources of Payment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12B9-FFD1-4B19-B482-D72EC7D14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712F-E3C2-4EE4-9207-F63A6883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DB20-3D50-442D-9D8A-EAF4081D6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F68E-EF0D-4260-8398-7B7FA483B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CF37-6D19-4ACF-9E95-54AFA1C79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1392-5429-495E-9982-309D1599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6F94-2B91-4087-B413-8921D0F4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A48C-027B-4FD3-A83E-68D5434F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1DC4-4E3B-4DB5-938A-6B8709D6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4D6D-5B87-4FD6-8ED9-B7B64DB1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7A21-E464-4963-AE8C-D78632E6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4B15-15F8-4FAE-A325-B9FF8492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D188-D737-431A-9B00-13C5A011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6DDA-0758-4F7C-BDFC-AF441C34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6A64-DE0F-4103-8CA2-1F8D3EAB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05BA-B9A4-4F44-8BDF-86A32FE5C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D656-1248-4B9D-8635-B28AFB8C6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8A0D-A464-4479-BAFD-02242290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7F6F-807F-4C0C-BF05-C6490AE4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0A36-C2BA-4ADD-9CE0-9C879E17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F1BC-1D1A-4E4B-B439-F796C6F7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75BB-C400-4A50-915F-3E64A376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C864-7322-4667-8192-5A876743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793A-97B7-4106-98CF-2616ACD8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0409-60AA-49A4-A72A-DDD0123279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6069-F88D-47A1-99BE-8D9218223B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3.2a | Private health insurance pays for slightly less spending on personal health care (PHCE) than Medicare and Medicaid comb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6T21:10:21Z</dcterms:created>
  <dc:creator>Jia Yao</dc:creator>
  <dc:description/>
  <dc:language>en-US</dc:language>
  <cp:lastModifiedBy>Jia Yao</cp:lastModifiedBy>
  <dcterms:modified xsi:type="dcterms:W3CDTF">2013-09-06T21:10:52Z</dcterms:modified>
  <cp:revision>1</cp:revision>
  <dc:subject/>
  <dc:title>3.2a | Private health insurance pays for slightly less spending on personal health care (PHCE) than Medicare and Medicaid combined</dc:title>
</cp:coreProperties>
</file>