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A3F-2105-4917-A9FC-C9653CFC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E54-61AF-4AEB-950C-57CB8967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F9B-1C44-4E9D-B983-8DF7C83F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B84-8CD0-4E84-B1BE-34B3663A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203-5FED-4700-B783-B80D4B88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19D-27DD-4065-A890-44230728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A26-DECB-4CFA-9429-C18B6005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6C1-E7F6-4E92-914A-36F961C1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3F8-1177-4F2F-B9C5-CDB7EA91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CF9-621C-41D3-B359-AB38545E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513-3D97-4002-B747-F299D3D1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530-534B-4C6D-849A-7DE47EC3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7CFF-A213-468B-9D6D-57A523140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60"/>
            <a:ext cx="91598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4Z</dcterms:modified>
  <cp:revision>8</cp:revision>
  <dc:subject/>
  <dc:title>PowerPoint Presentation</dc:title>
</cp:coreProperties>
</file>