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BB0D-1902-45AE-82A7-0A4228400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07B9-41A3-479E-AEB7-66A8014161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1a | Percentage Distribution of Personal Health Expenditures, by Sector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4CA-6E01-4AFC-BD97-8EA63F47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8DA-39D3-41E0-ACA1-F2D65115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61A3-8342-42E6-811B-AA90F2F6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576-6734-4AAF-BFE5-9976E477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81A5-7FC5-458B-9398-04C83561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D11B-E1B7-446A-92B5-47C96F5E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DE8C-124D-44CB-8B1D-057E7C13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294E-CEF1-456E-9DB2-33FF8FA5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2428-53C1-4EFC-8F24-A4A65626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AF78-EF00-4CA6-AABD-2E20EBCC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27B4-77E0-42E6-AD9A-3E2FD13C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902-D837-4A90-BE38-D1CF4BBC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E5A7-1D35-412B-BE16-FBCDE735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67CE-117F-4B5B-8615-8D5AAFDC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C9AF-FDDE-4548-9558-C54A07D5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419F-F740-445A-A321-CB4AAB13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A161-DF2C-41DF-AEF5-5E9D23E6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4111-ECCC-4E05-811E-45BD74AB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A7C-F46B-4DAE-BEF3-2B472EFF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BC0-7AA2-4A79-8E0F-3BC7CBD4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9CE8-8045-4BCA-8355-494C0068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71CB-099C-4F8C-9F64-8111E084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390-C58F-47C2-88FC-405AA064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3F8-FA36-4B51-B534-69EF2554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642D-FD0E-4164-97FF-C2ED76943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7420-0EAD-4A2B-8A9C-948D0E5967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1a | Since 1965, the growing federal share of personal health care expenditures has displaced private and state health spending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Straight Connector 5"/>
          <p:cNvSpPr/>
          <p:nvPr/>
        </p:nvSpPr>
        <p:spPr>
          <a:xfrm flipV="1">
            <a:off x="152388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traight Connector 6"/>
          <p:cNvSpPr/>
          <p:nvPr/>
        </p:nvSpPr>
        <p:spPr>
          <a:xfrm flipV="1">
            <a:off x="3429000" y="152388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Straight Connector 9"/>
          <p:cNvSpPr/>
          <p:nvPr/>
        </p:nvSpPr>
        <p:spPr>
          <a:xfrm flipV="1">
            <a:off x="2514600" y="121932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traight Connector 12"/>
          <p:cNvSpPr/>
          <p:nvPr/>
        </p:nvSpPr>
        <p:spPr>
          <a:xfrm flipV="1">
            <a:off x="441972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traight Connector 15"/>
          <p:cNvSpPr/>
          <p:nvPr/>
        </p:nvSpPr>
        <p:spPr>
          <a:xfrm flipV="1">
            <a:off x="533412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traight Connector 16"/>
          <p:cNvSpPr/>
          <p:nvPr/>
        </p:nvSpPr>
        <p:spPr>
          <a:xfrm flipV="1">
            <a:off x="6324480" y="1523520"/>
            <a:ext cx="0" cy="44197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traight Connector 17"/>
          <p:cNvSpPr/>
          <p:nvPr/>
        </p:nvSpPr>
        <p:spPr>
          <a:xfrm flipV="1">
            <a:off x="723888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traight Connector 19"/>
          <p:cNvSpPr/>
          <p:nvPr/>
        </p:nvSpPr>
        <p:spPr>
          <a:xfrm flipV="1">
            <a:off x="4038480" y="1523520"/>
            <a:ext cx="0" cy="342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22"/>
          <p:cNvSpPr/>
          <p:nvPr/>
        </p:nvSpPr>
        <p:spPr>
          <a:xfrm>
            <a:off x="4273200" y="2133720"/>
            <a:ext cx="40730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dicare and Medicaid begin (196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Box 1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1a | Since 1965, the growing federal share of personal health care expenditures has displaced private and state health spending </dc:description>
  <dc:language>en-US</dc:language>
  <cp:lastModifiedBy>Jia Yao</cp:lastModifiedBy>
  <cp:lastPrinted>2002-05-16T21:44:34Z</cp:lastPrinted>
  <dcterms:modified xsi:type="dcterms:W3CDTF">2013-09-04T21:03:4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1a | Since 1965, the growing federal share of personal health care expenditures has displaced private and state health spending </vt:lpwstr>
  </property>
</Properties>
</file>