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1F42-CEB0-4A2F-AA6D-C17FE5BC8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78DA-85F2-4055-A808-E61178669E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b | Percentage Distribution of Personal Health Expenditures, by Sponsor, 198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252-2EB9-46D7-9EA6-728ABBD9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F20-E5B4-4FBE-8FEC-FCD83972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D3D-72DC-4F7E-9998-E28942AC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55C-C100-4E81-A132-ACF7C928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CD34-64EF-4372-9A59-F145A696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66DD-243A-4551-B0F3-D99D2639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E615-F4E8-48A0-A48C-B4E57311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76F7-9240-4870-805D-1F4498BD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7F52-BB9B-439F-A468-3B9CA00C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DD7B-4F6A-48D4-8E24-FA98E434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4BB4-742B-4025-9608-7A4B5CDC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383-6968-4BB7-B44A-4800AA3E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B6E0-21C8-47B0-9E73-4AFCA749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5907-B69F-4813-B2DC-BAD610FB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70DB-8061-4AB2-9F2F-680A1809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7B8E-4CA9-42D5-9C91-65AEE794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7C03-6BF7-47D6-9769-D332AB85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DD7-D966-48B9-BF4E-B0603C0C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B31-E7E6-48EC-B0F3-0D6A1230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B63-A14E-4281-AEA8-3A53224A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B78-50F1-40D2-AF5D-9DB3B91F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35B-0A50-46CC-9345-0B8F8CE2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D34-7E54-49F6-AFAD-A1D44CD3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F4B-0D5B-4BF2-8A0F-2AF367F6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9BED-ACAC-422D-8D2C-190339F3B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9FA6-BDAD-44B8-8AD6-0FCEB7E31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81000" y="787320"/>
            <a:ext cx="906624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b | Accounting for each sponsor’s share of health revenues results in a much more stable federal share of spending over 2 decad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b | Accounting for each sponsor’s share of health revenues results in a much more stable federal share of spending over 2 decades</dc:description>
  <dc:language>en-US</dc:language>
  <cp:lastModifiedBy>Jia Yao</cp:lastModifiedBy>
  <cp:lastPrinted>2002-05-16T21:44:34Z</cp:lastPrinted>
  <dcterms:modified xsi:type="dcterms:W3CDTF">2013-09-04T21:03:4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b | Accounting for each sponsor’s share of health revenues results in a much more stable federal share of spending over 2 decades</vt:lpwstr>
  </property>
</Properties>
</file>