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DA5A-19CC-48CD-BB49-A24117E95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5C1D-68A9-4F27-96B3-602AABEC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5A546-C604-479C-8875-CA2BCE949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3928E-75EE-43C3-BCD3-68EBB54C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D8218-B713-4930-8569-F9A57498C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F745E-850A-4F4B-A953-CACF017C0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D7D9A-2262-46ED-BF29-E21EECAC6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7D1C-B0D1-4215-BE15-E26D80B8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88B5-5347-4800-AA24-6D92B3579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FAC2-AF52-4B9E-86D3-769AB9505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95079-5D50-477B-B585-0BAE83060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4B58-DAE3-4EF5-B7EF-36A7E4EE0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FBE6DD-627A-4A6D-8995-C19253732E5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"/>
          <p:cNvPicPr/>
          <p:nvPr/>
        </p:nvPicPr>
        <p:blipFill>
          <a:blip r:embed="rId1"/>
          <a:stretch/>
        </p:blipFill>
        <p:spPr>
          <a:xfrm>
            <a:off x="152280" y="58680"/>
            <a:ext cx="8761680" cy="679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2Z</dcterms:modified>
  <cp:revision>8</cp:revision>
  <dc:subject/>
  <dc:title>PowerPoint Presentation</dc:title>
</cp:coreProperties>
</file>