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4BC74-71C0-47BB-91B3-6D1A6D4BB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D7E43-F0E7-42B7-9084-F9A6E66C9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E7829-2B43-4CEB-A7AD-6AAC6089B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B6FF-5F9D-45B4-9686-F70B1D23A8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0CF6-5242-4062-98A0-D88652D69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69B1-5866-466A-957F-D7ABB036C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E00DD-BE55-450A-944F-721626863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5038-8682-493C-9F0B-EAD969DF4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A0B86-8D0B-465A-A991-ED22F78874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7D4C-F9FF-4D9A-BE89-87AD6278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E6E70-8AA0-4451-8F41-1511433CC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BD6-E905-4366-94FA-EE1250AA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B31C1-CA92-4520-9469-BB49AD285A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343080"/>
            <a:ext cx="91440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6:59:10Z</dcterms:modified>
  <cp:revision>6</cp:revision>
  <dc:subject/>
  <dc:title>PowerPoint Presentation</dc:title>
</cp:coreProperties>
</file>