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836E-34D5-49AB-894D-5D80799DAA4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EAC1D-A0BE-4AF1-B988-0B566E0472FE}" type="slidenum">
              <a:rPr b="0" lang="en-US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f7f7f"/>
                </a:solidFill>
                <a:latin typeface="Arial Narrow"/>
              </a:rPr>
              <a:t>3.1a | Percentage Distribution of Personal Health Expenditures, by Sector, 1929-200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22E4B-B183-48C7-8301-F90FBECC8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4B064-2013-4012-B67B-FBDF41922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5B8E-063E-4BFE-97CD-E78160ACC4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D053F-1162-46E9-B754-6FD917DA9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77D46-1419-446B-9C2E-3FCB9754B0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CDB52-6571-474F-9115-268C5EAE6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3CEC2C-EC5F-4DF3-8788-F7AAFD3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546CA-F710-438C-8C1D-4F22ABFB3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ABB6D-9B34-443F-90AD-7B81B9FFD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880FE-4BC4-4547-8007-002AED6C0D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726845-9534-4CA2-8263-7944C65E8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1A8C0-4E4E-417B-8412-D57B4C206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E2C2B-C41C-48FC-8648-4A584F8BA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20559-69A7-4540-9C74-F5BA82AEC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6813A-79E0-4CA8-9616-2802C1512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50B5FF-9D91-42FE-90C1-5900789FE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D61B7-4EF8-410B-84D6-F7EF69E9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6167-9062-4FA3-9268-E99599E2B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E38F-4621-4417-B7C3-8AD93C0920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B5D2-2FF8-4CD0-B3AB-6C9F8B0CE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372-EC99-47E2-B8AF-D7D047B3C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1688B-84C3-400D-9D7C-29BB38619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6464-DCA9-48D0-B131-4A2F40CBB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E0BEB-E80B-4393-948E-55A51860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1CFA66-5F3A-4353-AA54-35DFE8666F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cc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noFill/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6522A-E087-4DF9-978A-1C5361D82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Object 3" descr=""/>
          <p:cNvPicPr/>
          <p:nvPr/>
        </p:nvPicPr>
        <p:blipFill>
          <a:blip r:embed="rId1"/>
          <a:stretch/>
        </p:blipFill>
        <p:spPr>
          <a:xfrm>
            <a:off x="-50760" y="787320"/>
            <a:ext cx="9198000" cy="612144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861048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33"/>
                </a:solidFill>
                <a:latin typeface="Arial Narrow"/>
              </a:rPr>
              <a:t>3.1a | Since 1965, the growing federal share of personal health care expenditures has displaced private and state health spending </a:t>
            </a:r>
            <a:endParaRPr b="0" lang="en-US" sz="2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Straight Connector 5"/>
          <p:cNvSpPr/>
          <p:nvPr/>
        </p:nvSpPr>
        <p:spPr>
          <a:xfrm flipV="1">
            <a:off x="1523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Straight Connector 6"/>
          <p:cNvSpPr/>
          <p:nvPr/>
        </p:nvSpPr>
        <p:spPr>
          <a:xfrm flipV="1">
            <a:off x="3429000" y="152388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Straight Connector 9"/>
          <p:cNvSpPr/>
          <p:nvPr/>
        </p:nvSpPr>
        <p:spPr>
          <a:xfrm flipV="1">
            <a:off x="2514600" y="1219320"/>
            <a:ext cx="0" cy="457200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Straight Connector 12"/>
          <p:cNvSpPr/>
          <p:nvPr/>
        </p:nvSpPr>
        <p:spPr>
          <a:xfrm flipV="1">
            <a:off x="44197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Straight Connector 15"/>
          <p:cNvSpPr/>
          <p:nvPr/>
        </p:nvSpPr>
        <p:spPr>
          <a:xfrm flipV="1">
            <a:off x="533412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Straight Connector 16"/>
          <p:cNvSpPr/>
          <p:nvPr/>
        </p:nvSpPr>
        <p:spPr>
          <a:xfrm flipV="1">
            <a:off x="6324480" y="1523520"/>
            <a:ext cx="0" cy="441972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Straight Connector 17"/>
          <p:cNvSpPr/>
          <p:nvPr/>
        </p:nvSpPr>
        <p:spPr>
          <a:xfrm flipV="1">
            <a:off x="7238880" y="1523880"/>
            <a:ext cx="0" cy="4267440"/>
          </a:xfrm>
          <a:prstGeom prst="line">
            <a:avLst/>
          </a:prstGeom>
          <a:ln w="3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Straight Connector 19"/>
          <p:cNvSpPr/>
          <p:nvPr/>
        </p:nvSpPr>
        <p:spPr>
          <a:xfrm flipV="1">
            <a:off x="4038480" y="1523520"/>
            <a:ext cx="0" cy="3429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TextBox 22"/>
          <p:cNvSpPr/>
          <p:nvPr/>
        </p:nvSpPr>
        <p:spPr>
          <a:xfrm>
            <a:off x="4273200" y="2133720"/>
            <a:ext cx="4073040" cy="368280"/>
          </a:xfrm>
          <a:prstGeom prst="rect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Medicare and Medicaid begin (1966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TextBox 13"/>
          <p:cNvSpPr/>
          <p:nvPr/>
        </p:nvSpPr>
        <p:spPr>
          <a:xfrm rot="16200000">
            <a:off x="-2305440" y="3732480"/>
            <a:ext cx="518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15T21:37:09Z</dcterms:created>
  <dc:creator>conoverc</dc:creator>
  <dc:description>3.1a | Since 1965, the growing federal share of personal health care expenditures has displaced private and state health spending </dc:description>
  <dc:language>en-US</dc:language>
  <cp:lastModifiedBy>Jia Yao</cp:lastModifiedBy>
  <cp:lastPrinted>2002-05-16T21:44:34Z</cp:lastPrinted>
  <dcterms:modified xsi:type="dcterms:W3CDTF">2013-09-04T21:03:40Z</dcterms:modified>
  <cp:revision>2214</cp:revision>
  <dc:subject/>
  <dc:title>Financing the U.S. Health System: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Financing the U.S. Health System: 1</vt:lpwstr>
  </property>
  <property fmtid="{D5CDD505-2E9C-101B-9397-08002B2CF9AE}" pid="3" name="SlideDescription">
    <vt:lpwstr>3.1a | Since 1965, the growing federal share of personal health care expenditures has displaced private and state health spending </vt:lpwstr>
  </property>
</Properties>
</file>