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69652-549E-4DF5-AA21-C983126813B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5B59F-8686-4D79-8EFA-DE5D3188B206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b | Percentage Distribution of Personal Health Expenditures, by Sponsor, 1987-200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7948E-708C-40D7-87E9-8B1BF8A1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FC5B6-2971-403D-924E-E27B8F52B6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8CDD-3A3D-478C-B259-0CAF78F64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25537-3C34-46EA-BE3B-A41845AE8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65CE9-DB2B-482C-98A9-DB95119CC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A9695-64D7-4A03-94EF-FFD76DB89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ED037-34D9-47D6-93F3-BABFBCF8B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DFD9B-4E32-4833-BE21-0335D4AFD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0E28D-FE47-42F3-8470-ED6E5FC2A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5682E-B97B-4A0F-9B6A-BA66BB383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7640A-A2B9-409D-849A-A0AAA566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E7E3F-1947-4B85-BA9A-CA820BE13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7AA14-940E-456A-B066-3D082AD6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4215D-71CC-4189-A4E8-755153833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CEDEA-20C0-4B24-803F-AC1E69230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73AE9-315B-4794-A016-FA65D21D4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2CA6C-4A88-497F-9AD9-5544B5B99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EFAEE-DC9B-4810-BA3B-3EB523BAE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33C0-E799-4B35-BCC0-BDBBD7C1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6BE03-5D48-4B54-9447-F0E3B83B2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F1314-03A5-4D1B-8641-CCB8672F4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6B88-7A6C-4D6C-92A4-2050C5339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13868-D504-4CF1-9616-E9BD977F2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CB9BB-CAC1-4C25-9AFC-8F313838C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75296-7B28-438A-BC34-2AF941249B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2D88BD-11D9-4D08-AE83-D855718195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81000" y="787320"/>
            <a:ext cx="906624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66760" y="0"/>
            <a:ext cx="861048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b | Accounting for each sponsor’s share of health revenues results in a much more stable federal share of spending over 2 decades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TextBox 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b | Accounting for each sponsor’s share of health revenues results in a much more stable federal share of spending over 2 decades</dc:description>
  <dc:language>en-US</dc:language>
  <cp:lastModifiedBy>Jia Yao</cp:lastModifiedBy>
  <cp:lastPrinted>2002-05-16T21:44:34Z</cp:lastPrinted>
  <dcterms:modified xsi:type="dcterms:W3CDTF">2013-09-04T21:03:42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b | Accounting for each sponsor’s share of health revenues results in a much more stable federal share of spending over 2 decades</vt:lpwstr>
  </property>
</Properties>
</file>