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65512-5BE4-4097-821C-67E808F6CC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F423D-A482-4548-8971-32E1760AD8B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3.1b | Percentage Distribution of Personal Health Expenditures, by Sponsor, 1987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F045-E4C1-4F35-8665-0A706510C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B9DA-C291-419C-87F6-E9B50FB44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EC6C-5435-4D85-A06A-758D704B2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BF27-AD9E-4C6C-B53B-0F29E36D1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E0D6E-0024-483A-89FC-50C1714F8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32A67-5967-4953-9424-587F1096F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348BF-7D2D-4943-B8C7-33E036603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ACBA1-860F-4A1A-A50C-F68BE3BCD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99A88-B38E-478B-B3C8-5454EF0FD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924E3-60FE-40CA-AFC2-D07A659FD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902E3-5F97-4619-83D5-BB643CB7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8980-3E48-4375-BCFB-5F5284201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3A51A-00BD-4B4F-878A-71284AE6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9D156-4D0B-4E5B-87FA-127A285D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6F014-4AEB-4630-A770-C52BF685E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DC405-108A-4848-8E19-56FBFCF44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FCA47-96E8-4C62-B1A1-93543137B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CA87-77C4-4563-9600-BCA73386D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9197-06D7-4FA6-85AE-2747018C9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C4F4-57B2-43B7-A9BC-B764F0906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78BA-28A6-4D6A-B164-FAE424EF1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FE07-5FE9-443D-8B34-558286CA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45B0-286F-418F-8DD2-761C34B9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638F-ADCD-4E90-B399-37519E94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7B16B-6C47-439F-AEC9-0BA99C2291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9FC8F-097E-42A4-9810-53DE8947DC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81000" y="787320"/>
            <a:ext cx="906624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6676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1b | Accounting for each sponsor’s share of health revenues results in a much more stable federal share of spending over 2 decades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1b | Accounting for each sponsor’s share of health revenues results in a much more stable federal share of spending over 2 decades</dc:description>
  <dc:language>en-US</dc:language>
  <cp:lastModifiedBy>Jia Yao</cp:lastModifiedBy>
  <cp:lastPrinted>2002-05-16T21:44:34Z</cp:lastPrinted>
  <dcterms:modified xsi:type="dcterms:W3CDTF">2013-09-04T21:03:42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1b | Accounting for each sponsor’s share of health revenues results in a much more stable federal share of spending over 2 decades</vt:lpwstr>
  </property>
</Properties>
</file>