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4C52-F5D8-4FD3-88DB-B7CB38D45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5290-3529-4A7F-83FB-DAEFD3B504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a | Percentage Distribution of Personal Health Expenditures, by Sector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AB0-A059-4464-884A-B3FEAB2B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C42-E8E1-4352-B58D-5F25259F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06C-BEC1-4CCB-893F-6BF3915E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F50-AEDC-4F83-9AA3-BE3F8BD6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A785-6C6B-473D-8CCF-DEEB8BAE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9C3F-AA58-4F48-B916-EE72ACC0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40E9-33F5-4D36-852F-90957A87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0134-6B61-4850-8130-6C33B723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F276-0F6E-493D-9B52-14B1D3AE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A196-C5E1-4044-936D-58A384DD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7C32-5351-490C-8DA9-ADAA22C0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EE3-E750-4F4D-8470-B62966A2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A248-02DB-4895-92BA-D8E71F12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99A6-17C6-4C4F-9611-2489EDDB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D505-D521-45F4-85E3-FB639597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5932-47AE-4DD0-897C-ECA99389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6218-9399-4395-AEC8-FE7F2F3E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462-A7B0-4DF6-B4E9-C88E0E08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4C2-A06D-4CBE-9571-10F74BAB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E82-B772-49A8-B3F3-50449B8C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83F-AB66-43DF-969C-869ADB3E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A3C-BB97-47CC-9363-25FA15E1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867-2F51-4A98-AD9B-FB34148D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31D-2020-43AD-8889-E78B2BB3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5BE9-0A47-4B7F-B103-510C0B2B7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C36C-59D7-485F-8351-9518EB896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a | Since 1965, the growing federal share of personal health care expenditures has displaced private and state health spending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Straight Connector 5"/>
          <p:cNvSpPr/>
          <p:nvPr/>
        </p:nvSpPr>
        <p:spPr>
          <a:xfrm flipV="1">
            <a:off x="1523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traight Connector 6"/>
          <p:cNvSpPr/>
          <p:nvPr/>
        </p:nvSpPr>
        <p:spPr>
          <a:xfrm flipV="1">
            <a:off x="3429000" y="152388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9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12"/>
          <p:cNvSpPr/>
          <p:nvPr/>
        </p:nvSpPr>
        <p:spPr>
          <a:xfrm flipV="1">
            <a:off x="44197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15"/>
          <p:cNvSpPr/>
          <p:nvPr/>
        </p:nvSpPr>
        <p:spPr>
          <a:xfrm flipV="1">
            <a:off x="53341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6"/>
          <p:cNvSpPr/>
          <p:nvPr/>
        </p:nvSpPr>
        <p:spPr>
          <a:xfrm flipV="1">
            <a:off x="6324480" y="1523520"/>
            <a:ext cx="0" cy="44197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7"/>
          <p:cNvSpPr/>
          <p:nvPr/>
        </p:nvSpPr>
        <p:spPr>
          <a:xfrm flipV="1">
            <a:off x="7238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9"/>
          <p:cNvSpPr/>
          <p:nvPr/>
        </p:nvSpPr>
        <p:spPr>
          <a:xfrm flipV="1">
            <a:off x="4038480" y="1523520"/>
            <a:ext cx="0" cy="342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22"/>
          <p:cNvSpPr/>
          <p:nvPr/>
        </p:nvSpPr>
        <p:spPr>
          <a:xfrm>
            <a:off x="4273200" y="213372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1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a | Since 1965, the growing federal share of personal health care expenditures has displaced private and state health spending </dc:description>
  <dc:language>en-US</dc:language>
  <cp:lastModifiedBy>Jia Yao</cp:lastModifiedBy>
  <cp:lastPrinted>2002-05-16T21:44:34Z</cp:lastPrinted>
  <dcterms:modified xsi:type="dcterms:W3CDTF">2013-09-04T21:03:4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a | Since 1965, the growing federal share of personal health care expenditures has displaced private and state health spending </vt:lpwstr>
  </property>
</Properties>
</file>