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F59-6AD5-4C35-9B66-3612CA44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DBD-BC7D-412F-829B-00FF8A7F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6F2-24AA-47F9-8581-78F94EE2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96E0-BFC3-43DB-8620-C775D49A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8C4-8046-4B32-8B3F-76196057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2F6-1AA2-466A-8CDD-DE795977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E88-2F6B-46FC-B1B8-4C732271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FFC-B7E7-4CA1-948A-618F1649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CA4-0DD9-4A4C-9BAB-BE6953D5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5E0-139B-43AB-A479-339C68AA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B41-E34A-4A83-B70E-D2B7DB1A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EBD-CA67-41A6-ADF2-24141411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C058-2BF2-4145-B0EF-4DF235629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0Z</dcterms:modified>
  <cp:revision>6</cp:revision>
  <dc:subject/>
  <dc:title>PowerPoint Presentation</dc:title>
</cp:coreProperties>
</file>