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CD8-E144-4F04-B814-06197F447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7424-1DC9-4A4D-A342-B347A25931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a | EXPENDITURES ON CHRONIC CONDITIONS FOR ADULTS AGE 18 AND OVER, BY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F36-AB96-44F0-974D-811C179F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953-DBD9-47DE-B92A-37E9EF0E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32C-9662-4957-A7B6-7220ACE9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5F9-67E1-422E-A399-EABD45D2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56AD-BA2B-4CF3-98BC-7A625CF9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F9F7-7F81-47B5-83E9-36F5573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251E-A27B-4575-B988-F3BDCCBA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E293-3991-4487-B576-13BCACE6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72C2-198C-406F-B265-4A8C070F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79D7-B941-4347-B260-032AD818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E253-50F9-451C-8E5F-19CAC2C8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022-E239-4536-BE39-B82DDCB0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0A78-B31A-4AB5-BCC0-C129004A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2006-1D63-46B9-9136-A5975709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BE27-8C5D-4DF7-9FFD-F2798555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D96F-FED9-4B1F-BE0D-7FF5D98B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7A71-401A-40E1-9FC8-A2D08895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4E2-6EEE-4FFB-90DF-D7FE85B8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058-DD32-416B-A273-C8A94692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539-7463-450E-AEB1-2CB2F089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997-5395-425C-97AD-86671637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BC5-1AB3-433F-A903-BFD7C31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C40-D356-4614-9350-820EDBF3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0C9-54AD-4A34-A6F8-70892A66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A8F6-B7BA-4B55-90E1-B6646839D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D241-1430-4679-B782-C56043603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a | About half of adult health spending is for chronic conditions; 90 percent of spending is on adults having at least 1 such condi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a | About half of adult health spending is for chronic conditions; 90 percent of spending is on adults having at least 1 such condition</dc:description>
  <dc:language>en-US</dc:language>
  <cp:lastModifiedBy>Jia Yao</cp:lastModifiedBy>
  <cp:lastPrinted>2002-05-16T21:44:34Z</cp:lastPrinted>
  <dcterms:modified xsi:type="dcterms:W3CDTF">2013-09-04T18:13:25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a | About half of adult health spending is for chronic conditions; 90 percent of spending is on adults having at least 1 such condition</vt:lpwstr>
  </property>
</Properties>
</file>