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63D2-252F-4DD8-AF3C-AA740D992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826F-6996-4981-8D61-2FBC4568CE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b | AVERAGE EXPENDITURES FOR TREATMENT OF ACUTE CONDITIONS, BY CHRONIC CONDITION STATUS AND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7AC-93E1-4CF4-A207-8AE5DD10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5E3-6D05-4403-8644-B026B79F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554-09E4-498F-A83A-B225A65A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DA4-3430-41C4-8144-A31F583F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7007-C96B-43DB-9BB7-E5D9589F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4644-1BF6-4B8D-A031-D2745D02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3526-1024-46F9-B771-A9704E03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844B-094F-43B3-98B0-BDF826FC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942A-EB1B-490A-859B-D90AEBAD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4656-D1A0-4058-994E-397243A7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56B5-0BC4-489F-A7C8-3A42F246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F0D-69E6-45A2-B99D-6EFA30B2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E217-F3D4-43DB-9252-2458C3E0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1CA2-C5DF-41EA-8ACA-938DE44D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E149-6423-401D-82CC-5C7993E2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5192-63AF-4C01-81F1-40F9CE6A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75B3-2F6E-4B4D-A6FA-513E1D3E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2E5-D1EC-4E8C-B953-AE5BAC40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D56-81BB-4F66-B803-AAFFF814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2F5-1B37-44C5-9076-8AB2AF8A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6CD-8205-41C9-AA7D-9010F0E7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723-E8AC-4DC4-8375-B36F23B0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265-A8EF-43A1-8D91-04E0588E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088-F5CF-4A26-878B-8F4159A0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C882-4FD6-4F23-8BF8-1FCBD1CCD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29F1-F96E-4B34-B4BA-15D207587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b | Compared to those without chronic illness, annual health costs are 2 to 3 times as high for adults with one or more chronic condition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304920" y="5810400"/>
            <a:ext cx="293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: Machlin S, JW Cohen and K Beauregard. Health Care Expenses for Adults with Chronic Conditions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5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tatistical Brief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#203. May 2008. Agency for Healthcare Research and Quality. Rockville M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eps.ahrq.gov/mepsweb/data_files/publications/st203.pdf (accessed November 14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b | Compared to those without chronic illness, annual health costs are 2 to 3 times as high for adults with one or more chronic conditions</dc:description>
  <dc:language>en-US</dc:language>
  <cp:lastModifiedBy>Jia Yao</cp:lastModifiedBy>
  <cp:lastPrinted>2002-05-16T21:44:34Z</cp:lastPrinted>
  <dcterms:modified xsi:type="dcterms:W3CDTF">2013-09-04T18:13:27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b | Compared to those without chronic illness, annual health costs are 2 to 3 times as high for adults with one or more chronic conditions</vt:lpwstr>
  </property>
</Properties>
</file>