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564F-D8AD-4F61-B4BE-4ECFE17F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24B5-2016-4495-A854-CF129DEB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4981-6050-4C13-96A8-E30744EB16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A8B1-9AB5-4BAF-84A4-E5AE4CED0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E4F4-15CF-4AB8-8D0C-C2514F161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DE3C-7622-4502-B5BD-1A2DD241E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C7A7-11F5-4F34-891A-B675E7C40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260EC-03AB-400C-BD51-B1434136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62E9-DEE5-4938-A4F9-3C051C1D6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0CCE-45EA-406B-9A2B-3B7F5208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25F-3526-46E6-B0BA-8E3CEB899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3777-31F3-4112-9ABC-9FE15157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5BA5C-AF5F-4580-A91A-06996A3B19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76320" y="149400"/>
            <a:ext cx="8991360" cy="65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1:18Z</dcterms:modified>
  <cp:revision>6</cp:revision>
  <dc:subject/>
  <dc:title>PowerPoint Presentation</dc:title>
</cp:coreProperties>
</file>