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C080-82B7-4174-9F95-7A9C7EE3D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FB9D6-9CD9-4123-BAD0-E6C8AD79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D1BF-1079-4B73-8CC7-C0C9E2B28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2468-D842-4C68-96F7-FD3C5C506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1474-2303-4BF5-89A3-FB1821456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1B8C-193A-4423-B974-BBA81E355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2788F-914C-4CD8-9763-474F5554F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F068-D6CD-41CF-BC14-398B6D31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019-47DA-4127-AC92-9211C9B0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190FA-138B-4B79-831B-871153240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D9F8-6873-45F1-B1D7-32746A1DE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CBD4-D4AC-4CDC-B47F-F2E60BD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5024-616D-4E75-92C3-792BA6464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49:36Z</dcterms:modified>
  <cp:revision>6</cp:revision>
  <dc:subject/>
  <dc:title>PowerPoint Presentation</dc:title>
</cp:coreProperties>
</file>