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3C46-A6C2-4C4E-8090-8FC9D3A0F5D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D3C9E-73FF-4E29-97DC-223D2333190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 Narrow"/>
              </a:rPr>
              <a:t>2.5a | EXPENDITURES ON CHRONIC CONDITIONS FOR ADULTS AGE 18 AND OVER, BY AGE, 20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089C-E98D-4F92-BE2D-C0C879621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F794-058F-4E00-939F-3394F2D3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5220-6445-4956-9B66-C9A564D73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137-93CD-4AA5-A74E-EA76EEB81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9EBA3-2AC6-4CF2-869C-F4836FC0F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708D-1FEE-4D5F-8B9B-320EA3CE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C07F3-03EB-425D-96D7-C2B68939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4F055-8EA9-4646-A94A-FADF4D64E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4C500-8F51-4FF6-A347-376B39A3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5A365-E52B-4491-A2FC-4F005ECF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B2C39-2DF6-46BA-AB88-0C8B3D626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D6D3-0460-4EBB-AE56-D58062A4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882A-39B1-4D41-99D1-58E15B5D8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A0B7A-7BD5-4965-BFE3-E98ADD27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22ADD-8EB0-46EB-917D-FDA1498C8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A7F-ACF7-47B1-B753-908A3425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61EB-8125-4068-BDEE-EE3EA289A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0425-4447-472D-AB56-E6B95E08B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2071-17F9-420F-B3D8-E10220383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7C36-3CDB-4EB5-859E-8B472C8B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5350-5E8A-4F79-AEBE-4F79265DB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BEA0-1211-4FDA-8BCC-3DAC167F9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204-D857-4DE8-97D7-B1E3E8BA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3517-3C9F-4305-BE64-3F7CD78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9283-DAD8-4728-99E2-BA957ACF77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D86F-B8CB-4B51-B7A2-654080CD75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2.5a | About half of adult health spending is for chronic conditions; 90 percent of spending is on adults having at least 1 such condition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91" name="Object 3" descr=""/>
          <p:cNvPicPr/>
          <p:nvPr/>
        </p:nvPicPr>
        <p:blipFill>
          <a:blip r:embed="rId1"/>
          <a:stretch/>
        </p:blipFill>
        <p:spPr>
          <a:xfrm>
            <a:off x="254160" y="787320"/>
            <a:ext cx="8559720" cy="6121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2.5a | About half of adult health spending is for chronic conditions; 90 percent of spending is on adults having at least 1 such condition</dc:description>
  <dc:language>en-US</dc:language>
  <cp:lastModifiedBy>Jia Yao</cp:lastModifiedBy>
  <cp:lastPrinted>2002-05-16T21:44:34Z</cp:lastPrinted>
  <dcterms:modified xsi:type="dcterms:W3CDTF">2013-09-04T18:13:25Z</dcterms:modified>
  <cp:revision>3465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2.5a | About half of adult health spending is for chronic conditions; 90 percent of spending is on adults having at least 1 such condition</vt:lpwstr>
  </property>
</Properties>
</file>