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8678-5B64-4D03-91DE-2DDF082994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A47E5-7135-4545-BE63-E6DBE87E775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5b | AVERAGE EXPENDITURES FOR TREATMENT OF ACUTE CONDITIONS, BY CHRONIC CONDITION STATUS AND AGE,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90C0-FE92-495D-B5D0-21CC76C15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AA15D-6FF6-4386-9F64-AE046A2D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0FE6-9B96-42C3-927C-C8C79179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90200-0CBC-4154-838B-EBE551E99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420F6-2249-4218-9BD3-4509E3312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E3E98-3B5C-460A-BE59-95E82324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7CC63-9AB7-47EA-B8D9-386565E0E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A01B2-627B-476C-A9F7-60A920DC6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60F0E-5998-4D73-BD06-461C9E2C5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1BD39-B934-4706-8AE4-1D94EB7C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52824-E59F-43EA-A4BA-736B1C6DC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C277-20BD-4A91-945D-5C2197370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A4436-A5EF-43E9-91C9-DDFBAFCDC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F7346-A439-458F-BD51-6675053D0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7536-A267-485C-8A30-A630105E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B473-4C93-4801-B798-89F81162F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9BFB-C242-48DB-AD23-A3225B767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4D15-42E4-4D4C-838E-01A84201E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F6ED-A459-4E57-8CC8-1C3F809B0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901C-C38D-4386-B8AC-F104F0BB0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76B3-D68C-4150-9CB5-E65271CF4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FE8-D41C-47D3-B36D-4D46D2A39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8BA-E448-45F4-97D1-7D3519E4F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E4B0-B82A-473F-BA3E-BD700235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D0E73-520D-4AD9-AC17-240B5C3394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C2055-BADB-4893-9AB7-02761D46CE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5b | Compared to those without chronic illness, annual health costs are 2 to 3 times as high for adults with one or more chronic condition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406440" y="787320"/>
            <a:ext cx="83311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1"/>
          <p:cNvSpPr/>
          <p:nvPr/>
        </p:nvSpPr>
        <p:spPr>
          <a:xfrm>
            <a:off x="304920" y="5810400"/>
            <a:ext cx="293364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ourc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e: Machlin S, JW Cohen and K Beauregard. Health Care Expenses for Adults with Chronic Conditions,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2005. </a:t>
            </a: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Statistical Brief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#203. May 2008. Agency for Healthcare Research and Quality. Rockville MD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ttp://www.meps.ahrq.gov/mepsweb/data_files/publications/st203.pdf (accessed November 14, 2010)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TextBox 5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5b | Compared to those without chronic illness, annual health costs are 2 to 3 times as high for adults with one or more chronic conditions</dc:description>
  <dc:language>en-US</dc:language>
  <cp:lastModifiedBy>Jia Yao</cp:lastModifiedBy>
  <cp:lastPrinted>2002-05-16T21:44:34Z</cp:lastPrinted>
  <dcterms:modified xsi:type="dcterms:W3CDTF">2013-09-04T18:13:27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5b | Compared to those without chronic illness, annual health costs are 2 to 3 times as high for adults with one or more chronic conditions</vt:lpwstr>
  </property>
</Properties>
</file>