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D3F0-96E0-47DD-875C-0925B21313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D6FE-2111-4527-A5A1-E336AA3C2E6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3c | ADMINISTRATIVE EXPENSES OF PRIVATE HEALTH PLANS AND TRADITIONAL MEDICARE, 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EEC0-C9C4-47F9-97E0-536FC2C3A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3A48-3814-46C9-93C4-762F4818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5B50-04C5-42BF-84CF-8A63389D8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4D62-B06B-406F-A9D1-95BA3180B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B93F-714A-4D0B-A03F-92720BF64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4846-F0EC-47BA-93A0-BF0F6C74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34FE5-0001-4CE9-92B9-9549F45E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D5126-7A80-49C1-B031-165996F1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BC27-7542-4BFD-822C-8C697A68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F831-6C73-4692-8B09-7681F6B4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907A-A8D3-4C3A-A122-9382044C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8C0A-AD2C-4F6A-B599-E36C1A79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A9BA-EC3F-4721-BA09-238B8199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2B64-D804-4FC4-B8A7-BCA8FEC8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B4B6-810D-4701-A67D-59FCC889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6F22-4290-427E-961C-6A08464ED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43F4-F61E-4E35-8532-A65FC368A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8A94-8BA4-40F7-A9CD-396E2D07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E2A3-DF87-44BF-B2DE-797AC5BF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4D1E-5FBD-48E8-9E64-9EF013FE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6596-B512-4976-A528-2F725B26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1ED5-0043-4AFF-8EF3-AF14EB30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8808-A744-4BA7-9B1C-6CE5F390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7BFA-C00B-4BA0-AF45-ACAE37D3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CFFE-54B5-4F13-B266-45479630C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BE93-98A7-4E17-88C7-B8F1F27F49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3c | On a per member per month basis, Medicare’s purported cost advantage over private plans is small or non-existent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77840" y="787320"/>
            <a:ext cx="8969400" cy="482616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457200" y="5562720"/>
            <a:ext cx="2933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: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herlock DB.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Administrative Expenses of Health Plans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. Prepared for the Blue Cross Blu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hield Association. October 2009. Available at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ttp://www.bcbs.com/issues/uninsured/Sherlock-Report-FINAL.pdf (accessed February 2010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3c | On a per member per month basis, Medicare’s purported cost advantage over private plans is small or non-existent </dc:description>
  <dc:language>en-US</dc:language>
  <cp:lastModifiedBy>Jia Yao</cp:lastModifiedBy>
  <cp:lastPrinted>2002-05-16T21:44:34Z</cp:lastPrinted>
  <dcterms:modified xsi:type="dcterms:W3CDTF">2013-09-04T18:13:20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3c | On a per member per month basis, Medicare’s purported cost advantage over private plans is small or non-existent </vt:lpwstr>
  </property>
</Properties>
</file>