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29A-2E92-46B3-958C-CB2AE6EE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602-60FA-44B3-A036-D503A500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224-B9B1-47E4-8463-72946C1F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C3A-1E8B-46EA-A316-6DA44067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926-24A5-431D-B0C0-F34FC9E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531-AAF3-4DBD-AB9F-1E0E3F95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1F5-EE66-4184-AA58-667C4DCB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ED6-D1E9-4CE1-93D1-2073F0D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8A8-2E8F-4535-A055-F4FC5F8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116-3184-43D9-A197-5DEAF7CE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560-B7C4-468D-9D06-56CF853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CA4-9DC9-4D72-A24C-7485B4A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EA1-B7D5-4FBF-BE12-EE0880F5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" y="990720"/>
            <a:ext cx="912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0:52:45Z</dcterms:created>
  <dc:creator>Jia Yao</dc:creator>
  <dc:description/>
  <dc:language>en-US</dc:language>
  <cp:lastModifiedBy>Jia Yao</cp:lastModifiedBy>
  <dcterms:modified xsi:type="dcterms:W3CDTF">2013-09-06T20:54:08Z</dcterms:modified>
  <cp:revision>1</cp:revision>
  <dc:subject/>
  <dc:title>PowerPoint Presentation</dc:title>
</cp:coreProperties>
</file>