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E3C4-3008-4434-85AE-8555D620F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36A3-EBD9-48B7-AF16-21E0A89AB7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a | ADMINISTRATIVE EXPENSES OF U.S. PRIVATE HEALTH PLANS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C0B-5A43-4D6F-B6EB-F81A57BC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451-2B8A-4355-9D52-8510B35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7A0-DF31-47E2-A6B4-816301F7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FF9-621A-486E-9415-EF8918F6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A96A-9FE6-4889-9494-8D17459D7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B82F-E323-4151-A5B8-D5AE0FF3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B409-16B6-4A30-A90A-9E6ECF08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EA9B-AF7F-4536-9296-5B75296E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9E6-ECA7-493D-B3FE-BF811B4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6AF1-39DD-4B3C-8521-1858D12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D2C3-4151-435E-B060-B0007AF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6BB-1579-4FB3-83FD-D0842A0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A618-0150-4AB1-B5C2-78BAF091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C7D1-D7C5-407A-8EFA-ACA3002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31C6-24F9-46E5-8FF9-A0A884B1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3495-F8A0-45C5-A3DA-28A0D8AA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8FB6-FE0F-4F56-9CBD-870F9FEC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546-B740-4A67-994A-28023ED9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B64-C74C-441E-88D7-33511F09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874-9379-47E6-9970-9DBCDA4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D94-C4B5-4351-A4A9-6511762C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416-0C73-4AC4-8050-5C630CB7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A3C-7E4E-4A7F-8253-B8D73701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671-4D57-40CD-AC61-D5BC426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8B38-404A-4A8E-9890-6E7439C2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DA3-6F3B-4D16-9BE4-1CE5312E9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a | Due to economies of scale, administrative costs in the individual insurance market are at least twice as large as in the large group mar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a | Due to economies of scale, administrative costs in the individual insurance market are at least twice as large as in the large group market</dc:description>
  <dc:language>en-US</dc:language>
  <cp:lastModifiedBy>Jia Yao</cp:lastModifiedBy>
  <cp:lastPrinted>2002-05-16T21:44:34Z</cp:lastPrinted>
  <dcterms:modified xsi:type="dcterms:W3CDTF">2013-09-04T18:13:16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a | Due to economies of scale, administrative costs in the individual insurance market are at least twice as large as in the large group market</vt:lpwstr>
  </property>
</Properties>
</file>