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8C3A3-5E7D-48CE-B2F8-0BC7612AB5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4BA14-59B2-44FC-84EF-5AD445C47EEE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400" spc="-1" strike="noStrike">
                <a:solidFill>
                  <a:srgbClr val="7f7f7f"/>
                </a:solidFill>
                <a:latin typeface="Arial Narrow"/>
              </a:rPr>
              <a:t>2.3b | ADMINISTRATIVE EXPENSES OF PRIVATE HEALTH PLANS </a:t>
            </a:r>
            <a:br>
              <a:rPr sz="1400"/>
            </a:br>
            <a:r>
              <a:rPr b="1" lang="en-US" sz="1400" spc="-1" strike="noStrike">
                <a:solidFill>
                  <a:srgbClr val="7f7f7f"/>
                </a:solidFill>
                <a:latin typeface="Arial Narrow"/>
              </a:rPr>
              <a:t>AND TRADITIONAL MEDICARE, 2009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48645-BA3D-4EE5-8E34-18848C8C2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8F132-14CD-442F-8DC4-AA7C33D94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4D23C-96F4-4491-99FE-0842E93B2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0B989-DFE2-4B3D-B780-2E48AE461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DA224-7A39-4E09-AFD9-1EEB0E265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2DDB8-56A0-49CB-A7B2-ABE11FA84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497EF-4824-44D5-A539-22F973306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E316B-058F-4B6A-9FD7-A910828A3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207C8-22E2-431B-B1A7-932BBB736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51BE2-FD7F-412A-AF9C-BCB6F98C1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B2200-6AF1-44BF-9C2A-50345E367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AF948-234C-4C36-BF97-FBBAAA263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67015-C03A-46C4-AE42-433BE819C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DF3BD-8CCE-45A0-8808-DA5690161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05344-EC03-450B-8EF8-1B377B3A4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44F4A-456E-4290-8F68-269122947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13DF0-24BB-4EC6-8B69-5BC7ADD1D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533C2-5DE7-4085-872F-A53CA4883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EA6BE-EE58-4660-B199-E6940916A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9A4BB-B527-4464-87C4-F34971FAA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13B43-1B18-4E38-B558-67ADE73A1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D2829-5074-4BF0-B09B-05A305348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255FF-B8F0-4288-8144-ED92B663A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02F72-7637-42D2-BA79-50B351254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37C8F-F68E-4300-BA26-F5E3F4B8DF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C3773-2710-4110-9DD4-F46FCD17EB7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838188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3"/>
                </a:solidFill>
                <a:latin typeface="Arial Narrow"/>
              </a:rPr>
              <a:t>2.3b | If private health insurance covered a similar mix of services as Medicare, this alone would cut average administrative costs by half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91" name="Object 3" descr=""/>
          <p:cNvPicPr/>
          <p:nvPr/>
        </p:nvPicPr>
        <p:blipFill>
          <a:blip r:embed="rId1"/>
          <a:stretch/>
        </p:blipFill>
        <p:spPr>
          <a:xfrm>
            <a:off x="177840" y="787320"/>
            <a:ext cx="8969400" cy="4826160"/>
          </a:xfrm>
          <a:prstGeom prst="rect">
            <a:avLst/>
          </a:prstGeom>
          <a:ln w="0">
            <a:noFill/>
          </a:ln>
        </p:spPr>
      </p:pic>
      <p:sp>
        <p:nvSpPr>
          <p:cNvPr id="92" name="TextBox 1"/>
          <p:cNvSpPr/>
          <p:nvPr/>
        </p:nvSpPr>
        <p:spPr>
          <a:xfrm>
            <a:off x="457200" y="5562720"/>
            <a:ext cx="29336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Source: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herlock DB. </a:t>
            </a:r>
            <a:r>
              <a:rPr b="0" i="1" lang="en-US" sz="1800" spc="-1" strike="noStrike">
                <a:solidFill>
                  <a:srgbClr val="000000"/>
                </a:solidFill>
                <a:latin typeface="Arial Narrow"/>
              </a:rPr>
              <a:t>Administrative Expenses of Health Plans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. Prepared for the Blue Cross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Blue Shield Association. October 2009. Available at: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http://www.bcbs.com/issues/uninsured/Sherlock-Report-FINAL.pdf (accessed February 2010)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TextBox 6"/>
          <p:cNvSpPr/>
          <p:nvPr/>
        </p:nvSpPr>
        <p:spPr>
          <a:xfrm rot="16200000">
            <a:off x="-2305440" y="37324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5T21:37:09Z</dcterms:created>
  <dc:creator>conoverc</dc:creator>
  <dc:description>2.3b | If private health insurance covered a similar mix of services as Medicare, this alone would cut average administrative costs by half</dc:description>
  <dc:language>en-US</dc:language>
  <cp:lastModifiedBy>Jia Yao</cp:lastModifiedBy>
  <cp:lastPrinted>2002-05-16T21:44:34Z</cp:lastPrinted>
  <dcterms:modified xsi:type="dcterms:W3CDTF">2013-09-04T18:13:18Z</dcterms:modified>
  <cp:revision>3465</cp:revision>
  <dc:subject/>
  <dc:title>Financing the U.S. Health System: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Financing the U.S. Health System: 1</vt:lpwstr>
  </property>
  <property fmtid="{D5CDD505-2E9C-101B-9397-08002B2CF9AE}" pid="3" name="SlideDescription">
    <vt:lpwstr>2.3b | If private health insurance covered a similar mix of services as Medicare, this alone would cut average administrative costs by half</vt:lpwstr>
  </property>
</Properties>
</file>