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0AA-1721-4A52-863F-33215F6C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EB0-B06D-4B5F-93D2-3F90A18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9B43-F25A-43BB-9020-6FEB7B29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762-C976-4259-93CE-8589A6E3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051-F09B-4BCD-8586-20A1453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23E-EF0A-4113-8B69-06631DAF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63B-5FE3-49A2-B305-E21817F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241-D981-4B52-86E9-7C03FA2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0D2-86B0-4477-98D5-DF6BD8C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59F-264F-4054-A9A4-FB66C00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A07-F874-4B82-AA85-E4B24E1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E68-0D26-4B93-B543-F5862C9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F6B7-A875-4AF3-98BE-9D9B06979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3Z</dcterms:modified>
  <cp:revision>6</cp:revision>
  <dc:subject/>
  <dc:title>PowerPoint Presentation</dc:title>
</cp:coreProperties>
</file>