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C968-3FAC-45F8-BAC9-7678D925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C75A-6552-47AF-8796-B3F46502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2530-138F-4AD3-888D-3C05ACF8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6AD8-5BF5-4C80-9237-1BFAF371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CEB9-0469-439D-9CA0-A9D7483F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B584-7B92-4F36-BC6F-E9B13042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53F-0487-4940-9D2D-82EC5D54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392-F48F-42D0-848F-237461DC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529-C006-4D28-9644-E4911852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DD9-35A8-410A-8344-9F6568E9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A41-553B-44DD-82A9-FDB9979B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8ED-5D5A-44CE-B1F5-98C6D066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2D26-5E51-4B14-BDB3-173EF75FF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2Z</dcterms:modified>
  <cp:revision>6</cp:revision>
  <dc:subject/>
  <dc:title>PowerPoint Presentation</dc:title>
</cp:coreProperties>
</file>