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84F-BCB5-4768-9445-A92F2FE2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140-E3E0-46E0-A3FD-E7ABFB95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41F-83BE-4C2C-9024-D8714EC4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F4B-2B0D-4473-8A6C-63363930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7C73-0F0C-4F54-8AD1-25B8EC11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B97-03B1-4478-AFED-0147F0CC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D91-850F-4F6C-AD53-94D70428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88D-1EBB-4B51-BA0C-7D38E05E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FB9-6D92-460A-9860-86BCAD30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829-E601-49F7-8787-6451A7DE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F6E-7C18-4AC7-A15F-441EE7E4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7B9-D1D6-45ED-A0CE-CA977C87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F84A-0805-44EA-AC23-64A26475D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3Z</dcterms:modified>
  <cp:revision>6</cp:revision>
  <dc:subject/>
  <dc:title>PowerPoint Presentation</dc:title>
</cp:coreProperties>
</file>