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B51-8449-4767-B5BC-DF4BE5D3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0C7-B2A2-4055-96A6-9AC622B3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D754-E074-4D14-8A91-5FA689FD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57C-E982-44E6-8E10-E1BE209E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A82-A924-471F-AA72-8226BBD9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987-AE51-48C4-8E0C-FDCC1DE3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ECE-F73D-401A-8F27-560B9C3D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070-4051-4138-A0CF-F961840E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618D-F29F-44E5-B3D6-89EEBDE3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BBC-1C74-42BA-BB68-0C629F47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538-4CA7-48CA-869B-B795FECE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A84-2D76-423A-BF90-5EE41743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A184-3EE5-4D67-B1A4-FFC8525A7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1160" y="990720"/>
            <a:ext cx="91216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0:52:45Z</dcterms:created>
  <dc:creator>Jia Yao</dc:creator>
  <dc:description/>
  <dc:language>en-US</dc:language>
  <cp:lastModifiedBy>Jia Yao</cp:lastModifiedBy>
  <dcterms:modified xsi:type="dcterms:W3CDTF">2013-09-06T20:54:08Z</dcterms:modified>
  <cp:revision>1</cp:revision>
  <dc:subject/>
  <dc:title>PowerPoint Presentation</dc:title>
</cp:coreProperties>
</file>