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3938-4BF6-4714-9C3E-C11C0B889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A53A-1AC6-48E5-9D1D-3287720160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2 | U.S. TOTAL REAL PERSONAL HEALTH CARE EXPENDITURES PER CAPITA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DDF-DCDF-4A4F-A216-D3E9F38B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858-8AD5-4F8D-8604-D156091D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16F-1EB6-4609-83B8-C7DDA62D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6D4-F039-419B-A46F-6E893496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7F86-80A8-41BC-BAE3-5B0D756C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1A97-61C0-4A49-AC6F-5DE39199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9EE6-305D-4878-84EC-0CB2837B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9756-6C05-45DB-8C69-62342C38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F9D7-4141-4114-9DB7-FA33D09F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6734-C0A5-44EF-BE95-A0D3C830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408F-3285-4889-9A62-18472AB4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B3E-F246-4DC2-9937-56395222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2ED2-C580-4CD7-B442-C98879A8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88F0-6147-4B8F-83A8-2997976A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3DA9-1DCE-4768-B43D-619E76DC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A95D-8027-409C-A8DB-41EC8F4B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39DF-25D0-4776-9919-0EC240AA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35E-6E94-4345-BAAA-67A8F0BC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A2F-C5D0-4BA6-8D28-086768EE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09F-AE58-47A4-915C-B2ABCE40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907-088E-4B14-840B-DFE7EA97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125-D7B4-411B-AA60-4F1E738D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66D-F9B5-4EB5-8B75-0163CC00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581-F179-41BB-AE85-61364DAB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3B83-1507-4604-B804-157ED26F4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EC95-4CAB-411B-81DF-BEAF133A4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2 | The rate of growth in PHCE per capita much is slower when adjusted for the effect of rising health prices or general infla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2 | The rate of growth in PHCE per capita much is slower when adjusted for the effect of rising health prices or general inflation</dc:description>
  <dc:language>en-US</dc:language>
  <cp:lastModifiedBy>Jia Yao</cp:lastModifiedBy>
  <cp:lastPrinted>2002-05-16T21:44:34Z</cp:lastPrinted>
  <dcterms:modified xsi:type="dcterms:W3CDTF">2013-09-04T18:13:14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2 | The rate of growth in PHCE per capita much is slower when adjusted for the effect of rising health prices or general inflation</vt:lpwstr>
  </property>
</Properties>
</file>