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54B2-446B-4A97-9FF1-454E7847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A57F-A5DB-4C8B-B425-43F7319E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B07D-7DB4-4FA0-BD4F-AD42607E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FE6F-2B84-4C09-80A3-69972239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DD3E-B389-44BE-B71B-481898F2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D69E-CDD6-4690-8FDC-818E0C1E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3894-3DF2-43F4-9056-55BD2414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209C-8D0B-4BA7-9107-2BBF73E1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EFB0-D23D-4AB5-BF74-50151386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B9D4-6F2A-460B-8721-16166316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F99E-B65D-40F2-BF48-AA7AEA6C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7588-3755-481E-9174-806E8987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CE23-3FE1-43B9-A6BE-AA0CDA13B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162080" y="52560"/>
            <a:ext cx="6819840" cy="67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1Z</dcterms:modified>
  <cp:revision>4</cp:revision>
  <dc:subject/>
  <dc:title>PowerPoint Presentation</dc:title>
</cp:coreProperties>
</file>