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862-C91B-475F-8FAF-9AB95245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ED8-D3F5-4015-9657-2C517F16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A06-2D73-42F7-AB41-1A512ED2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ECB-6E4F-4D54-B688-15271153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1E6-B18B-4B28-917F-F5BCE672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25B-63B4-41E5-8E9A-A20E170F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062-FE46-488F-826D-36B73E82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3DE-B65D-495B-928A-3A089661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2B4-A279-47C1-B917-582D635F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B18-9B39-4231-AA9E-C3258695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DFB3-57FB-4D53-88E5-41CE6D59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D15-A281-4BBE-8FA2-446F7097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D558-C5E9-4D8B-8EEB-1C1B2D56C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162080" y="52560"/>
            <a:ext cx="681984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1Z</dcterms:modified>
  <cp:revision>4</cp:revision>
  <dc:subject/>
  <dc:title>PowerPoint Presentation</dc:title>
</cp:coreProperties>
</file>