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ECBA-9103-4F9D-B3D7-520021402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49C-05A9-4CA4-89A3-59F8C99DA0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2 | U.S. TOTAL REAL PERSONAL HEALTH CARE EXPENDITURES PER CAPITA, 1929-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5B3-F90E-4E60-927C-DE8B2A28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1C6-36B9-4331-AF49-C4B2B98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0B1-C40C-4645-B649-2B390142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9D1-F98C-4BC9-B736-1FB84D90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F43A-3431-4A6C-87E1-2FA5F927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A64B-C608-4654-895F-62858C3D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FA3-9494-4E4C-9177-E1669C1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6A47-B666-479E-9CC5-D4DF33C7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4479-F91F-4FEB-AAD4-393FE0B3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4CFD-08EA-407D-A232-52FF3A95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E872-1CCC-47F2-B56C-9143BC9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203-6281-4F1D-9A1F-5005C19F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C3D3-3681-47F5-B2E5-9551676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06F-481D-44D0-AA28-779A0C9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2CAA-3FB0-411A-8374-7FC9CB6D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3087-ECEE-4F9E-A764-4F158D04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13C-E72D-43B9-93B4-5A133F64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BC3-E0AD-4D0F-B02B-9031331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546-089C-4590-82F6-FE34A486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D1B-2D35-411E-9E46-71921DB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B62-0DFC-4181-B9D6-25137CD8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69A-5D5D-488B-BC8F-C935F91E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073-224D-4CF8-A124-1BC04E28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363-BB3C-4946-9797-B5574224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591-1F48-4A70-8B92-9CE3E0082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3556-8719-4536-84F4-355E2E854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2 | The rate of growth in PHCE per capita much is slower when adjusted for the effect of rising health prices or general infla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2 | The rate of growth in PHCE per capita much is slower when adjusted for the effect of rising health prices or general inflation</dc:description>
  <dc:language>en-US</dc:language>
  <cp:lastModifiedBy>Jia Yao</cp:lastModifiedBy>
  <cp:lastPrinted>2002-05-16T21:44:34Z</cp:lastPrinted>
  <dcterms:modified xsi:type="dcterms:W3CDTF">2013-09-04T18:13:14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2 | The rate of growth in PHCE per capita much is slower when adjusted for the effect of rising health prices or general inflation</vt:lpwstr>
  </property>
</Properties>
</file>