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5BFA-25EC-4E49-9664-C082CA4DC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09F0-18BB-4401-9F40-40DD376D3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07E5-F14B-4F29-BF0B-4ED1F0427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3AF2-7B3B-4F55-93BA-15DEEC751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9C37-94E6-443A-8E37-0C77142EA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8F35-62E3-4BC1-A4F0-3F0C5936B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0618-8531-42A4-A21D-1912323E2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7196-FA77-4211-B41F-AF065C19D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2FA2-D5D4-4C74-8AB7-C27EE1F9A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A839-1B8A-4BB3-A568-E5F9B762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C4B0-6A5D-4E14-BB44-6EB7F60D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114F-F8A8-4158-839E-7F48C11A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DB561-1A5D-4248-A25D-E4EE0ABAE6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57240" y="228600"/>
            <a:ext cx="90295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41:58Z</dcterms:modified>
  <cp:revision>4</cp:revision>
  <dc:subject/>
  <dc:title>PowerPoint Presentation</dc:title>
</cp:coreProperties>
</file>