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8D7B-A4C0-478B-9B50-9E9E3B2567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98F8-F9DE-4733-9E57-E782CC5BE76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1b | DISTRIBUTION OF NHE BY TYPE OF EXPENDITURE, 1929-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84F3-5570-4B26-A4DD-219770EB1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2818-F4F7-42A2-87E9-A3E70569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7E53-DBAC-4E9B-B742-714690AD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E4A6-6720-43DF-A853-DD9F64A97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653B-1CCF-4D1D-AEFF-79714A8E5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7515-6C8E-4609-8544-339947DC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FB5C-8C80-4751-A4DB-F2F7768E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74D9-66DA-498B-9760-A142BA6F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3FE2-A149-46D1-AC35-2D1224A3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DA79-C4B1-4450-AFC0-3CBE2030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7D3C-97C9-44DD-BE18-1798F322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11A2-9F63-4F62-9448-111C62BC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CE01-265F-4658-A46C-4E8EEA7F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34A0-AFAE-4069-845B-B99CE578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B777-0850-4969-B5CC-3E83B36B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F362-2B37-400A-9DB4-D7C5D592A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FB7D-2BD9-409F-94FD-653D7680C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F67D-797A-4EAF-A3B4-EAEDFAFD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DBDB-0E5E-411C-B489-9AF76B7C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D5A2-C2AF-4501-B0D6-DF1C9949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7F1A-554F-49DE-8259-5C0021C7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6EAE-251A-4B62-B6DD-2E8B8EB5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A270-03AF-4AF9-B3A0-2C38711A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070B-6964-43A4-B74C-14BA752C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A661-0CDE-4EEF-AC45-FCC8CC274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B5AE-7AE9-47D2-8657-6D92CB0D2B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1b | For over four decades, spending on personal health care has exceeded four-fifths of national health outlay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1b | For over four decades, spending on personal health care has exceeded four-fifths of national health outlays</dc:description>
  <dc:language>en-US</dc:language>
  <cp:lastModifiedBy>Jia Yao</cp:lastModifiedBy>
  <cp:lastPrinted>2002-05-16T21:44:34Z</cp:lastPrinted>
  <dcterms:modified xsi:type="dcterms:W3CDTF">2013-09-04T18:13:12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1b | For over four decades, spending on personal health care has exceeded four-fifths of national health outlays</vt:lpwstr>
  </property>
</Properties>
</file>