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16AC-71BA-4817-BFA8-0C1AFFB98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21B1-2359-400C-BEA8-1305505887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a | NATIONAL HEALTH EXPENDITURES BY TYPE OF EXPENDITU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Centers for Medicare and Medicaid Services, Office of the Actuary. National Health Expenditure (NHE) Amounts by Type of Expenditure and Source of Funds: Calendar Years 1965-2019 in PROJECTIONS format. Last updated January 29, 2010. Available at: http://www.cms.hhs.gov/NationalHealthExpendData/downloads/nhe65-18.zip (accessed February 3, 2010).  See Center for Health Policy. Table  2.1. U.S. National Health Expenditures by Type of Expenditure: 1929 to 2019. Durham: Duke University, March 14, 20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A08-B50C-4FD2-AB2A-F9487EC0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EA2-6F4F-4C3E-9D56-ADF96CD8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1F1-2751-4B67-86BE-A6C222B9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BB1-34EC-4885-90C5-86DD985C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2DE7-680F-4D47-A278-9362D515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B987-973C-479E-AE23-0E2FDAA8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89B-3A51-4123-86EC-A8108A61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8DE3-8C01-4665-A907-75A1B6E8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BDCE-11DF-4399-B749-DD64A691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2BF8-0795-4F10-9BAC-0BC543DF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C264-BDFC-46E0-B12D-607A9B0C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540-EE8D-4A3B-A7F2-19D60558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9C20-8834-4F9B-8200-B7901FB0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3F55-8FCA-4644-9E56-E572EAED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1E20-69B5-4034-A8AF-360F6564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2C2-4ED0-4F1B-A433-2C4D773E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4C3F-2BE1-482E-B59A-1AE649C0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923-70AF-4189-A37E-6A3E8507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445-DE08-4610-9570-14E4631C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02A-69C3-4EAA-BF35-79392C63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04A-FEC1-4B6A-BB46-C6C7DC1A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22F-8B54-40A3-A727-162BB61A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939-2163-433A-BD62-831D52E7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1C7-E9E2-438E-9C28-9C9ACE46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80B6-6B86-4622-B33E-738ABFB6E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BAAD-8B8F-4937-ABF5-BE8C243A1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a | Five-sixths of national health expenditures (NHE) is devoted to personal health care expenditures (PHC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5"/>
          <p:cNvCxnSpPr/>
          <p:nvPr/>
        </p:nvCxnSpPr>
        <p:spPr>
          <a:xfrm flipV="1">
            <a:off x="4572000" y="3428640"/>
            <a:ext cx="457920" cy="99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a | Five-sixths of national health expenditures (NHE) is devoted to personal health care expenditures (PHCE) </dc:description>
  <dc:language>en-US</dc:language>
  <cp:lastModifiedBy>Jia Yao</cp:lastModifiedBy>
  <cp:lastPrinted>2002-05-16T21:44:34Z</cp:lastPrinted>
  <dcterms:modified xsi:type="dcterms:W3CDTF">2013-09-04T18:13:1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a | Five-sixths of national health expenditures (NHE) is devoted to personal health care expenditures (PHCE) </vt:lpwstr>
  </property>
</Properties>
</file>