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B1A-2F0A-48AB-B8C9-876DBB3E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FFE-F60E-4F10-A938-3DF9C952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31C-AB5A-4806-AD5C-06F8C0EC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B74-EAB2-483F-8232-D3C317C6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AB6-68D8-4A3A-9505-0CB25C5B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16F-6874-4641-93FB-50935C94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D71-A70F-4E98-8A77-5BAB9BAF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C2A-3760-4114-989F-1451A2A9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DE8-21E1-49E1-9F23-3947E182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99A-6A77-4F43-BA60-82B5B4F5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27B-4117-4A94-93E2-17A8AAC7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B6C-BE2C-4EAA-A1FD-86E1DCE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04BB-9754-4204-96E9-0E4FA9560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228600"/>
            <a:ext cx="9029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1:58Z</dcterms:modified>
  <cp:revision>4</cp:revision>
  <dc:subject/>
  <dc:title>PowerPoint Presentation</dc:title>
</cp:coreProperties>
</file>