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8BAA-DA45-4C2B-8AC6-28174A803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A285-E827-4B4C-876B-01C7EB8A13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a | NATIONAL HEALTH EXPENDITURES BY TYPE OF EXPENDITU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Centers for Medicare and Medicaid Services, Office of the Actuary. National Health Expenditure (NHE) Amounts by Type of Expenditure and Source of Funds: Calendar Years 1965-2019 in PROJECTIONS format. Last updated January 29, 2010. Available at: http://www.cms.hhs.gov/NationalHealthExpendData/downloads/nhe65-18.zip (accessed February 3, 2010).  See Center for Health Policy. Table  2.1. U.S. National Health Expenditures by Type of Expenditure: 1929 to 2019. Durham: Duke University, March 14,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614-4EAD-480C-A47C-B763D60F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6CC-E300-4E42-9B46-284E3040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AE2-9662-41E8-93F9-B4ABB72D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735-D9E6-49FA-929A-6E5A1F66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3E86-8645-4C37-BE5E-1E52A0B3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A7B5-D22F-48D9-B838-BA7F62B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2F1B-A834-42B6-AC96-3FF2D697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C2CC-2022-45F9-88EB-4A5A1246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DADC-2FCA-428E-BC19-F77A6CBF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AA16-59B6-4F69-A395-447CEF12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C14D-A658-44A0-826E-AAD5D87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350-6F24-4C73-A144-FAA8AF02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50B3-1873-4F05-BA5C-D4328201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6AB2-1F55-476C-A344-7EE9094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5175-482A-449A-9820-D9ECD871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DB6E-BCD4-449E-84E4-4F14B947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320A-50B8-4B24-9170-45B825DA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D41-9B92-4C37-BA11-7EDEF06F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6DC-3C2C-4CF3-810A-ADC96BA0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A4A-60AE-4C1A-8181-31007F2E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BEE-D2FC-4DAC-B3EC-2A5F8B90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C79-C04F-4D3D-807B-B9181B06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826-9115-4A83-8EF3-EB158E1C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53E-5CB0-4B83-8359-A158DEA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AA0E-64CE-468A-B840-2819E1263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B034-4F8F-4C48-A2E0-A475E9F3F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a | Five-sixths of national health expenditures (NHE) is devoted to personal health care expenditures (PHC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5"/>
          <p:cNvCxnSpPr/>
          <p:nvPr/>
        </p:nvCxnSpPr>
        <p:spPr>
          <a:xfrm flipV="1">
            <a:off x="4572000" y="3428640"/>
            <a:ext cx="45792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a | Five-sixths of national health expenditures (NHE) is devoted to personal health care expenditures (PHCE) </dc:description>
  <dc:language>en-US</dc:language>
  <cp:lastModifiedBy>Jia Yao</cp:lastModifiedBy>
  <cp:lastPrinted>2002-05-16T21:44:34Z</cp:lastPrinted>
  <dcterms:modified xsi:type="dcterms:W3CDTF">2013-09-04T18:13:1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a | Five-sixths of national health expenditures (NHE) is devoted to personal health care expenditures (PHCE) </vt:lpwstr>
  </property>
</Properties>
</file>