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1B0-58FA-422B-AF16-8794DD25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C30-911C-4576-A836-171D55C5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85C-3810-4BF4-9311-827C0FB3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C1F-EE76-49EC-858E-835EAB71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C5A-B874-4952-B484-A9195E77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262-F1B0-4D14-820B-0B088525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8BC-3C86-484A-ADDB-52388B6B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CE2-6EC6-438B-8B79-B8D8B964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155-C04F-4204-A1A1-A5E8E19A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519-BC84-472E-ABF9-579DDD0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8B0-577A-4AED-ABC8-91FF09F2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C58-896E-46E8-A196-A1A6B4D4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908-6D0E-441C-8CA9-A1473AD7A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1:58Z</dcterms:modified>
  <cp:revision>4</cp:revision>
  <dc:subject/>
  <dc:title>PowerPoint Presentation</dc:title>
</cp:coreProperties>
</file>