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6CF-2AB7-402C-A8EE-04A5FE9B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142-C444-4C8B-8773-D3129AF8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594-080B-4056-BC3D-D56021E0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D45-655E-47EA-A2AC-572ADA7E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5C3-0BE5-4E28-88BC-918DB752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703-7A86-42FA-865F-48618255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218-ED1D-4749-876F-790CA605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C9F-E6C0-4C84-905F-AB9469F7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EF4-6DF2-4488-916A-AF745CD3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C54-2E91-4982-B779-1F854252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593-BFC7-4A62-851A-D62CEC13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F7C-B275-4BE5-B819-40167C9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B8DA-2A60-4652-822A-B849D92A3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91328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37:21Z</dcterms:modified>
  <cp:revision>4</cp:revision>
  <dc:subject/>
  <dc:title>PowerPoint Presentation</dc:title>
</cp:coreProperties>
</file>