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2D8E-8317-466A-B778-4D79DEF7A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5D8D-53A2-44BF-90EC-2C1E7F01A6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b | DISTRIBUTION OF NHE BY TYPE OF EXPENDITUR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122-8797-452C-B21C-E463FC85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2E8-D878-4FA6-9F7F-B0B9266A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217-C5E3-4E3F-9AA2-2D660518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B7F-F6F5-4C4D-8C87-689AA5D3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3ED6-BEA1-4770-85F8-C20F3903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9BA4-5027-4F51-B4C1-8B94EEB3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96B0-A125-43D6-8A24-CD711990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7297-B295-4EF5-AAEC-0E610B32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1E0D-6BA0-43AE-ADF7-95CA01E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7C35-A858-4ACB-83BF-ECAF3F2C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D915-CAEE-461D-8301-032641CA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C0F-55ED-413D-A9A5-74E3397A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8245-6CCE-4FF9-B516-5ABBBC6F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7196-1A8A-4555-B807-69D60C52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2482-2B95-4F62-BEF1-24595B7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6C6F-D758-46C7-B084-E81A8DF9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38D6-F145-4EF5-830A-8C21CF27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A83-5310-4394-9EB9-1C3E37DB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1E9-914A-400F-9077-247FE68A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DC1-A9B2-4B18-8050-7CBACDB3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714-8347-45E4-AFBA-D786AA58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7A1-502D-45DD-8C70-4628393B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DD5-6661-48DE-B3D3-26273E97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1EA-7EAC-47E6-BB1B-609F1102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F77B-D80C-45E4-8D34-642BB7D24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9A8D-F67C-40BC-A22D-2B54785C5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b | For over four decades, spending on personal health care has exceeded four-fifths of national health outlay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b | For over four decades, spending on personal health care has exceeded four-fifths of national health outlays</dc:description>
  <dc:language>en-US</dc:language>
  <cp:lastModifiedBy>Jia Yao</cp:lastModifiedBy>
  <cp:lastPrinted>2002-05-16T21:44:34Z</cp:lastPrinted>
  <dcterms:modified xsi:type="dcterms:W3CDTF">2013-09-04T18:13:12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b | For over four decades, spending on personal health care has exceeded four-fifths of national health outlays</vt:lpwstr>
  </property>
</Properties>
</file>