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4EEC-06A1-4630-8A72-BB07046F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1A2E-B5CC-44BB-B2E6-EA7DDB9D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3208-6DB4-49D7-99B1-99999037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9CCC-A3E6-4DCD-AE21-BBE5A19D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4B10-20FF-4275-9DD9-5B5EA57A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C242-BDF1-486C-9ED3-5C441792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1506-D12B-4E67-8FE1-891EF0C8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F6BC-188C-4233-96F2-003FF997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966-69A0-4089-99B6-17791291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44CB-3710-4432-931D-C6D1B4BB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A715-984D-4017-B424-F46BC8F4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514E-764F-4CB5-9CDB-43F92EE1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6938-AB10-4A53-B4E9-C3C3F5A76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60200"/>
            <a:ext cx="914400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7:42Z</dcterms:modified>
  <cp:revision>5</cp:revision>
  <dc:subject/>
  <dc:title>1.1a | In constant dollars, national health spending increased more than 60-fold over the past 8 decades, real GDP grew far less in this period</dc:title>
</cp:coreProperties>
</file>