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995-B0DD-4C3C-9E10-E763FC8F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EB5-D482-4C04-B681-A1912C94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83E1-7401-4AC2-B92C-79699165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2535-A44B-4BDE-A36C-3B991AD2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30A9-B60D-428C-8B81-102FD14C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675E-3EAE-4209-8120-1F9AB68A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1384-5D37-41A5-AA3F-BC641435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975-A77A-489C-8DE6-7EFEEA87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CFE-1A9C-40FD-8AAD-A0AC61CB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764-2241-4B82-9BC6-BB591589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870C-31E4-44AF-812C-2ED4845E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8D1-9D1B-4078-A050-3B9F095E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F808-57E7-4CB6-95EE-F26D1A5F5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228600"/>
            <a:ext cx="90374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6:54Z</dcterms:modified>
  <cp:revision>4</cp:revision>
  <dc:subject/>
  <dc:title>1.1a | In constant dollars, national health spending increased more than 60-fold over the past 8 decades, real GDP grew far less in this period</dc:title>
</cp:coreProperties>
</file>