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65724-91B5-4BC5-82B7-22EEE1A30D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A1E28-1FE5-4056-93BF-58FC4D0D6A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1.1b | REAL NATIONAL HEALTH EXPENDITURES PER CAPITA OF THE UNITED STATES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EBE3-5C96-48D3-8713-8DEBE4997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6908-1B83-444A-8CEA-C084F8661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DDA5-3443-42B2-8058-477B32CA8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E702-A2AA-4FFF-B24E-49F7BE754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B867E-C58E-44D5-9FCE-B13AD18DF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CF469-D892-473F-BB5D-F78D22021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3EE12-9123-4C58-A292-0C3A0DE00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B8B20-D3CB-4801-A8CB-6FE263B3C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0E3FB-4F50-4E6C-BF0D-CD0770E8D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C4082-0491-4135-B3AE-BCA9D7057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77571-616D-4B9B-81EF-3B2524F8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93CC-E763-4683-98E0-67EDEEB1B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C90D6-D016-4F21-8669-56BD05E4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CBF17-40F2-4BCD-95A1-23950234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A6493-0EBF-44D1-8350-DF2AF55A5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0D402-54FC-4064-8265-A872C6FBC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8C3F3-41D7-42A0-BDCD-7BF9FEF19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4A08-6FFE-4443-930F-DB82E5BA6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A8CA-2373-44BA-B4E4-8EAC56A93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DA18-2608-462E-9E9A-63633AA51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887C-E2F3-4EB1-930E-E60E5E880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A213-DD63-4497-8C1C-938F94CA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9F6D-ABAD-4592-A43B-61CABF47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C1B4-92BB-4BC1-80EF-141EAA9D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91ABD-B1E6-41E2-B958-1B82EFC80C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6E0FD-5EFA-4366-ADA5-C0CDF7C423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Arial Narrow"/>
              </a:rPr>
              <a:t>1.1b | Even in per capita terms, real health spending grew about 25-fold in just 80 years, while GDP per capita quintupl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TextBox 5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3T15:25:08Z</dcterms:created>
  <dc:creator>Jia Yao</dc:creator>
  <dc:description/>
  <dc:language>en-US</dc:language>
  <cp:lastModifiedBy>Jia Yao</cp:lastModifiedBy>
  <dcterms:modified xsi:type="dcterms:W3CDTF">2013-09-03T18:50:13Z</dcterms:modified>
  <cp:revision>4</cp:revision>
  <dc:subject/>
  <dc:title>1.5b Since 1960, growth in inflation-adjusted health costs per U.S. resident fell below the rise in non-health costs per capita only 7 times</dc:title>
</cp:coreProperties>
</file>