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A0495-53AF-4C20-8C73-4C0819E6FA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EC23A-A6B7-495B-AC8F-1DE772AC9A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1.1a | TOTAL REAL NATIONAL HEALTH EXPENDITURES OF THE UNITED STATES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190C-5B2E-484E-B35A-F6AF8F464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D55E-E314-4C20-BB54-C71BD2711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D58B-65C5-42DF-8820-3870EF7D3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6DF0-C42B-4E5D-8C43-AA1788A60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41906-3923-4EE4-B848-DDC8201F7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AD76B-AE40-4814-A402-0935C8F0C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11790-4B60-43BB-B12C-AA8600641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951C6-B240-4876-A3AA-9FDF1E9DE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0BD14-CB55-47BC-89B0-55DC69441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F81E3-C1D5-4CBD-B2E2-DBEC01FCC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C466E-A085-45E2-A972-6BFC166A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F98C-6CBC-46B8-B9F3-ED8052C7C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A021E-5D79-4D63-B175-DE2931EE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F8655-F680-4A6F-A3A7-C0F04882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846BA-3F2B-47CA-814A-351C63024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5CF59-5697-46F1-9839-63FE75E4F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8714F-A2AD-4E29-BFBE-F7EA869F3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37EE-B84D-4F48-9D81-2FCC85A24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AA7E-FE2A-4246-8EAC-F525330D9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83DF-21BA-4932-9AC1-BC41AC9F9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C162-084C-4BBA-A0CA-4EB249ED5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7048-5824-4B70-BB01-323886C7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B923-A76F-4D4C-9694-4A347EF2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B855-AF17-4EB3-8F7C-806E46D9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FBEA-EDB9-4EE6-8EB8-F0EB29D4C5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A34B-40CA-4639-A3D8-910E8F94A5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Arial Narrow"/>
              </a:rPr>
              <a:t>1.1a | In constant dollars, national health spending increased more than 60-fold over the past 8 decades, real GDP grew far less in this peri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3T15:05:56Z</dcterms:created>
  <dc:creator>Jia Yao</dc:creator>
  <dc:description/>
  <dc:language>en-US</dc:language>
  <cp:lastModifiedBy>Jia Yao</cp:lastModifiedBy>
  <dcterms:modified xsi:type="dcterms:W3CDTF">2013-09-03T18:50:56Z</dcterms:modified>
  <cp:revision>1</cp:revision>
  <dc:subject/>
  <dc:title>1.1a | In constant dollars, national health spending increased more than 60-fold over the past 8 decades, real GDP grew far less in this period</dc:title>
</cp:coreProperties>
</file>