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751E-8607-4446-8775-5322B4881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21C7-A435-42FC-A218-411A5D47E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b | REAL NATIONAL HEALTH EXPENDITURES PER CAPITA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8C5-38DA-48C6-A379-C8B8EDAB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962F-F66F-4A69-B95F-09D594B1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312-AF1B-4C34-B31F-451AB519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9FEB-7F80-4E3A-935C-FCA63DAA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2449-4944-4B67-850F-C18E72DE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1776-82A5-4F85-9B90-7B990503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BB72-BE43-4A02-A400-3FA852EE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CF57-6F52-4E41-B02F-98A9FC0A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B059-7180-4C71-9C63-984B8C83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A5CC-2941-4CDC-B04F-F34F2FE4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9D92-2F5E-4FA6-BCD4-8EC95AB8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9B72-288A-462E-AF46-CC3C65C6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E9D7-FD50-4194-BEDC-D36BF77E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1132-9E3F-420B-AA24-EE0F7CB7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E05B-4E30-4B58-B7B5-0CE608B1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21BE-89F4-4C0F-AF08-A3B47BD2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D274-1504-4422-A247-72A5A6CA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085-AA25-44FD-AA9C-8C247DF3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B92C-3188-41AE-B1CE-EA8F2C00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14C2-72F0-4FB0-8CBB-D5C910A8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05C-D556-408A-9746-3144205F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702-F123-4CFD-9172-02967E2B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31AC-54AC-4A5E-B189-295ABB32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D660-9D9E-4D40-B76A-646F4AD2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16A3-DC83-4F13-B302-1D42841F3A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8CB0-6AB2-4CBE-BAEF-5D41A9904E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b | Even in per capita terms, real health spending grew about 25-fold in just 80 years, while GDP per capita quint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25:08Z</dcterms:created>
  <dc:creator>Jia Yao</dc:creator>
  <dc:description/>
  <dc:language>en-US</dc:language>
  <cp:lastModifiedBy>Jia Yao</cp:lastModifiedBy>
  <dcterms:modified xsi:type="dcterms:W3CDTF">2013-09-03T18:50:13Z</dcterms:modified>
  <cp:revision>4</cp:revision>
  <dc:subject/>
  <dc:title>1.5b Since 1960, growth in inflation-adjusted health costs per U.S. resident fell below the rise in non-health costs per capita only 7 times</dc:title>
</cp:coreProperties>
</file>