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92BAC-004B-45CD-BEE5-CA4CB4C224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48277-7307-4D3B-BD87-B9F1C26FA8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1.1a | TOTAL REAL NATIONAL HEALTH EXPENDITURES OF THE UNITED STATES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38F9-D60D-4E59-8B7A-A6363459B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10F8-D1C8-4833-87DD-1753086B7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1CF2-B327-4213-8590-6C3C6918F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C218-EA49-4445-B002-D679F4208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CB153-3861-4A39-AACF-A54F1C5A2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F7918-26BF-4E9A-A5C2-720E27148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D2E9C-0B5D-49A4-8FF8-B0D8D3FB1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EB421-C49D-443E-A846-0A4CD1E29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8DAF3-B33D-4A30-A39E-04C7E0A0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7985C-D453-426D-8073-A67F03A94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6AAAC-953A-4264-A97D-32858517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5A2A-89DA-4C75-98FC-C194115CD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9DD57-5304-411C-929C-2726C161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718D7-DB89-439A-8A79-021FA39A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B034A-E313-4DC6-A910-C33808A09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7B20D-CE7C-413B-9421-5286D0D9C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0AAD5-EC32-4009-A839-6799B640C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1566-EDE0-45B0-A919-491F923B4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99A8-A7D6-4D58-964B-1D120DACD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5FA7-7ADA-4429-9BD8-5076C9C7F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FAD0-F7C4-4BD3-A2B1-1ACD39845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DBE0-C634-45B2-8388-12936379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97BF-2772-49C1-A114-DBB00619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4FB5-F6F0-4AC8-98E2-2A258ED1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D12B2-E369-4C23-8630-BD1193ADFA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FFFB7-CACB-4F49-973A-D96019382A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Arial Narrow"/>
              </a:rPr>
              <a:t>1.1a | In constant dollars, national health spending increased more than 60-fold over the past 8 decades, real GDP grew far less in this peri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3T15:05:56Z</dcterms:created>
  <dc:creator>Jia Yao</dc:creator>
  <dc:description/>
  <dc:language>en-US</dc:language>
  <cp:lastModifiedBy>Jia Yao</cp:lastModifiedBy>
  <dcterms:modified xsi:type="dcterms:W3CDTF">2013-09-03T18:50:56Z</dcterms:modified>
  <cp:revision>1</cp:revision>
  <dc:subject/>
  <dc:title>1.1a | In constant dollars, national health spending increased more than 60-fold over the past 8 decades, real GDP grew far less in this period</dc:title>
</cp:coreProperties>
</file>