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730-3943-4A0C-A4A9-D8424A52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0B49-3DBA-4926-9F22-85251C90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9990-D15D-4AD3-8C12-008C1B93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685C-2FE6-42FA-BF6B-37942563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5B95-8466-4BFB-92AC-D7FCE656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C181-3113-44F5-BAB3-E692A53E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5FC8-D2E0-4F21-B3FE-9A434E73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AB95-8CA0-48D9-86F5-4CAD5772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CE06-AA50-474C-8331-1B8BB23B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62EF-104E-4C91-916D-69F7F0F5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3642-7A9C-4175-B676-DBAD8FA6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0FAC-D217-433C-8345-AA57549E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2EE5-E64E-49A3-95DC-541362FF2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240" y="228600"/>
            <a:ext cx="903744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6:54Z</dcterms:modified>
  <cp:revision>4</cp:revision>
  <dc:subject/>
  <dc:title>1.1a | In constant dollars, national health spending increased more than 60-fold over the past 8 decades, real GDP grew far less in this period</dc:title>
</cp:coreProperties>
</file>