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93F56-9B17-4501-B91C-ED218B0EAE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9F61B-91FE-4872-B804-94A2A4E86A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f7f7f"/>
                </a:solidFill>
                <a:latin typeface="Arial Narrow"/>
              </a:rPr>
              <a:t>1.1a | TOTAL REAL NATIONAL HEALTH EXPENDITURES OF THE UNITED STATES, 1929-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54D4B-8872-4DCF-8955-FEA2F3F4D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C642E-124F-4554-8E03-8F513E8D2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7F3AB-1388-42EE-8DB3-F5B53DAD7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8B5FF-815C-4ECD-AB6C-DD648505D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F00C9-448E-4B86-83D4-316889468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D2F97-9372-4601-9615-04991953C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3A3E2-3C33-47A4-AA5D-2F972093B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3D788-6733-48F0-B759-3D4D0F432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C8C19-DC24-4759-A5CC-67128701D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0E032-8652-400F-8C24-6C0655432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ADC8E-A03A-4DC5-9D73-DD9B1FB22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693A9-CDC5-49EB-8690-763DAD926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7C679-45B2-4744-97C9-0AC4AF2C8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CD414-C5C2-4844-A347-6C7CA8397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36C8E-88DE-4279-9DC0-78C0C6A2B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6601A-F449-4C45-8D4B-3B0B88BA8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3121C-B32A-4FBC-B36D-B5189A05D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20F72-B192-4643-AB5B-9AE731A57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DACCB-E47E-43C6-9019-ACA0DD3BB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82956-2280-4516-8A78-07C66FB7C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557DD-DA1D-4F25-BBD6-2709D8754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A5C91-037D-4E1D-AAC9-7909BD219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E80A3-E273-49F6-A931-B8640CFEA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66F1E-7DD8-446A-9FDA-652CC091C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16588-8CA5-4B60-A5A4-304DA5E92ED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76302-9939-4DE5-BEAD-60F8DA13789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Object 3" descr=""/>
          <p:cNvPicPr/>
          <p:nvPr/>
        </p:nvPicPr>
        <p:blipFill>
          <a:blip r:embed="rId1"/>
          <a:stretch/>
        </p:blipFill>
        <p:spPr>
          <a:xfrm>
            <a:off x="-50760" y="787320"/>
            <a:ext cx="9198000" cy="61214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8390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7f7f"/>
                </a:solidFill>
                <a:latin typeface="Arial Narrow"/>
              </a:rPr>
              <a:t>1.1a | In constant dollars, national health spending increased more than 60-fold over the past 8 decades, real GDP grew far less in this perio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3"/>
          <p:cNvSpPr/>
          <p:nvPr/>
        </p:nvSpPr>
        <p:spPr>
          <a:xfrm rot="16200000">
            <a:off x="-2305440" y="37324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03T15:05:56Z</dcterms:created>
  <dc:creator>Jia Yao</dc:creator>
  <dc:description/>
  <dc:language>en-US</dc:language>
  <cp:lastModifiedBy>Jia Yao</cp:lastModifiedBy>
  <dcterms:modified xsi:type="dcterms:W3CDTF">2013-09-03T18:50:56Z</dcterms:modified>
  <cp:revision>1</cp:revision>
  <dc:subject/>
  <dc:title>1.1a | In constant dollars, national health spending increased more than 60-fold over the past 8 decades, real GDP grew far less in this period</dc:title>
</cp:coreProperties>
</file>