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E897-8A16-4332-ABBB-F1CFA75A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AC4A-758C-4F5F-8170-D6608B70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CC39-0355-411D-9051-25DE28D5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EFA-690F-4F89-BD69-5C31B3C8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4EBA-F667-4FFB-89B4-616310B9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501-3F94-49C1-A224-AA37870B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069F-E2DE-425F-ACA9-5CA2B93A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1453-1C90-4D91-BEAF-8B340FFB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5235-0269-498F-9188-61F9A1FF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18FC-C5E1-41D1-A319-DAE6BCDE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AA2-7A9E-4403-9BD9-FAAB0996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83B5-FB5B-4FE3-B218-11E29DA2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C9B9-0E83-41F8-921A-39F38D665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0200"/>
            <a:ext cx="914400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7:42Z</dcterms:modified>
  <cp:revision>5</cp:revision>
  <dc:subject/>
  <dc:title>1.1a | In constant dollars, national health spending increased more than 60-fold over the past 8 decades, real GDP grew far less in this period</dc:title>
</cp:coreProperties>
</file>