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7540-47E0-4448-BC2E-7367EA9F0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61D7-791B-4E33-94AD-E3FC6857E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A571-4DFD-4E8E-B6C8-4AE31815E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FF56-31E2-4CAC-9934-7598355E7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05E6-3837-4E86-987F-14F03FC34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71BD-1B83-4E76-8608-CBFBA428E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4ADD-2C33-4674-9EB2-BDBA65B0E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DD41-9361-4E0D-B846-651B9C0CC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05C8-F9E1-4F4C-91D3-DB5017602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0012-3C5E-4E5E-9C88-2620C22D6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5ABF-12E6-4C67-BE95-509D80F58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F2E5-73A0-486D-8C28-5718820BC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E44E6-7282-4BBF-8A1B-BF5281C0ED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60200"/>
            <a:ext cx="9144000" cy="653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4T18:58:10Z</dcterms:created>
  <dc:creator>7Copy</dc:creator>
  <dc:description/>
  <dc:language>en-US</dc:language>
  <cp:lastModifiedBy>Jia Yao</cp:lastModifiedBy>
  <dcterms:modified xsi:type="dcterms:W3CDTF">2013-09-03T18:47:42Z</dcterms:modified>
  <cp:revision>5</cp:revision>
  <dc:subject/>
  <dc:title>1.1a | In constant dollars, national health spending increased more than 60-fold over the past 8 decades, real GDP grew far less in this period</dc:title>
</cp:coreProperties>
</file>