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72A1-E448-49BF-90C0-23F0CB28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F756-A132-4CA6-B1D8-74E45C497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058-982C-4683-93DC-5B9E95FB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3D3-8FA3-40B6-80DC-AE1BA56F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C4F-9042-49D8-9708-95FC6941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7CE-7934-4731-8BC5-0BD9418A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3231-2BD5-4DC4-BC14-9EC58CE6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141F-A5DF-4A2B-9398-F28CBDC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01BC-A976-435E-B380-0CEA3A21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6402-3DFC-43E9-89A7-F9B9FBC4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4E55-F020-4EAC-B632-E36848BE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045-6F8B-4F07-A781-A1AAC06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F759-DF51-4D57-9CF6-FD578BC6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B4E-7491-4AF2-BC65-F33A60A2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FBFE-E46C-489E-85F2-C483B3C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39D5-0566-4D80-9AFA-4F470F7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8602-C6FF-4D47-BE95-79A9A0D6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A935-72A9-4BA9-BFCF-4F752CEE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B7F0-AE46-4034-80DD-8324E603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55C-ECA9-400B-B7C0-A7C3EA8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17F-70BB-47EF-A75C-E4CC55A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674-D572-4BD3-A520-4CD3DD72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846-12F1-49E9-8C25-F2A24A09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284-B34B-45D6-B601-3350F1D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4C1-3250-4D0D-8F8A-95836D08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FDE-46BB-40FA-A5D9-2AAA2C6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DBB-1A2B-4058-8F7D-959CB25B1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59B0-CB86-44A1-B108-07AE0855B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5T04:34:50Z</dcterms:modified>
  <cp:revision>5</cp:revision>
  <dc:subject/>
  <dc:title>1.1a | In constant dollars, national health spending increased more than 60-fold over the past 8 decades, real GDP grew far less in this period</dc:title>
</cp:coreProperties>
</file>