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932C-7FF5-4CEC-8088-9777CCBEC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2A74-A9E3-4236-AE4B-ECABA0A9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36BC-C78D-4274-A750-857E451EA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4F01-89CE-412B-B26D-7DD72100F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D3A1-7944-413C-9602-2D22E2B3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8C06-1A52-4545-A22B-F11185DE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D55C-3F91-4A80-ACAE-C96F5D33A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964F-ECF5-4644-A471-7FEC5AA2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F3A6-A119-4078-AD0E-2743F31F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8350-BF04-4BC6-89D0-CCD5732C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3537-9BA4-4670-AB35-61B68EE3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6FD7-B7E5-4B80-AFFA-82B843E1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DC41-057B-4CC3-8F35-001A6819D6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0502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8:58:10Z</dcterms:created>
  <dc:creator>7Copy</dc:creator>
  <dc:description/>
  <dc:language>en-US</dc:language>
  <cp:lastModifiedBy>7Copy</cp:lastModifiedBy>
  <dcterms:modified xsi:type="dcterms:W3CDTF">2013-04-24T22:24:11Z</dcterms:modified>
  <cp:revision>3</cp:revision>
  <dc:subject/>
  <dc:title>1.1a | In constant dollars, national health spending increased more than 60-fold over the past 8 decades, real GDP grew far less in this period</dc:title>
</cp:coreProperties>
</file>