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0E4-0E1F-4575-BD27-5028C287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4E2C-0187-4E44-BEA8-17F42BF1B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377-563B-41BE-B3BD-4116C909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53D-1391-4F3C-8F66-11DFD0A9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831-514A-4A82-A0A3-B364AFD1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6FD-7EC8-4BCA-93A5-5593BC36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8C0A-1039-400A-BAE2-A67381AE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224B-AADD-4223-84EC-6E3327A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0A21-4EF2-4741-95CB-BD7D96AB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3595-00CB-4E3B-930F-C557AC9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DDA-C63C-4036-B5C1-290A7C62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F5EE-6052-4914-8F08-8F4429B7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0731-4808-4D1A-974D-A9E5720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772-5497-4329-B3CB-B6D710E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F53B-1988-4448-BA53-1E33F9B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A2A-E7C8-421A-876C-49B1E1EB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E7C-08EB-4F8B-AB0D-E13A6E49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441-23D5-466A-9DEA-656E6266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1D15-0E1A-4873-BB2F-9BC9B49A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A75-3410-4189-9AD4-8C5663A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90D-5CEC-4E75-8D3F-CD97733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A5E-932E-4EFD-9974-0C09F86B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817-2D74-48C8-A64B-E957129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8B4-047B-4470-969D-4FBD33F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DA3-FDE1-4604-A1C5-EE7C927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35B-0D61-4080-8CF3-6F8009B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A3B-17F6-4D7A-8E35-5065EA75E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548-4D93-4D7C-8808-4BEB41F9C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4T22:25:15Z</dcterms:modified>
  <cp:revision>2</cp:revision>
  <dc:subject/>
  <dc:title>1.1a | In constant dollars, national health spending increased more than 60-fold over the past 8 decades, real GDP grew far less in this period</dc:title>
</cp:coreProperties>
</file>