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480BB-B066-46DE-9072-F6406E9AE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F25EE-8301-4F1A-BDF2-FFE5705BE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37380-9AD0-468D-97AC-564410609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6B109-389D-4708-BA15-E50602CCE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262AE-F8F7-41C0-930D-091815B7F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4FA94-6993-4224-936D-02BB0B3EC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69451-450E-473E-A821-D725315C9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48FB6-019C-4B58-98F4-4CEA97C3B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FC0CC-A427-4ADA-8453-01B57FC81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BFA4C-6497-4E85-9ACF-092939370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A97E6-3D13-494B-8D94-981A4D7DC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BE026-2C19-4C94-9F62-B248EF3EA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59D4F-E17B-4EAA-A0F6-259EF1FAC8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914400" y="914400"/>
            <a:ext cx="6783480" cy="491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4T18:58:10Z</dcterms:created>
  <dc:creator>7Copy</dc:creator>
  <dc:description/>
  <dc:language>en-US</dc:language>
  <cp:lastModifiedBy>7Copy</cp:lastModifiedBy>
  <dcterms:modified xsi:type="dcterms:W3CDTF">2013-04-25T04:41:19Z</dcterms:modified>
  <cp:revision>4</cp:revision>
  <dc:subject/>
  <dc:title>1.1a | In constant dollars, national health spending increased more than 60-fold over the past 8 decades, real GDP grew far less in this period</dc:title>
</cp:coreProperties>
</file>