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F6F-8868-4278-AFE5-AB97E45D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5DCA-6E4E-437A-B1EE-767255B6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5E9-3D1C-4348-AE26-27602AF4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A3F0-AC59-454E-8E3F-01086207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7E5-1D5B-4616-A5E0-5F9B91D4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0CF-17D8-4A61-8C77-1EB713E9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1FA-3EC5-4A92-90AA-FAB484DD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AF2-08A6-4E6D-8022-2C39C078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644-B31D-4D15-A34A-AC46C0F5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692-FA84-4D3F-92DE-3B1A452D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0B9-1FB9-451F-80FA-A2847878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B983-9F08-483E-AF8F-CEF50A85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3275-876F-499B-866D-7E5DB28FF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0502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7Copy</cp:lastModifiedBy>
  <dcterms:modified xsi:type="dcterms:W3CDTF">2013-04-24T22:24:11Z</dcterms:modified>
  <cp:revision>3</cp:revision>
  <dc:subject/>
  <dc:title>1.1a | In constant dollars, national health spending increased more than 60-fold over the past 8 decades, real GDP grew far less in this period</dc:title>
</cp:coreProperties>
</file>