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D95C-9EF1-4FB8-9EDA-D84FF8330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D3EA-6F46-4353-80E6-E14A7E75C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a | TOTAL REAL NATIONAL HEALTH EXPENDITURES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350-2327-4F9A-83AD-ADDDE6C4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EC7-7B3D-43D2-8CA2-BC01BF28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362-172C-48A9-944F-8E9C9B7F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0F49-A7EC-44CD-9D03-18693D6A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FEAB-6509-43BB-BD29-89C40872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A1E3-D50E-4E65-B02D-C9764131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3008-586B-475C-87B1-903B882E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7A3A-ADF4-4D7B-884F-56F4912B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1587-7939-450C-8D4C-E9EC9D2F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7299-938D-4D5A-A511-BC0C3155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6C1D-DF09-46E7-984B-785066B6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CFF5-6C88-491A-928F-5A3230B6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4EF3-BC84-476C-8FB2-08CB5883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8D56-E79D-4C23-AFE1-C837FD0C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1FA8-EC01-4AEE-957C-91728949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0CC3-2789-4C7F-B3F0-C7DA6F9D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494A-A030-4344-AE0F-3F8F1AC7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BFC-2341-4F1A-B308-32FFB06C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95A-93B3-4B7D-8D6F-C6637B1D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CB98-5A4A-4BB8-8D32-45442E02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10F-E62C-4201-AA2D-50C39B94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2DF-46A2-4E3D-85FA-4CBCC84D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AF5-CAB9-4D0F-8571-E4A7FDF8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0EE6-C3A2-490A-B661-F468E1AB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AE4F-4809-4672-A85D-DB14B5E17D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7B93-2CD4-4EE1-A54F-A828CFB5F0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1a | In constant dollars, national health spending increased more than 60-fold over the past 8 decades, real GDP grew far less in thi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7Copy</cp:lastModifiedBy>
  <dcterms:modified xsi:type="dcterms:W3CDTF">2013-04-24T22:25:15Z</dcterms:modified>
  <cp:revision>2</cp:revision>
  <dc:subject/>
  <dc:title>1.1a | In constant dollars, national health spending increased more than 60-fold over the past 8 decades, real GDP grew far less in this period</dc:title>
</cp:coreProperties>
</file>