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8CD-5CF0-498B-BE6A-184C6DE2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3B0-443D-41BA-AB59-8722419F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FE7-7BE6-43FC-9908-B91A4D3A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278-A63C-46B7-9EDC-A0B16F48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920-781A-4E0D-9E03-857F6C83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CA0-389E-4066-BB4F-7DBC5A41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8AA-A708-441E-B5EB-9FFE91CE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1AF-B706-471D-86BC-05C86DC6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DDB-97C1-4930-8940-13B21876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55A-A0E4-41E9-8F37-BD1761B8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A12-A9A0-4DC4-BA0C-CC077FA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16B-6B62-463F-B1FA-10096BB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F108-CB96-44C0-B50A-6181C00E9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7834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7Copy</cp:lastModifiedBy>
  <dcterms:modified xsi:type="dcterms:W3CDTF">2013-04-25T04:41:19Z</dcterms:modified>
  <cp:revision>4</cp:revision>
  <dc:subject/>
  <dc:title>1.1a | In constant dollars, national health spending increased more than 60-fold over the past 8 decades, real GDP grew far less in this period</dc:title>
</cp:coreProperties>
</file>