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ED9F-975A-4496-926F-41D4EB665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EC6B-9AB4-4B51-B614-0F75F56AE3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b | REAL NATIONAL HEALTH EXPENDITURES PER CAPITA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E634-586F-434F-8BDD-BFCED835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A5F0-5115-40F1-893A-239348B1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4598-807D-4446-8E06-0CCEBD30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14E-5C4C-47DE-815E-894B14F1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5191-42B0-49B7-98CC-B3CEC9C3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57EE-2BF8-469E-95A4-43C93F5F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CCED-F8D1-41D6-A566-D439DF61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2528-0679-4CB1-A595-34D066D4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9C11-76AB-40D9-B813-99856B68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4CFB-7C3C-4CF4-9932-A710B3C8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6A88-FE23-417F-82E3-8F8CB4B7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8FF5-3C82-4766-AB9D-BD5E7D3D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9626-762B-454B-842E-6AD1AE11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090A-2FB9-4119-A9C2-3458B5F0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DF11-1FB8-4587-93EA-1FD0CA65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1237-34FA-4B6C-8841-3B0549F4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1486-E8DC-40B8-89DA-B5F0B9C2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792B-FFB6-4EE3-BB80-F7CD5E59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64FC-284E-4EEE-AF45-023B19D4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E80F-2BF6-4732-BBAC-9AF28876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DB7-8FAB-4BBD-B285-A5099748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55EB-D03D-4001-AB14-8A866FE1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98D6-65D8-4533-B154-C4E70C88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FA46-2CFA-4251-A3D1-419A8826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0415-B969-4B57-8924-DC0BE73344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72F7-72AF-4535-B198-A3AE07C774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.1b | Even in per capita terms, real health spending grew about 25-fold in just 80 years, while GDP per capita quintup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7Copy</cp:lastModifiedBy>
  <dcterms:modified xsi:type="dcterms:W3CDTF">2013-04-25T04:34:50Z</dcterms:modified>
  <cp:revision>5</cp:revision>
  <dc:subject/>
  <dc:title>1.1a | In constant dollars, national health spending increased more than 60-fold over the past 8 decades, real GDP grew far less in this period</dc:title>
</cp:coreProperties>
</file>