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130B-F38D-4A89-94A6-7B8BD98F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4A1-5584-477C-A3B3-0A0F58BB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0E3-B29E-4BF0-BA49-B4A81291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927-7D98-4924-A483-9A3946A9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D6A-B5D5-4E90-B382-69CA132F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5E5E-9B16-4978-93C0-FE7F2683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8AB5-0AE1-45BB-9454-1E7EC220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E9D-E23F-46CC-9424-97D91866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72E-AC27-4F57-9E80-7442870C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72F-9375-46C7-8703-4E566290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BDC-10A0-4DC2-932A-CD80671D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B07-95F6-433B-B8AB-0D4498AB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0046-8DCE-4BAA-B7CC-BD5E4D875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1000" y="1066680"/>
            <a:ext cx="8982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8Z</dcterms:modified>
  <cp:revision>40</cp:revision>
  <dc:subject/>
  <dc:title>PowerPoint Presentation</dc:title>
</cp:coreProperties>
</file>