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EB439-53E3-437F-9D0C-A2BD60502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9E898-74D3-4C1F-8428-5FA71FA00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2CFC6-22C4-4A98-B48D-9DFB59C4F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09F3E-0DE8-4537-8125-17C67CF10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36BF1-BEB3-462F-BF7B-9C16204B8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99CE7-7A43-48C2-B865-BF63076BF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54210-93D3-44CA-A12A-AC16CD4E2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8D9EF-62D8-48A4-8898-CD7C09377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43759-B2EC-4387-8EFC-B1B17D971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D6DCF-94BE-4BEF-BBD7-7340CA501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A58DD-7BB3-475F-9C7B-AC3E46652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AEC46-0469-4838-A73C-BB389050F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12C2F-8F96-48CD-B8CF-9FD2256F72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165240" y="0"/>
            <a:ext cx="8813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9:42Z</dcterms:modified>
  <cp:revision>37</cp:revision>
  <dc:subject/>
  <dc:title>PowerPoint Presentation</dc:title>
</cp:coreProperties>
</file>