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27C3-01F5-4B1F-B55C-E5E11BE29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A | 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1466-D8F8-482D-88C3-E7C58F980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9D1-9361-4E25-88FA-AE2A30F0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0EA-5CE2-4DA1-8751-05F7DF26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ADC-4E77-419C-BD6D-4D6D9145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269-F029-4CD7-8F60-CE810232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8A4-39AB-4FE6-8835-B8A260EA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E93-CEFF-47E7-A0C6-4F173937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828-4BD2-4C3C-87B4-4C86E8F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B7E-592A-4736-BA51-C0CBDCE2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6A9-9384-4D35-BB7D-A663D7BB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B01-531F-4C01-8641-79C8AF8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FEC-782B-4E48-8EE6-9A4FF6D7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522-41AF-40A0-9EA8-0EDD1B30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B6F-EFAA-4AD0-9113-89FF6726F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a | The share of consumption spending devoted to health has grown faster in elderly households tha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2235240"/>
          </a:xfrm>
          <a:prstGeom prst="rect">
            <a:avLst/>
          </a:prstGeom>
          <a:ln w="0">
            <a:noFill/>
          </a:ln>
        </p:spPr>
      </p:pic>
      <p:pic>
        <p:nvPicPr>
          <p:cNvPr id="50" name="Chart 6" descr=""/>
          <p:cNvPicPr/>
          <p:nvPr/>
        </p:nvPicPr>
        <p:blipFill>
          <a:blip r:embed="rId2"/>
          <a:stretch/>
        </p:blipFill>
        <p:spPr>
          <a:xfrm>
            <a:off x="406440" y="3149640"/>
            <a:ext cx="8331120" cy="18540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3"/>
          <a:stretch/>
        </p:blipFill>
        <p:spPr>
          <a:xfrm>
            <a:off x="406440" y="4521240"/>
            <a:ext cx="8483400" cy="2387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a | The share of consumption spending devoted to health has grown faster in elderly households than non-elderly households</dc:description>
  <dc:language>en-US</dc:language>
  <cp:lastModifiedBy>Jia Yao</cp:lastModifiedBy>
  <dcterms:modified xsi:type="dcterms:W3CDTF">2013-09-06T14:06:34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a | The share of consumption spending devoted to health has grown faster in elderly households than non-elderly households</vt:lpwstr>
  </property>
</Properties>
</file>