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6B58-1BB7-46DA-9EDE-97B251A48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4B | FITTED REGRESSION LINE FOR HEALTH EXPENDITURES PER CAPITA AND GDP PER CAPITA, OECD COUNTRIES WITH SUBNATIONAL COMPONENTS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F895-CCBC-4E91-BD66-BFC0CAF18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08D-8FE5-4086-ABEB-2E0BA385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667-8E5D-4567-9EDF-E2CE42E1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19D7-C1C8-4A9E-B82F-99A42EA3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951-3655-4AC4-B14C-C8566059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3F3-66F0-427C-9AA7-B1781878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2C5-6748-4457-9287-04A7F7C4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F8B9-F278-4239-9E49-32E44ACF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011-189E-42C6-B70C-D27F38FC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7BE-E002-48D0-BBF2-2C8E6E6E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C4F3-1C75-4EFF-81B6-05EA2E61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05CE-30FF-4EDC-8FFC-06267E83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3640-1056-4BE1-ADA9-D81326DC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D524-6284-4F21-8CB5-275ED2072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4b | Once sub-national areas are taken into account, U.S. health spending is almost exactly where it is expected to be given U.S.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0"/>
          <p:cNvSpPr/>
          <p:nvPr/>
        </p:nvSpPr>
        <p:spPr>
          <a:xfrm>
            <a:off x="674280" y="1676520"/>
            <a:ext cx="67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person (US purchasing power parity, 2004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4b | Once sub-national areas are taken into account, U.S. health spending is almost exactly where it is expected to be given U.S. GDP</dc:description>
  <dc:language>en-US</dc:language>
  <cp:lastModifiedBy>Jia Yao</cp:lastModifiedBy>
  <dcterms:modified xsi:type="dcterms:W3CDTF">2013-09-06T15:40:5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4b | Once sub-national areas are taken into account, U.S. health spending is almost exactly where it is expected to be given U.S. GDP</vt:lpwstr>
  </property>
</Properties>
</file>