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3169-D15F-4B24-AE2D-5811F4FB5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B | ESTIMATED DEATHS IN UNITED STATES, BY UNDERLYING CAUSE, 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6668-7AAE-4418-ABBA-475B394BE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A83-05C0-42D6-BB8A-08453383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211-E6D9-4B9A-BBFB-2E1A8409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698-506B-4187-9358-7666DC34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B7C-181C-4FF5-A5D7-0ECD20F6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FB3-4A6C-484D-A022-49C360C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C31-4677-4F93-BFFA-B626C8C2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10F-DB9B-43E6-A767-6CDFB1FE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8C0-7B7F-4952-AF54-4A8D0695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B25-B02F-417F-B290-55E6C8C0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0A3-D684-4AF6-916F-8B9B2C26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31A-95D8-40E3-8BC9-5AA8D5E2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524-A767-4021-BC06-45334892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808E-8570-4BE9-A111-FCB96CA5D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b | Changes in behavior/lifestyle would have a sizable impact on mortality rates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90169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518148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U.S. death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b | Changes in behavior/lifestyle would have a sizable impact on mortality rates in the U.S.</dc:description>
  <dc:language>en-US</dc:language>
  <cp:lastModifiedBy>Jia Yao</cp:lastModifiedBy>
  <dcterms:modified xsi:type="dcterms:W3CDTF">2013-09-06T15:41:2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b | Changes in behavior/lifestyle would have a sizable impact on mortality rates in the U.S.</vt:lpwstr>
  </property>
</Properties>
</file>