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1818-FC98-451D-8E3E-823B54713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C6E6-EDDD-4C5B-85A2-0DE0F5A71F9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6b | Out-of-Pocket Share of National Health Expenditures in G7 Member Countries, Selected Years, 1960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EF0A-74B4-4C6A-9E11-AB89BC9A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AFEA-4ADD-4AED-98EB-3278A95F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1135-C1F3-4C23-9260-C751A952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7F37-FC00-48AD-8C40-F766976E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36B3-3A02-4F22-8277-30D3E6CF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6B1B-62FC-4A2F-9FD9-58E75AFC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1907-E893-4C48-AC1A-D5B21F9B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E861-D732-4C5F-BFA4-AF91CE97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50FA-CD58-484A-991C-F0740334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493C-59DD-48D4-8A85-D538E569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7FC7-B74F-4ED7-980C-DFD48027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218B-54DB-4BE5-BE1D-DBE6F304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0306-5737-47D1-BCF9-FBFA67FE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8191-AF3E-4B23-A182-383B126B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05A8-E4B6-4060-9778-060526BE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E117-C8F0-445A-82C7-093CEBF3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1F73-0714-441A-8C20-C5317632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93BE-5EE4-4A43-9228-837E6E08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19E-4EBB-40B9-9C63-351D1894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C6AF-404F-40B8-B368-474CA869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9539-BC70-4FF5-94EA-BEE1B539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5D21-B8C7-4CC9-8A68-F1A2F1FD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AD7-C3D8-4322-9D4F-C7DF6A5B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0B6-5B72-4CCF-8B45-F55D46AD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CE61-0FBE-4EB2-80A8-19BE66EBE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4236-99C0-4FEF-B22B-CF82EA3107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6b | The U.S. in the past relied far more on out-of-pocket spending compared to its competitors, but that is much less true toda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93400" y="6392880"/>
            <a:ext cx="644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Version: June 20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6b | The U.S. in the past relied far more on out-of-pocket spending compared to its competitors, but that is much less true today</dc:description>
  <dc:language>en-US</dc:language>
  <cp:lastModifiedBy>Jia Yao</cp:lastModifiedBy>
  <cp:lastPrinted>2002-05-16T21:44:34Z</cp:lastPrinted>
  <dcterms:modified xsi:type="dcterms:W3CDTF">2013-09-04T21:04:01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6b | The U.S. in the past relied far more on out-of-pocket spending compared to its competitors, but that is much less true today</vt:lpwstr>
  </property>
</Properties>
</file>