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DC3-A7F2-4D2E-9B1E-DB6F63E3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9E3-5EFB-4E02-88F2-9BE6C7A9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15F-BF36-4793-9EA1-826C6C4A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DFB-9867-47D4-B728-85913DC2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F7C-FE35-4450-B931-26411938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DBA-3970-4EBD-A9E6-46D55B1D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3B6-0F1E-4D47-842E-B59EB3A7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5BF-5F44-4E02-A741-92ACA882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880-C13E-45B8-930E-AD76C8ED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DA5-149E-4CB9-82E3-22CA9F7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5FB-CA91-4AD1-A2E8-84674D31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126-BC70-4924-A6C4-37B91DD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352A-B556-41EA-8564-81EABFDCE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54200" y="0"/>
            <a:ext cx="76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6Z</dcterms:modified>
  <cp:revision>20</cp:revision>
  <dc:subject/>
  <dc:title>PowerPoint Presentation</dc:title>
</cp:coreProperties>
</file>