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F016-E3CE-4F9B-AE04-788C768EE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B | EUROPEAN CANCER SCREENING RATES AS A PERCENT OF U.S. RATES FOR SELECTED CANCERS, BY 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062-9587-49DB-BC4C-8DC5E6AE8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8C3-E030-4901-8F98-59409525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68D-F0B0-421A-B272-C5D8D865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CAB-E840-45A9-98D0-A9A87E11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EAE-4534-497E-A624-58FC15D8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3B4-6DAC-4B87-8F9E-DB0345C6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406-5CD5-416A-8B71-105E7ECF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531-C93A-4F59-B10A-88BBC90D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A63-E95D-4712-B8F7-903B7260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A6A-C064-4482-B442-7D3485B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E76-00EE-4A87-9BE3-B06E4673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6FC-45E0-49AC-A98A-BFBCFDEC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643-1D34-4BD4-80B8-21DB9B6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18BA-DCC7-4E9E-AC6B-CFF7B69F8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b | Despite a larger uninsured population, cancer screening rates for adults 50 and older are much higher in the U.S. than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ancer screening rates as a percentage of U.S.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5920" y="5827680"/>
            <a:ext cx="77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.H. Howard, L.C. Richardson and K.E. Thorpe, Cancer Screening 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United States and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09; 28(6):1838-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b | Despite a larger uninsured population, cancer screening rates for adults 50 and older are much higher in the U.S. than in Europe</dc:description>
  <dc:language>en-US</dc:language>
  <cp:lastModifiedBy>Jia Yao</cp:lastModifiedBy>
  <dcterms:modified xsi:type="dcterms:W3CDTF">2013-09-06T15:41:1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b | Despite a larger uninsured population, cancer screening rates for adults 50 and older are much higher in the U.S. than in Europe</vt:lpwstr>
  </property>
</Properties>
</file>