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FA48-2E4A-4E1A-8C7F-0524726CC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B | AVERAGE ANNUAL WORK HOURS FOR ALL CIVILIAN WORKERS, ALL PRIVATE INDUSTRY WORKERS, AND SELECTED COMPONENTS OF THE HEALTH SECTOR, 198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223C-BF5E-4977-BCBE-7B67B93AB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A02-FB3E-40EB-8DE2-EBA9FDFD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2AF-6613-4DF1-BC9A-C24713E9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8ED-5424-4E03-AA2F-13DDCAD1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3BA-DAD3-4325-87B8-618E3673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7DE-DCA2-4D15-BB10-E75AE73E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C6C-1083-43F1-82B2-628E11A9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21F-188A-4BAF-A085-90F2B819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E45-F3C0-4C2F-8B16-6E8D69FF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BA4-8E0F-4202-B334-BB5B6988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34F-A969-4751-8495-56260C59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A48-C684-47F7-A8C6-04F0DD4E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6F9-1C1F-4C64-BA51-E3427BC8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73F6-9A24-4DF5-B8B8-B3D0B35D5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b | Annual hours per worker have declined in long term care facilities during the past decade, but have generally risen in hospi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work hours per employ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b | Annual hours per worker have declined in long term care facilities during the past decade, but have generally risen in hospitals</dc:description>
  <dc:language>en-US</dc:language>
  <cp:lastModifiedBy>Jia Yao</cp:lastModifiedBy>
  <dcterms:modified xsi:type="dcterms:W3CDTF">2013-09-06T15:04:14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b | Annual hours per worker have declined in long term care facilities during the past decade, but have generally risen in hospitals</vt:lpwstr>
  </property>
</Properties>
</file>