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E72-6A3A-4E34-B104-243F73FF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5D0-CC5D-48DB-914E-019F7811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B20-DB9F-4595-8522-5DBFBFCB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D7B-B0E6-40AD-86CB-BF70A2E0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8EB-2744-4FDD-8920-1D5707F8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75D-EA93-4A7E-B943-EC153F46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447-069A-4A4B-8221-4FFCAEA2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826-B707-4417-AA87-6614FC7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E25-CF57-4EAE-9EBA-B3A6420E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985-0D21-454A-B005-4F0D9BAD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D55-D388-46FD-870F-DF14D7F6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3AC-2FCB-4311-8E4B-8710F19F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46C1-C539-493C-8003-1F33C7056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9074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0Z</dcterms:modified>
  <cp:revision>43</cp:revision>
  <dc:subject/>
  <dc:title>PowerPoint Presentation</dc:title>
</cp:coreProperties>
</file>