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69F-B3B6-4384-BA07-8A0A1399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A99-EF6F-4345-9A64-551B7091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080-3B2B-4099-8D8E-6D672B38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40A-F4F7-44F3-A66D-8EAFB3F2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D97-34B3-4BFF-BAAC-DED27FA1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672-34B0-4B96-8FBD-7E970E14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034-6C76-4AF8-A3E6-2B50C7C8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6F2-D241-412E-B52D-DB6EFAFE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2FC-F299-403A-8641-0F4F4799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82A-D6AD-4E04-B0A2-3609519B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601-9DB2-4B6D-92D7-1BA5DA66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2E4-9067-4D82-8DB5-3DDE0424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DA85-60D1-4CF0-AFBC-1B3B8D670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228600"/>
            <a:ext cx="900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1Z</dcterms:modified>
  <cp:revision>39</cp:revision>
  <dc:subject/>
  <dc:title>PowerPoint Presentation</dc:title>
</cp:coreProperties>
</file>