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9B9C-08E6-4E18-A929-B6E065DAB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a | Direct Health Spending as a Percentage of Family Income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B759-C36C-4E41-8E82-C7B0E4E6C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E8E-783D-4F42-86A7-889F63E5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569-1196-4334-A5A9-1F2856E8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D64-F92A-4E6C-B808-652166BD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370-3113-4946-9351-65571041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AD1-E209-495E-A51F-7E2ACBFA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C8E-EB29-4362-A8F3-96BDC361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EEC-DC63-42F4-A348-CCC08C23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016-9114-4754-B780-43B22A17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A4E-08F8-43D7-B224-99388914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5CE-A368-4A53-A402-C84C7CB1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19E-D03D-4F86-9A89-14A6AAF4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590-840E-4C6D-B727-915CD5F5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9282-AE61-45B3-B788-AB82930EE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a | Direct health spending has been declining as a share of family after-tax income for families with the lowest in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85720" y="15764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 health spending as a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a | Direct health spending has been declining as a share of family after-tax income for families with the lowest incomes</dc:description>
  <dc:language>en-US</dc:language>
  <cp:lastModifiedBy>Jia Yao</cp:lastModifiedBy>
  <dcterms:modified xsi:type="dcterms:W3CDTF">2013-09-06T15:13:0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a | Direct health spending has been declining as a share of family after-tax income for families with the lowest incomes</vt:lpwstr>
  </property>
</Properties>
</file>