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23AC-1BB4-4796-B3FE-4F90A5B34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1941-4274-472B-AF36-DB6B6D1251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4b | HEALTH INSURANCE BENEFITS ENROLLMENT RATES, BY FIRM SIZE: 1999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5F94-1887-4CA9-BC69-E10AAB0A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DDB-8070-4102-BACD-6817F595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014-DB57-4446-9F25-8ADE2EDC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B5D-B148-4E2D-B0B9-A894B419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6C9D-4BE8-4790-B8A1-1DD2742F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35F2-B4BC-4A5C-AAE5-A92289E6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690F-A22A-46BE-9FE3-E6979513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CD23-3C8A-497C-BC47-AA8580AC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6B6B-9B23-4707-9273-3F502C99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7906-DD5A-43DF-9441-C511168D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12EB-CBDA-44E2-8124-595B2A3C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14A4-EA86-49AB-BA22-8BB2E356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558B-56AD-45BD-80D1-5B624C9A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F47A-EE49-4EDB-BA82-32596C58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54F0-00D4-45B8-A308-D16A9C88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CA7C-4BB4-4766-8559-4EBA64D8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F650-2AB0-4332-94A2-D48A1D40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5F8-6857-42A2-88C3-60F4A037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AF69-1367-4ED4-8424-DBF333EB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219-2C9A-4254-BF47-A376116A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683-DCF0-4BEA-BCB2-FE1BEFEC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1C5A-D018-46A9-9919-41A03149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FE4-1C67-4CF3-82CE-85CA64D3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237-AED4-45C9-BF0C-2DFC1BD6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349C-C581-460E-9781-2B0E5D4B3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3BBA-B655-4077-9217-A793F2654C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4b | Over the past decade, the percentage of employees in health benefits plans has declined in nearly all firm-size categor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4b | Over the past decade, the percentage of employees in health benefits plans has declined in nearly all firm-size categories</dc:description>
  <dc:language>en-US</dc:language>
  <cp:lastModifiedBy>Jia Yao</cp:lastModifiedBy>
  <cp:lastPrinted>2002-05-16T21:44:34Z</cp:lastPrinted>
  <dcterms:modified xsi:type="dcterms:W3CDTF">2013-09-06T13:50:09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4b | Over the past decade, the percentage of employees in health benefits plans has declined in nearly all firm-size categories</vt:lpwstr>
  </property>
</Properties>
</file>