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6CE5-D3F8-4770-ACAC-4A6235DA9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A | MAJOR DETERMINANTS OF PREMATURE MORTALITY IN THE UNITED ST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4464-96DF-4DCA-A894-D13D33D57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BB5-85D4-4A51-80F8-6A8C4F54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FCD-CB0E-49BD-873D-F56AA1B7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FBB-1E70-482A-A574-4836448F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888-FD2C-4DC7-9616-80502858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AA6-99B9-45D5-A59E-C035C825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1BF-A419-44D7-88A7-89409CE1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8D4-5A0C-41EF-8FB2-84FF739A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155-AA52-4D23-BE69-573CFB4F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EB1-AD67-4D55-BF38-26095094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3F2-F063-4EEC-9756-DBBECAB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30D-F8CC-4956-A4CD-52F4DE6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20D-54F8-4CAA-8F80-5D003F77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1613-AF68-44BD-A9C5-76BCF7816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a | Roughly half of premature mortality relates to behavior/lifestyle; only one-tenth relates to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3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15200" y="2971800"/>
            <a:ext cx="1820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4920" y="582768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epartment of Health, Education and Welfare. Office of the Surgeon Gen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y People: The Surgeon General’s Report on Health Promotion and Disease Pre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97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a | Roughly half of premature mortality relates to behavior/lifestyle; only one-tenth relates to medical care</dc:description>
  <dc:language>en-US</dc:language>
  <cp:lastModifiedBy>Jia Yao</cp:lastModifiedBy>
  <dcterms:modified xsi:type="dcterms:W3CDTF">2013-09-06T15:41:2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a | Roughly half of premature mortality relates to behavior/lifestyle; only one-tenth relates to medical care</vt:lpwstr>
  </property>
</Properties>
</file>