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C9C-319B-4FF1-9476-BB1CCB9E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2AB-6391-4847-B048-738D9BFB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114-39E0-4D83-8926-B3FA44E1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1A7-0B31-4D28-A748-34686BB3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778-EB0A-4E4A-96F8-20CFA71A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7DD-076D-4495-9F79-1EB04B2E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718-65CE-4463-BA8A-CF8497D2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F07F-EA72-4197-BBFA-188E33CE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95C-A084-4E4A-AC17-E13B999E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331-EC40-41A8-8585-AC9979FA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343-3B3B-4C0D-88A1-E49FA397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41E-A258-411C-9D6E-1BF343EC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9654-2F76-42C1-B06F-685A15B35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95560"/>
            <a:ext cx="90964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8Z</dcterms:modified>
  <cp:revision>18</cp:revision>
  <dc:subject/>
  <dc:title>PowerPoint Presentation</dc:title>
</cp:coreProperties>
</file>