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9D37-060C-42DB-B2F4-3914C2C93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18DD-6B39-400F-BF2B-644B5770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60E6-EAEA-4D3F-8377-30F20DF8B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4EA2-4901-4022-9A0E-56809DF1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F702-599B-4CFE-80AE-DE6D74FC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AE62-3F72-4F0A-BA4B-8F3991F6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6CD2-73B8-4B06-9DAD-ED786F5C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5D05-80E1-4954-973B-1C991883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C013-DAF1-406E-82DD-423D69F7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C668-4121-4DE1-8249-932AC416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4EFC-6547-4535-9ADD-65145379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8EDD-48E4-49A8-8185-4A9B4FF6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20B8-872F-446B-B8AC-C85858E075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46160"/>
            <a:ext cx="906768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28Z</dcterms:modified>
  <cp:revision>20</cp:revision>
  <dc:subject/>
  <dc:title>PowerPoint Presentation</dc:title>
</cp:coreProperties>
</file>