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6FD-C17B-4CB5-8A3E-B9946BC3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B05-76CD-430F-9809-BEC34CCC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6E4-FD68-4375-979F-40C87CAE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3C4-F174-4B99-BA0B-75976040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A46-F198-423A-BDD9-54917407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915-1259-4874-B74F-381AC87F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9E5-5DBB-4FFD-BBF6-C94943C0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88D-9FD0-44D5-96FF-94797EB1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2EA-A3DF-4546-B69E-7D85FD8A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51A-4AD0-4B63-A178-A3BFB77F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705-A1F8-4148-9622-DAA9BAE9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555-B16B-4934-9904-071191E4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DC7A-6AE7-40C9-B549-9CF92A65E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7732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9Z</dcterms:modified>
  <cp:revision>31</cp:revision>
  <dc:subject/>
  <dc:title>PowerPoint Presentation</dc:title>
</cp:coreProperties>
</file>