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1693-DB01-410D-9452-5B1B2F3C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4B8B-8C2D-4ED2-B89D-3C26D32B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0870-1454-4BC3-B109-E26E3BD8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EBF2-17DB-4526-ACDC-4D15783B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E2EE-4755-490E-AA04-17F9A31F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F008-7466-4EAC-88A5-FD800874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6929-B0DD-4959-B822-70BABAA3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3B18-F420-4CC2-B807-02EEEC54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53F0-EC28-4C7D-BFA9-AA5C089D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97CC-CC3D-445E-83B9-B4A3EB06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E053-7A25-43BD-B70E-C2FC3AC1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0DED-DE1A-4575-8435-F9A0C6C8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C857-7C82-4EF6-B49E-1B276A77E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371600"/>
            <a:ext cx="9009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8Z</dcterms:modified>
  <cp:revision>37</cp:revision>
  <dc:subject/>
  <dc:title>PowerPoint Presentation</dc:title>
</cp:coreProperties>
</file>