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7C09-41A0-47C9-98A9-AF1CE9D48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1b | Health Spending per Dollar of Wealth, 1950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7B85-21C7-45D4-9931-BFD503466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A21-22FE-429A-ADE5-C4A162A9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57F-A983-42CF-A053-8622194F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278-B398-4BBE-8C56-F04BA2A9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A61-E18B-4378-B769-41F31034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1ACC-9503-4B44-88D8-C45AF4FE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ECD7-7893-465B-98DE-7243F344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41F6-32F3-46B1-A8EA-4B41D373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052-A8D3-4517-8870-30367766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7D8-25A0-430F-92FA-6D07A2B9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5FB5-11CB-4B1F-912F-0A0B366F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285-5E17-41AE-81FE-49E85D01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D2F-EB1F-4DE3-9694-4AAA87CE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3BCD-C935-421F-8630-C80C8B851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1b | Health spending per dollar of wealth has almost quadrupled over 60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alth spending per dollar of net worth held by households and nonprof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1b | Health spending per dollar of wealth has almost quadrupled over 60 years</dc:description>
  <dc:language>en-US</dc:language>
  <cp:lastModifiedBy>Jia Yao</cp:lastModifiedBy>
  <dcterms:modified xsi:type="dcterms:W3CDTF">2013-09-06T15:26:01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1b | Health spending per dollar of wealth has almost quadrupled over 60 years</vt:lpwstr>
  </property>
</Properties>
</file>