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0E7F-E31B-41E1-ABB4-D0960CDA1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2A | YEARS OF POTENTIAL LIFE LOST BEFORE AGE 70 PER 100,000 POPULATION VS. HEALTH SPENDING PER PERSON IN SELECTED INDUSTRIALIZED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CD2D-5F1A-408E-9226-E91285E32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3CDA-330A-4577-B7CE-904CA7C9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99CA-6DE8-4443-8B31-0E995A57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EA16-6BDF-4796-9A35-AE05B89D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26A2-AA02-445C-81C6-CC59ACAB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5CE2-34F3-49FA-BA0F-B6E99B7D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3EC9-D441-4B9E-854E-705A24B3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303D-EC9A-4F72-93A0-AAE4FAE3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E13E-9B35-4D64-A264-D38E9F6B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50E8-DF37-42A4-8E7E-89D0197F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0010-44A4-4B67-B27F-67702E88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4724-F2FF-49DC-8207-E1F7982A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15CA-9E94-488A-A73C-4663BBAE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E7A6-1014-4467-A3F2-C4BACC9C6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2a | Years lost due to premature death are much higher in the U.S. than most other industrialized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01520" y="1549440"/>
            <a:ext cx="88646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914400" y="5780160"/>
            <a:ext cx="69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pending per person (U.S. purchasing power parity, 2006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2a | Years lost due to premature death are much higher in the U.S. than most other industrialized nations</dc:description>
  <dc:language>en-US</dc:language>
  <cp:lastModifiedBy>Jia Yao</cp:lastModifiedBy>
  <dcterms:modified xsi:type="dcterms:W3CDTF">2013-09-06T15:40:38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2a | Years lost due to premature death are much higher in the U.S. than most other industrialized nations</vt:lpwstr>
  </property>
</Properties>
</file>