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A517-1118-43E4-B7C6-E634CD728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1B | AVERAGE ANNUAL GROWTH IN EMPLOYMENT FOR DETAILED COMPONENTS OF HEALTH SECTOR AND TOTAL U.S. EMPLOYMENT, BY DECADE, 1970-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2F1E-2152-4929-99EA-69AC93C4C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43D5-2201-4C26-9B6E-8795CD00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5D8E-050F-44B2-9249-EF6395D3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ADC4-BE53-462D-A0C1-D3434B4E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613B-6349-4896-9FA4-A7050CCA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754C-ED34-4C7B-A6B1-B7545107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019F-F15C-4960-89DB-904A2EA9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FA61-DA1D-4EA6-9290-627BA49F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1C89-56B4-4800-A8C8-25B83361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C871-E0E9-4478-8600-BB53DE36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7952-1D28-44C6-A827-612549DE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2127-06E9-4536-9C81-A9DBE253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F1FB-E7C9-46EE-B0A1-BEFA99C6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B00A-A88C-480E-B7E1-E34715E11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0.1b | Employment growth has steadily grown smaller since 1972, with the exception of hospitals, where worker growth rate increased since 200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47312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4479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 in total employees (perc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57200" y="5486400"/>
            <a:ext cx="84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all growth rates calculated through the end of the last year shown in each interva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ervices includes private sector ambulatory health services, hospitals,  nursing and residential care facilities. It does not include pharmaceuticals, medical devices, health insurance , or government hospital work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1b | Employment growth has steadily grown smaller since 1972, with the exception of hospitals, where worker growth rate increased since 2000.</dc:description>
  <dc:language>en-US</dc:language>
  <cp:lastModifiedBy>Jia Yao</cp:lastModifiedBy>
  <dcterms:modified xsi:type="dcterms:W3CDTF">2013-09-06T15:03:48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1b | Employment growth has steadily grown smaller since 1972, with the exception of hospitals, where worker growth rate increased since 2000.</vt:lpwstr>
  </property>
</Properties>
</file>