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51D6-DB33-4AAA-A1DC-09AD6C8573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5B | FEDERAL MEDICAID AND CHIP SPENDING PER POOR PERSON, SELECTED STATE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0B07-9035-44F5-B9BF-1659C92651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A823-9A6B-4730-A713-024B807FA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249D-2080-4786-9F9E-E239C765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A2BC-A073-4AF0-B1C9-D03C82C0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2F00-C230-4A75-8DE2-8A81E260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F155-3055-49FF-8C62-4DECB8C0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7BD8-73EA-4B83-8A83-11990304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1989-1DFB-4B3C-92F5-41242CD1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5C4D-8259-4187-ACC7-70D780DF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A5EE-06EE-4FAC-B4FE-D8C8EE86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BB4A-61BE-4A62-807B-874E7CA3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3BE1-12FC-4014-B043-DD746FC9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292E-E203-4126-BEC1-D31C85E3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DF89-9905-4C7E-BE6C-10D3DCB8E2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5b | Federal Medicaid and CHIP spending per poor person varies widely by state, the amount does not decline as state income ri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237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2057400" y="58672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tates ranked by size of 2008 per capita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5b | Federal Medicaid and CHIP spending per poor person varies widely by state, the amount does not decline as state income rises</dc:description>
  <dc:language>en-US</dc:language>
  <cp:lastModifiedBy>Jia Yao</cp:lastModifiedBy>
  <dcterms:modified xsi:type="dcterms:W3CDTF">2013-09-06T13:59:41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5b | Federal Medicaid and CHIP spending per poor person varies widely by state, the amount does not decline as state income rises</vt:lpwstr>
  </property>
</Properties>
</file>