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34FF-3F0E-4C4F-A3CE-71C30441C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E664-D75C-40DF-B02F-C7A053554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2B | HEALTH SPENDING RELATIVE TO TOTAL SPENDING, HOUSEHOLDS, BUSINESSES AND GOVERN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6EE1-DFBC-4DF9-9CC7-6F35F6C5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2080-AE14-43CF-9C42-7FA6D9FB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2E2-313D-4597-AF23-45074728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9C4-8706-445C-8415-8180F7FC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EFB8-B172-470F-B7BE-295092CC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9451-964B-4084-B460-8A265016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A119-EF6F-4DA3-8BC4-D23E4C67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ACA9-491D-4A0E-B05C-891E5B2D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E693-0AC2-4021-B13B-4A65BACD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8723-D60F-4977-90B5-DC31379C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2F14-4125-48C0-A0A9-2A968673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F50-54DC-4538-B61C-A833A95A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4136-2309-4484-A853-998775C2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5000-9DB7-4C6C-9CE9-48FEF277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EAE9-1009-4E2D-9F0B-7BBC0DEC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77BA-5ADC-410E-B1BC-4E6CF1F6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F7D9-0044-460D-8059-F536430A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AFF3-4031-4D0F-86B3-2CBAD52B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FC59-E74D-461A-AE0C-19192CAD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8EE-0A09-4451-9CD7-9C71B37C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F89B-039A-4B30-8F43-704FBD1C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1B07-90D0-496A-83E8-11A61EDB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3B9-B4AD-426A-BE5E-CD42FFEC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97D3-B277-42A7-AE09-8F9CE5A5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2526-AA0C-4976-A995-09B196E88F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01F9-018A-4C14-8093-1E5E4FF152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2b | Business-paid health care has increased modestly relative to wages and salarie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406440" y="558720"/>
            <a:ext cx="833112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457200" y="914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atio: sponsor-paid  health spending to totals shown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79520" y="55627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In the framework of “health sponsors,” business health expenditures include the private employer share of health insurance premiums for workers and dependents, Medicare Part A and workers’ compensation, and industrial in-plant health servic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2b | Business-paid health care has increased modestly relative to wages and salaries  </dc:description>
  <dc:language>en-US</dc:language>
  <cp:lastModifiedBy>Jia Yao</cp:lastModifiedBy>
  <dcterms:modified xsi:type="dcterms:W3CDTF">2013-09-06T14:06:15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2b | Business-paid health care has increased modestly relative to wages and salaries  </vt:lpwstr>
  </property>
</Properties>
</file>