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B90C-A0C8-489D-89CE-1F6979E91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20D6-2832-451E-9E4A-649B774B3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6F1-FE80-4E7B-AAF8-5B2D4A7D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F95-60F4-485E-BA57-B763D415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344-173D-40E6-A985-5BE3962D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30C-4E40-4E56-A87F-25CBD55D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67C-2AA3-4B7D-A3B7-A800B74C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D60-2BB8-45E2-96BD-E1826F54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91E-AB18-4BFC-8B8F-1755F6CA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673-080F-4739-98B7-0FC81221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511-2027-46EB-AE7A-CDC5EE27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1B9-CD35-42D1-8131-1DEFDE99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CFD-55CE-4863-9F4F-359BA8EC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002-FD9C-48D7-8423-FFD70A31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97F8-D301-40E9-B57C-AA5622179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7b | Typical Medicare premiums and cost-sharing will consume virtually all of the average Social Security check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6225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thly premiums and cost sharing as percentage of average monthly Social Security bene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26400" y="6221520"/>
            <a:ext cx="42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MI=supplemental medical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b | Typical Medicare premiums and cost-sharing will consume virtually all of the average Social Security check by 2085</dc:description>
  <dc:language>en-US</dc:language>
  <cp:lastModifiedBy>Jia Yao</cp:lastModifiedBy>
  <dcterms:modified xsi:type="dcterms:W3CDTF">2013-09-23T19:14:3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b | Typical Medicare premiums and cost-sharing will consume virtually all of the average Social Security check by 2085</vt:lpwstr>
  </property>
</Properties>
</file>