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9F01-1C21-4C51-9918-0D58376F4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A6F7-6235-4922-8E56-61944A50DC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9b | Government Health Spending (all levels) as Percentage of GDP, 2002 and 206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Tahoma"/>
              </a:rPr>
              <a:t>Source: Kotlikoff and Hagist, Who’s Going Broke? Comparing Healthcare Costs in Ten OECD Coun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Tahoma"/>
              </a:rPr>
              <a:t>NBER Working Paper 1183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713E-E854-44F8-A336-3593D56C8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342A-8A15-4973-A518-14607F62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7B9E-0915-45E2-9FAD-B5BC5838B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7000-6212-41B7-83B9-D85ADBEBD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7AB8-6097-4C81-A640-25D058589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64EF-9AFE-4CC1-8FC8-84590797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CB2E-AB83-4076-AD4E-AB7FBAE6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9525-B68C-4CC3-8EC4-7402CE20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EF48-9EFC-4D99-A822-C371390E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0094-4AB6-4531-9CD8-ADC9CD0A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67A8-F2EF-4625-8ABD-C6D6CE4C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CA5F-D3F0-4118-AAD3-9BB38C0E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E81C-0962-4864-894C-D022E7E8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90DD-6EAD-4884-91C1-57AC1187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1468-ED4A-4537-8138-B29A1552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3764-F907-45B7-9B8F-9E03EAFAD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1BCD-7242-42E8-A6E9-6BCE175F7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0476-4D66-4C6D-BA08-5C006B06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A2DB-D04E-46A4-BA46-F5349EB0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43C3-2D0A-4D18-81E7-86D2284C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DC22-49A4-43CE-A903-38BEEDE1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578A-2003-446C-AA07-5D332335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E769-AD01-466F-93B7-2538E0D1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8B00-63D6-472A-B894-AD8D7E8F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56EC-BAEE-408F-8882-B27C725049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43BC-D879-40ED-AC64-385310FCDD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380880" y="1397160"/>
            <a:ext cx="8377200" cy="49273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447840" y="5715000"/>
            <a:ext cx="8696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figures calculated assuming age-adjusted health benefit rates grow at historic rates for 60 yea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9b | But rapid growth in government-paid health care threatens to eradicate this margin of advant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2286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576720" y="6095880"/>
            <a:ext cx="797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gist C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L Kotlikoff. Who’s Going Broke? Comparing Healthcare Costs 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n OECD Countries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BER Working Pap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. 11833. December 200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2209680" y="5334120"/>
            <a:ext cx="54864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overnment health spending (all levels) as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9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9b | But rapid growth in government-paid health care threatens to eradicate this margin of advantage</dc:description>
  <dc:language>en-US</dc:language>
  <cp:lastModifiedBy>Jia Yao</cp:lastModifiedBy>
  <dcterms:modified xsi:type="dcterms:W3CDTF">2013-09-23T19:14:44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9b | But rapid growth in government-paid health care threatens to eradicate this margin of advantage</vt:lpwstr>
  </property>
</Properties>
</file>