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5EBC-E466-4AAE-95AC-403152DA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B66A-96E0-4DDC-BEA7-5489EEE3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D66D-1988-41A7-8D11-D5CF41BE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913F-89F3-4A01-B4D4-CA1D06B93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34B2-7EFB-41CE-8E4A-6171DAAA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6A2F-3FAD-427F-8CA8-334D5494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99EB-DD52-4F87-B542-B9A24873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5D95-E510-4BD6-A683-52E9B3CD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1CCD-D50C-46E2-8FB5-4F869C28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B765-5A73-46ED-A68D-2DDD6CCF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6A42-3DA0-4358-BA44-F0F66906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ED20-B2FA-4FEF-827B-5F0E074E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C718-8F40-4B32-B494-F38C834671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6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1Z</dcterms:modified>
  <cp:revision>39</cp:revision>
  <dc:subject/>
  <dc:title>PowerPoint Presentation</dc:title>
</cp:coreProperties>
</file>