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0B0-C136-4AF5-B764-0BEB72F4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EB4-B0FA-401C-9282-978551F4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CCC-77FC-423D-9C28-5341623C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F22-BFD7-4E14-8D0C-F394F260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B23-D0F9-406C-B4FF-B01E004F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4B3-7730-49F7-84CC-C35A7645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869-9402-49C0-A9E5-6FCE6939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7A8-0B75-4342-804C-650A7CA1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7A1-59B1-4F48-B860-4408CDE0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507-C1B0-4F5D-AFB5-07AE85F7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2EB-9B35-4869-9875-29634E38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F2E-6DC4-4B94-A9F3-B88EFC95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B2D7-4CC3-40BB-9492-7B88BF9E8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3240" y="1219320"/>
            <a:ext cx="91472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4Z</dcterms:modified>
  <cp:revision>31</cp:revision>
  <dc:subject/>
  <dc:title>PowerPoint Presentation</dc:title>
</cp:coreProperties>
</file>