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F33-43B5-49DB-89E0-9913F74B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471-929C-44E4-A66B-85B39E8F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B8F-E06E-4155-A80B-B15788BA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C92-4156-4E9D-8F63-90021744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A45-A885-4707-BFAA-195FEA62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FFB-48A3-4197-B05A-796415FC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133-A752-4996-B58B-FCD6FD90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024-987E-4D8B-B965-1DD8BD6D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9EB-28E0-4DBA-B878-AF253CFB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3943-16BE-4C98-9FAF-2DA23A37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7B3-D59C-4B70-8457-ED24A08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1AC-CE62-44AF-96E9-361DF618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087B-E5C2-4D05-968D-F502C4C86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39720" y="0"/>
            <a:ext cx="786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9Z</dcterms:modified>
  <cp:revision>37</cp:revision>
  <dc:subject/>
  <dc:title>PowerPoint Presentation</dc:title>
</cp:coreProperties>
</file>