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CB2-A1E9-4F86-B4C9-A5B50073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1F9-641B-47E3-9184-3471DD36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E57-ADC2-4594-998F-EB0E53B0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A5D-8386-4274-BD0D-0E0F8B61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823-5ADD-458D-9C26-D70B0B79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4DA-0174-49DA-BECE-5FE0B29B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45B-C02F-4F5F-AAD0-963A8157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958-66B1-4515-A47F-2842B168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055-5F30-4336-AA7F-04B6B24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96E-C70D-4CB6-888E-D66630A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391-756C-4D71-AFD7-246E51F2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792-F74D-4AE2-A5E5-A4A13D91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0064-C208-474C-8350-2FDD02A74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7Z</dcterms:modified>
  <cp:revision>8</cp:revision>
  <dc:subject/>
  <dc:title>PowerPoint Presentation</dc:title>
</cp:coreProperties>
</file>