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93F4-D780-4F9E-A2DB-09674AE1C0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6C | RATIO OF HEALTH-RELATED UNFUNDED LIABILITIES TO U.S. GDP AND HOUSEHOLD NET WORTH IN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4DF6-B9A9-4AD2-A0B3-FA7B7386F7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B510-8DC0-465A-B2E9-EB64B6AD3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B3A5-AFD0-43AD-834F-5D66D877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271E-CED9-4435-88E6-4A9F9DFB4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FC95-BBBA-4684-AE30-458266D03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0964-5ED0-4C45-968A-6D5E29A5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D7F0-5D3C-4A51-93C7-B048C40A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EF04-E47F-47BE-8FF7-1C79EB9A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FE67-B31E-4194-8BE7-64385F92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228F-F133-483F-A1E1-C6D7A15A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952C-D0F2-4820-BFB8-E7D077B4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A724-7816-4267-9FED-90F1268B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47BA-F324-443A-AA99-9EB8343E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2606-2561-46BA-A312-690DA3E6B0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6c | Health-related unfunded liabilities alone are  at least double national income; in the long run, they exceed current U.S. net wo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027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55480" y="1405080"/>
            <a:ext cx="1600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atio of unfunded liabilities for Medicare and Medicaid relative to measure show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2680" y="6037200"/>
            <a:ext cx="55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unfunded liabilities calculated as of January 1, 201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6c | Health-related unfunded liabilities alone are  at least double national income; in the long run, they exceed current U.S. net worth</dc:description>
  <dc:language>en-US</dc:language>
  <cp:lastModifiedBy>Jia Yao</cp:lastModifiedBy>
  <dcterms:modified xsi:type="dcterms:W3CDTF">2013-09-23T19:14:30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6c | Health-related unfunded liabilities alone are  at least double national income; in the long run, they exceed current U.S. net worth</vt:lpwstr>
  </property>
</Properties>
</file>