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53B9-9841-4AED-A0B5-47FFBA93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44C-1415-4829-BA91-C13F2813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877-6F0F-442C-8126-5B4FA2F1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E5C-A054-4DC1-AD17-4C6CB748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674-AC6A-49F7-ADD4-FB893AA9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09F-06A4-44F6-84C9-B536FBB1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921-E421-488F-9AB9-31DA5E54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12C-ACF1-46F7-8FD2-12035D74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40D-CF83-4637-99EE-C06D59EE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AA6-704C-4C09-B8F9-C142F1FD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E1C-3E08-4315-9623-5FA4FDD0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97FD-E757-4ECE-B56B-939326A2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281F-2265-44D8-8B97-CCAC0231A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3Z</dcterms:modified>
  <cp:revision>6</cp:revision>
  <dc:subject/>
  <dc:title>PowerPoint Presentation</dc:title>
</cp:coreProperties>
</file>