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08C1-0369-498B-B68D-D36F72D4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91A1-28B8-4FC5-AE84-785B0250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1929-35DE-49F4-94D2-B8CDE91D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1F37-503B-4D43-B503-0BF628BD2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8864-5FD2-494E-875D-A1F45A6F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CD02-BA55-4915-8DF3-3BC44866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9158-8319-4ADB-A9BB-36750ABF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9361-8F69-45FB-9526-4577600B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9A0C-C176-43A3-8D0F-A568580C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7C91-BAEE-4DFE-9598-232E5685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5500-CA64-4385-ACC1-EEFD2ED5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A616-2C06-4130-9773-0FAED931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FAB0-91BE-41BD-9A7D-E0680F57D4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3012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6Z</dcterms:modified>
  <cp:revision>30</cp:revision>
  <dc:subject/>
  <dc:title>PowerPoint Presentation</dc:title>
</cp:coreProperties>
</file>