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C98E-FE77-4A27-91AD-4D397DCAC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CAB4-BB35-4032-81E8-A7CBCFCB2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9a | General Government Expenditures as a Percentage of GDP, 1993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A5C7-5D58-4624-9BC1-C7332D22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3E6-D3B0-4F37-8372-933EFADC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2E1-1D52-43E8-9E5F-F6D63B93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745-70C3-4BB8-8F0A-B4A0A763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6DB9-0374-492B-8C89-5EBFFE00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388D-268E-4516-A811-9B5F9877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5F54-BC98-4B43-9695-0070DC68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8556-B94E-4093-A122-2A6BCEBC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8730-0C08-4B4F-B0F1-3059DB61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6774-71C2-4597-92E0-A5CDDCB8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A344-F885-4C19-B256-88D3A70F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35A-46C3-4DD4-BDEC-7695FCEC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8903-9954-4E39-9EE0-05E1EDD5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BEDD-0B0D-458D-A312-1C2728B6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CA97-3A92-4C36-A1DD-B351B8BC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5F13-13FC-4170-B596-2F7C4C13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1E75-E528-4284-AC1D-D690E82E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EBA-CB4E-48B2-AFD1-6A695168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B4F-ABDB-4543-8E0C-0280415D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1D9-9A8B-4EE6-83CB-416DECD4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D48-BCF0-419C-B62A-68798493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DCC-C8F5-4A2C-987A-E5D02C8A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FB0-692E-4BC7-84A7-CAF9573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822-72F9-48B4-8511-A2D59BB3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7694-54AC-4FCB-9170-6BC81CE92E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EB5F-EC02-447E-8B1B-BA097FB7E7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a | U.S. has a lower burden of government relative to its major G7 competi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380880" y="1924200"/>
            <a:ext cx="8377200" cy="493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209680" y="57913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eneral government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a | U.S. has a lower burden of government relative to its major G7 competitors </dc:description>
  <dc:language>en-US</dc:language>
  <cp:lastModifiedBy>Jia Yao</cp:lastModifiedBy>
  <dcterms:modified xsi:type="dcterms:W3CDTF">2013-09-23T19:14:4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a | U.S. has a lower burden of government relative to its major G7 competitors </vt:lpwstr>
  </property>
</Properties>
</file>