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90F-4FA5-4370-BF18-3C1B974C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2CB-5046-4139-BA0D-1BC90EAA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896-532E-43E6-B932-FE43D3DA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7BD-EDC4-4FCC-BA1E-BF122244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64C-63E1-414D-ABE5-39F0ECE8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EDE-F8EE-4883-B39E-6E2E19AA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DFF-D3DA-4D15-B800-1D70443F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25D-4A6D-4668-A5A6-6487C18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EE8-CAFC-4633-8D1A-4423C498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1BC-5012-4B86-9BBD-79809004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37D-42A7-421C-B8FF-6FF29AB7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670-6EEC-4F3D-AB52-4E8660F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D0B6-7D13-42FF-BB2E-856731610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" y="990720"/>
            <a:ext cx="912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0:52:45Z</dcterms:created>
  <dc:creator>Jia Yao</dc:creator>
  <dc:description/>
  <dc:language>en-US</dc:language>
  <cp:lastModifiedBy>Jia Yao</cp:lastModifiedBy>
  <dcterms:modified xsi:type="dcterms:W3CDTF">2013-09-06T20:54:08Z</dcterms:modified>
  <cp:revision>1</cp:revision>
  <dc:subject/>
  <dc:title>PowerPoint Presentation</dc:title>
</cp:coreProperties>
</file>