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4AA4-0F05-4441-86E5-239444DD0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99B7-94EB-41E2-8E24-63DD3A1352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a | Percentage Distribution of Personal Health Expenditures, by Sector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E6F-67CE-4380-AA7F-9442D4DC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A47-7653-4230-80E1-D7A118E3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9C1-65F0-43BA-A563-DF731897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B95-39B8-4E03-BB34-73E706AA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99AC-9E29-45B1-90AA-6C3CBC96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7978-FD78-4D59-A201-0896C5BB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3B78-83CA-4864-9241-222C9441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9489-B31A-43E2-97FE-4798BC73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B555-2B92-4BEA-9E14-3E6D22A7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AB1D-FF34-4F60-ACA4-E283D953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D528-017F-4EDF-BED4-E2E69F6F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59A-07A7-4393-896E-ABFDF1B7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0C18-0ECA-499D-8095-2A37393C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620D-0ECC-41AB-83ED-4CBEF128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BE67-1099-4C76-86A8-AD440E6B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1E4F-1CC3-4322-A920-E5E63E08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46FA-AFB3-4E97-8368-A4630A78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500-96EF-4DC4-9602-C372C673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CDF-5C62-48A7-B1ED-A94EC085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974-C47E-4A43-9F31-5DB42258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3D7-FE25-4637-90F1-C7184401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A70-132D-40C2-9A1C-0D50C7CC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C04-2E3E-4E5F-8456-509F98D4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605-E9C8-4DC3-97F0-27C3D54E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0247-1CF7-4EF1-A352-D42A2E36D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72DD-3781-47C5-B4D2-1DB78A97A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a | Since 1965, the growing federal share of personal health care expenditures has displaced private and state health spending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Straight Connector 5"/>
          <p:cNvSpPr/>
          <p:nvPr/>
        </p:nvSpPr>
        <p:spPr>
          <a:xfrm flipV="1">
            <a:off x="1523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traight Connector 6"/>
          <p:cNvSpPr/>
          <p:nvPr/>
        </p:nvSpPr>
        <p:spPr>
          <a:xfrm flipV="1">
            <a:off x="3429000" y="152388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9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12"/>
          <p:cNvSpPr/>
          <p:nvPr/>
        </p:nvSpPr>
        <p:spPr>
          <a:xfrm flipV="1">
            <a:off x="44197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15"/>
          <p:cNvSpPr/>
          <p:nvPr/>
        </p:nvSpPr>
        <p:spPr>
          <a:xfrm flipV="1">
            <a:off x="53341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6"/>
          <p:cNvSpPr/>
          <p:nvPr/>
        </p:nvSpPr>
        <p:spPr>
          <a:xfrm flipV="1">
            <a:off x="6324480" y="1523520"/>
            <a:ext cx="0" cy="44197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7"/>
          <p:cNvSpPr/>
          <p:nvPr/>
        </p:nvSpPr>
        <p:spPr>
          <a:xfrm flipV="1">
            <a:off x="7238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9"/>
          <p:cNvSpPr/>
          <p:nvPr/>
        </p:nvSpPr>
        <p:spPr>
          <a:xfrm flipV="1">
            <a:off x="4038480" y="1523520"/>
            <a:ext cx="0" cy="342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22"/>
          <p:cNvSpPr/>
          <p:nvPr/>
        </p:nvSpPr>
        <p:spPr>
          <a:xfrm>
            <a:off x="4273200" y="213372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1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a | Since 1965, the growing federal share of personal health care expenditures has displaced private and state health spending </dc:description>
  <dc:language>en-US</dc:language>
  <cp:lastModifiedBy>Jia Yao</cp:lastModifiedBy>
  <cp:lastPrinted>2002-05-16T21:44:34Z</cp:lastPrinted>
  <dcterms:modified xsi:type="dcterms:W3CDTF">2013-09-04T21:03:4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a | Since 1965, the growing federal share of personal health care expenditures has displaced private and state health spending </vt:lpwstr>
  </property>
</Properties>
</file>