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7B00-BD27-4C02-B4CF-41A462A544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C | TRENDS IN PROFITABILITY: RETURN ON EQUITY AMONG FORTUNE 500 PUBLICLY TRADED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HARMACEUTICALS AND MEDICAL PRODUCTS &amp; EQUIPMENT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1DDE-39D2-4659-852B-C52E6949E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817-1A8C-4D97-B79B-68C44879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2320-E7FB-4318-939B-B73C8314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047F-31B6-4B14-971E-C90A09346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D10F-F61F-44E5-8287-501B52E8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FB42-46B9-4202-943E-0D5D929F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1CA4-4794-493F-B2EB-1B4417B2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4D19-31D8-4FA6-AA84-FA19327E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6AA-BD60-40FF-8909-1F3055AA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6CA3-CB36-4033-BEBC-3984095B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9281-6386-40DB-A0BE-B459B0FE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50B0-E418-421B-AEC5-9F368351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7C66-7447-4364-80E6-30D957A3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49B4-4440-4F7F-BE32-7557BBE18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8.7c | Both pharmaceuticals and medical products have somewhat lower industry rankings on return on equity than other measures of prof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78880" y="1143000"/>
            <a:ext cx="66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Equity (ROE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41440" y="5345280"/>
            <a:ext cx="834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E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11). While the number varies slightly by year and profitability measure, roughly 50 industries a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c | Both pharmaceuticals and medical products have somewhat lower industry rankings on return on equity than other measures of profit</dc:description>
  <dc:language>en-US</dc:language>
  <cp:lastModifiedBy>Jia Yao</cp:lastModifiedBy>
  <dcterms:modified xsi:type="dcterms:W3CDTF">2013-09-06T14:17:17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c | Both pharmaceuticals and medical products have somewhat lower industry rankings on return on equity than other measures of profit</vt:lpwstr>
  </property>
</Properties>
</file>