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DC42-1B43-4D35-B5F5-3B5767A7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6592-D6F9-49D0-A9B0-52950282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A2AA-B2FF-41CE-B8ED-F63E36A4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2F75-20AE-4B8E-AB29-6C9C5E64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7961-3150-412C-9B0F-9A45C156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DB68-A1EE-4F9B-970E-0B9D2BE8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50A3-ADF5-4135-A8E2-39117DA2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D2C5-2996-4FD1-AFEC-FE01C057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310A-DB20-4DCB-82D1-2486D782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C78C-CC46-4619-B950-3FA0BEDE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C303-C3A0-4104-B12A-2355F2E1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60FA-7560-42B0-964F-A89332CA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BAAD-2A24-4142-8764-A03210740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9840" y="228600"/>
            <a:ext cx="9004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4:30Z</dcterms:modified>
  <cp:revision>39</cp:revision>
  <dc:subject/>
  <dc:title>PowerPoint Presentation</dc:title>
</cp:coreProperties>
</file>