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E012-6F4C-4665-97CB-18E7ED331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A443-A4CB-401E-B7B2-7F9DFC39F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354B-3D85-404D-A783-A6E67CD31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03F7-8A87-4C0E-962B-8AA92FCA4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C9FE-97C3-4078-890D-53AFE0539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093D-9893-4CE4-86A1-48B29A12C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49C0-D688-44CC-A8AC-F4B237DE8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DCB1-12A1-43AF-9B8C-27A8BAED6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E527-D63A-4B11-96D7-66420D42E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C658-0F5A-43B1-8BD3-894E0E64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81B4-2502-4DA6-B5A5-2912B8C83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D774-8317-4350-9A8A-88C56532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D6DE0-62BA-4AA7-8769-8DCFD2F7E8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90360"/>
            <a:ext cx="9144000" cy="667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00Z</dcterms:modified>
  <cp:revision>18</cp:revision>
  <dc:subject/>
  <dc:title>PowerPoint Presentation</dc:title>
</cp:coreProperties>
</file>