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3C5-1120-487D-984B-96CFE49B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80A-6539-432B-ABE0-4EA5D3EC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886-F3C3-4540-A143-A5B4549B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B16-AEC4-4505-AB3D-F02523D7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204-53CC-48C9-840E-F4E444A6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78B-B64F-4DAE-8E36-140090E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E40-EF54-4FA3-A851-6C54613F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EDD-8E81-44DF-BB47-FEA1748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8E1-8FEE-495E-A8D5-10CE0276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229-D432-4823-B69E-1ECC31E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727-D4D3-4C79-B1FB-82345463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190-44C1-4B94-B6C5-23551A3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62B0-240E-48A2-B537-F18A4EA48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5Z</dcterms:modified>
  <cp:revision>6</cp:revision>
  <dc:subject/>
  <dc:title>PowerPoint Presentation</dc:title>
</cp:coreProperties>
</file>