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D7AE-C2FF-4CB1-BCBC-38ABE67A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B09A-2F34-4E2F-840A-3E769BF6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1674-0E14-4C22-960F-C31AD28B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E4B6-35D9-47CB-9F5A-64061519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F166-CBA4-477E-B6A6-E277F761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409C-C663-443F-BADB-2D4FF66B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44F1-45A5-4350-BB39-9F1D7DDF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25D9-52BA-4E74-8582-D7122CBF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876-5259-43DB-862F-69EFCA05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A2CC-8C51-48AA-AD8D-FCBE8CF0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3B90-22C1-41D1-BA8E-2D908E11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EC58-35FE-47A5-A08B-F0A8A3F6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9059-F477-4F2D-B03A-1432BB832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360" y="152280"/>
            <a:ext cx="91252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2:07Z</dcterms:modified>
  <cp:revision>37</cp:revision>
  <dc:subject/>
  <dc:title>PowerPoint Presentation</dc:title>
</cp:coreProperties>
</file>