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5191-3CAD-463E-B48C-AA09325B42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2B | POVERTY STATUS OF UNINSURED, PERSONS WITH PUBLIC COVERAGE AND PERSONS WITH PRIVATE HEALTH INSURANCE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89BA-046C-45DD-9551-BA8E71435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3FBC-689D-45C9-84B1-1C4FB540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E52F-6323-441D-B7AF-308CF3AC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34D2-1C2E-47CD-847C-23277709A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01AD-0D9D-4CCB-AB66-201B041AC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717C-E872-45FB-84A9-54858327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75E5-8083-4D3F-B025-B82F465E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74F7-F363-44D7-8105-4C7BE3AD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5CCF-2BC7-4C60-B639-8FFCEEF5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2B58-37E5-4FE6-B3B2-1C87F933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8E62-7484-4BB3-89C8-5E1908EC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9E80-AEF3-4E9D-912D-F2818A04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BF7B-25D8-45C0-B5C8-E538B9FE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E9A4-8885-42DF-9811-1787C8F7C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2b | More than half the uninsured and three fifths of those with government insurance have incomes below 200 percent of pove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58720" y="1092240"/>
            <a:ext cx="82933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057400" y="1828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U.S. population under age 65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85800" y="5943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individuals with public and private health insurance were placed in the public health insurance catego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2b | More than half the uninsured and three fifths of those with government insurance have incomes below 200 percent of poverty</dc:description>
  <dc:language>en-US</dc:language>
  <cp:lastModifiedBy>Jia Yao</cp:lastModifiedBy>
  <dcterms:modified xsi:type="dcterms:W3CDTF">2013-09-06T15:16:54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2b | More than half the uninsured and three fifths of those with government insurance have incomes below 200 percent of poverty</vt:lpwstr>
  </property>
</Properties>
</file>