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57A-8058-4734-A74C-1DFE9991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07E-11E5-46D0-9AB5-9F17753A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3A0-8282-4946-A581-ADB70F83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E82-334D-45DA-88CD-39CFCA06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63E-7BA8-463A-A96D-C6288D77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3B0-0464-4C05-AE5A-4BEDAB30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B37-50B1-41A2-8EB6-91F7DDBA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88B-28B9-42C3-B407-C2406CDA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6DE-121F-469C-B910-3CA1AE24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24B-2862-4663-A84B-5A29C07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08B-E00F-49A7-8F70-6D77F118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9BE-5F27-43B6-B6D9-B1CFECA2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373C-EB96-4034-8235-AC25E98B8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1320" y="19080"/>
            <a:ext cx="4581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9Z</dcterms:modified>
  <cp:revision>6</cp:revision>
  <dc:subject/>
  <dc:title>PowerPoint Presentation</dc:title>
</cp:coreProperties>
</file>