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9B7-7DAA-4F0B-ACF6-9E0FB08B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852-EC28-41DB-AF75-CDA527AD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076-6D94-48B7-9736-8190E94F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27E-4CCA-477B-85E6-B672BB2A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CF5-D669-41B4-806A-361861D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E91-352C-429F-B343-BF3C2198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8AF-F0DE-4F7A-B4B3-D03D0752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DF8-35B9-4216-9CFE-CC68048A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964-5CED-4586-856B-F906560C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AC4-B3B6-4A22-B0A3-833EA8B1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B9F-DE94-409B-85FB-877AFC21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D1E-76F7-42BB-A25D-21E0E5D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3CD3-6CFE-42A1-9C79-5F91679E5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1Z</dcterms:modified>
  <cp:revision>43</cp:revision>
  <dc:subject/>
  <dc:title>PowerPoint Presentation</dc:title>
</cp:coreProperties>
</file>