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4FDA-4EF1-47FF-AE18-4B3472E13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F619-6468-4CD3-9028-2FB04A35D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19D-0C4C-4115-95F7-989A01E0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F9E-EE16-4531-A1D4-5BAEE35E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800-57F5-4CD4-8D30-9B3FBBE8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BE4-1FA8-40BF-A364-0F352E8B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E18-F3E4-4FF2-9EE5-1BD47B9F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396-31C8-41C4-9163-B745D609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D92-6BD4-44C5-855C-C6B84B8A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D46-5A85-4105-9033-F806C2BD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B3D-8E70-4FF3-963A-108C52F0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05B-FCC9-450D-BC9C-239C7B6A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B4D-B0C0-4D0A-A52A-45868A43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9E4-180F-453B-B671-204D8A4D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5031-B5EB-4866-B1ED-BA9F59AF4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66680" y="-4680"/>
            <a:ext cx="70056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0Z</dcterms:modified>
  <cp:revision>14</cp:revision>
  <dc:subject/>
  <dc:title>PowerPoint Presentation</dc:title>
</cp:coreProperties>
</file>