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984-3E64-4745-A6DC-27E46400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43B-10B1-4081-BE81-E7793CC4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FAE-FB0A-4844-9876-1640C133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297-8C7B-4FC2-B0B6-AA058F59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231-B233-4A7C-A543-587ACCFA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BD5-8D70-4A3F-A693-CDEBA4C3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B12-4DE5-4CE8-A52B-0E0D241B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EE7-A2B2-4402-8597-88BB4B49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EF1-7B39-47C8-82B5-11ECEB64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D73-EF3B-455F-99DA-EEED360E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7D2-CB53-4943-B38A-6909B32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266-6286-40BC-9225-6B06B24E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842D-DAD9-4F59-8124-7E24495DD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53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4Z</dcterms:modified>
  <cp:revision>40</cp:revision>
  <dc:subject/>
  <dc:title>PowerPoint Presentation</dc:title>
</cp:coreProperties>
</file>