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17D-31C3-450C-8CBC-74ADD38E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EE13-6205-4F29-A5CB-D20EBE6B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A69-86E5-48A2-B25E-B27E50DE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DFBC-6457-47DF-8B51-1F4BE800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07A-A183-4C0C-BB0E-BBBA1690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07F7-3290-47AF-8BC9-47E965E7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0243-743B-4F0E-9479-39A333F3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35F3-CC45-4706-9938-D7546B4F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1E20-E8B9-4603-87B7-14FF19AB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D721-2E6C-4857-B571-C29579CD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B1A5-A9B5-4894-AC35-E94ED917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54C0-7440-43C9-B0F6-913D7595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D88E-0D81-4364-9BE9-EE685D979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84240" y="990720"/>
            <a:ext cx="8975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9Z</dcterms:modified>
  <cp:revision>43</cp:revision>
  <dc:subject/>
  <dc:title>PowerPoint Presentation</dc:title>
</cp:coreProperties>
</file>