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28AE-CC9E-483D-8242-8F84CFFBD5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4A | EMALE PERCENTAGE OF ALL EMPLOYEES BY HEALTH SUB-SECTOR AND TOTAL CIVILIAN EMPLOYMENT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BD13-C571-4118-8D4A-A11B8C6BA3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5639-F39B-4D1D-913D-F1A3BD38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D3D9-0C16-4D10-9377-5A4C4934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B6A8-1F3B-4595-AA90-715D7520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791F-E51B-463F-9FAC-59E81DC3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AABE-0D2E-4FC1-8C7F-1DE7A555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2045-0465-4309-B950-FC8040E2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29FF-E3FF-4917-B06B-6831838C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8031-74BE-4A25-8331-420DC757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30FF-C8EF-4432-AEDC-FC938A23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4D21-841D-4BF2-85FF-2235290F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30BD-A8F8-47BB-8362-1B7D42F2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2CEB-2C06-4A4C-BE89-640853BA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26B7-697A-4EAF-BF79-BB900C195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4a | Females account for more than three-quarters of health sector workers, compared to less than half of civilian employment overal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092240"/>
            <a:ext cx="90169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4a | Females account for more than three-quarters of health sector workers, compared to less than half of civilian employment overall </dc:description>
  <dc:language>en-US</dc:language>
  <cp:lastModifiedBy>Jia Yao</cp:lastModifiedBy>
  <dcterms:modified xsi:type="dcterms:W3CDTF">2013-09-06T15:04:05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4a | Females account for more than three-quarters of health sector workers, compared to less than half of civilian employment overall </vt:lpwstr>
  </property>
</Properties>
</file>