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51CF-9FE5-417D-AD03-DF2671935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3.1a | Number of Persons Below Poverty Line, by Poverty Measu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CB50-B8DD-4F8F-B5AE-05F2FCC57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EC9-21FA-4E45-902B-A118E38D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3C7-426B-4029-8770-A6588BDF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56E-2708-4F5E-80E8-AFD05BC2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E10-144C-4D41-9627-88BA2096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B2A-B25F-4B29-BDAB-C9772BBC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C2A-08C7-48DB-8C16-70149F99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C09-2FD1-40F4-9765-EAD1DC04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72A-1513-4743-AD5A-7447E624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028-AFBD-4335-90DC-83949CB8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8F3-66D1-4549-9CA5-0EB594D0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FF4-ABC5-4E18-882D-D1771973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BE4-32C8-4CE3-AB08-C6C82BC7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A39E-66F4-40CA-993F-A5B7E628C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a | Taking into account medical expenditures decreases the estimated number below poverty by up to 4.5 million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number below poverty line, in million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a | Taking into account medical expenditures decreases the estimated number below poverty by up to 4.5 million people </dc:description>
  <dc:language>en-US</dc:language>
  <cp:lastModifiedBy>Jia Yao</cp:lastModifiedBy>
  <dcterms:modified xsi:type="dcterms:W3CDTF">2013-09-06T15:16:48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a | Taking into account medical expenditures decreases the estimated number below poverty by up to 4.5 million people </vt:lpwstr>
  </property>
</Properties>
</file>