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4EA4-6F51-4EC7-A9D7-619B91D8A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E74D-41B7-4E49-A88F-D7FD5713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6630-2F98-40DB-9671-9DF56B639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F5BC-2D3A-44BA-860B-23B2A1A1A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D730-22DB-442E-94A8-BCC6E495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BDCF-09DB-4A73-8336-43462A6E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DE18-8048-48FB-B545-AD461706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2AC8-BC56-498D-820C-35F43266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71D5-CCB7-4F0A-ABC2-0445EE52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B113-67E5-4CB9-936F-4BFC00DC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AB9E-26D8-4DB8-B1EC-49DFBE30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BFBD-A750-41BB-992B-6AA32D62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052D-04DD-421C-BFD5-5C21BEAE4D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76320"/>
            <a:ext cx="9123480" cy="67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2Z</dcterms:modified>
  <cp:revision>8</cp:revision>
  <dc:subject/>
  <dc:title>PowerPoint Presentation</dc:title>
</cp:coreProperties>
</file>