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6E0-ACD2-455A-BD05-C8744B7C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91B-308B-4D1F-9714-FC0631C2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1B9-8F68-4E15-9A70-C6A1BBF2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125D-C326-4F97-A9E1-0D932A77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2AD-1FD2-4564-9849-4E56CC1D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F81-AF5D-43EA-8674-0DFEA2DC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454-30B0-4496-ACA8-9B910EEF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2B8-481B-402B-A45B-B2F01FB2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A93-A698-4D85-B48D-AD140CD6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5F7-0F35-4D82-8313-3691AAD4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6F0-59C3-40EE-9442-70CB6217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0AF-DC9C-4947-B2B6-AE252342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A4B0-A09D-4830-998E-03AA1DCED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6Z</dcterms:modified>
  <cp:revision>37</cp:revision>
  <dc:subject/>
  <dc:title>PowerPoint Presentation</dc:title>
</cp:coreProperties>
</file>