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4E85-D10B-4ED9-A638-8B2056826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5496-A655-4D51-A69A-1B1E085BDE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b | Alternative Measures of the Government Role in Financing Health Ca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0EC-FB09-4BF3-A51B-B71DBD60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436-F7F2-491E-A92F-F61A0BA7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173-6FBB-430E-B54B-2DAC9B67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DFC-0865-4A0B-9395-6208507B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56E4-2C91-4B1D-96DE-CA7BA28D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F66F-5D24-4E34-A30B-B5F5D71C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E783-1672-47E4-BBE1-6B60AE00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B9B1-1779-47C2-9545-2B341F49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6BF9-BB4A-4939-B84F-7822F2F3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9C19-5E78-4E51-86F2-C517833C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9690-E60D-4465-AC4E-8FF6C5F8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BD4-C746-4DEC-8368-FFDB2F15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3A05-6FD6-4E16-A42D-BFCA82BC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12A7-CD0B-4817-8DC2-AD839EE0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4EBC-D256-43F5-86B1-E93B21A5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0229-CC8D-4159-A849-6B117C7B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9509-FBC0-4D64-A804-42F9A951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47A-96B6-4FB7-BDF2-D57FC13D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213-6645-4924-AF9E-75EE8F98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42D-3BB6-4176-8FC2-1EFD11D4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7AF3-2F6F-46AC-AEA8-1072A55F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ACE-9432-47E6-89B5-31FFAED2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665B-2599-481F-A66A-916061F0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238-D189-4E38-AC83-5CE99EED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0416-B4A0-40A0-B503-C50BAD080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DE42-611F-45D1-BF7E-7B76133D0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b | Failure to account for health-related tax subsidies substantially understates the government share of national health spending (NH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b | Failure to account for health-related tax subsidies substantially understates the government share of national health spending (NHE) </dc:description>
  <dc:language>en-US</dc:language>
  <cp:lastModifiedBy>Jia Yao</cp:lastModifiedBy>
  <cp:lastPrinted>2002-05-16T21:44:34Z</cp:lastPrinted>
  <dcterms:modified xsi:type="dcterms:W3CDTF">2013-09-04T21:03:5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b | Failure to account for health-related tax subsidies substantially understates the government share of national health spending (NHE) </vt:lpwstr>
  </property>
</Properties>
</file>