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1F5C-8427-4FFC-BF28-CF9A465A0B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3a | Real Hourly Output and Real Hourly Compensation, Private Sector and Ambulatory Health Services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44EE-DB81-4765-A885-3876E2550F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CDE3-CD75-41DB-8B72-2CD986D2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F2E8-D214-49E2-B8D4-01640F66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961C-3533-4E92-B71A-50F68D05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3A62-89A0-4D60-9550-D95330A2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46FD-05D1-4015-A2BA-BDBFC3A6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1E2C-90D2-45FD-AF4A-D522E403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AFF0-E80C-4088-83D2-624A786F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185B-6745-4471-9C6F-E39BD169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A479-A328-4A92-84D2-6DA86FCA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B8DC-8B82-4B8D-8942-A56F432C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A837-3142-463E-BBB6-531B695F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A01F-A227-4EA5-A522-A331DEA1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0DEA-F669-490E-9968-D17D70DFD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3a | In terms of worker purchasing power, real hourly compensation in ambulatory health care matches changes in hourly output over the long hau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69320" y="137160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es (1987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3a | In terms of worker purchasing power, real hourly compensation in ambulatory health care matches changes in hourly output over the long haul </dc:description>
  <dc:language>en-US</dc:language>
  <cp:lastModifiedBy>Jia Yao</cp:lastModifiedBy>
  <dcterms:modified xsi:type="dcterms:W3CDTF">2013-09-06T15:08:42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3a | In terms of worker purchasing power, real hourly compensation in ambulatory health care matches changes in hourly output over the long haul </vt:lpwstr>
  </property>
</Properties>
</file>