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A534-8271-435C-99AC-2AA7CDA3C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6024-DE63-4589-8FF0-E5FE3EDC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D67F-6129-4696-9F0F-3B126FA8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FA18-D19B-42B4-9BE9-34409F4CD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EEAF-379F-472E-A404-2085A3B3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4460-0C07-496C-8FE7-045B7FEA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6BF4-BBB8-48C9-868C-810C3DF0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9E86-46AD-41D1-B88A-B5A0AEA4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4498-CF47-4B8F-9C04-8FF3EB04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E87B-7005-4DCF-A8D8-C1668435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0D58-6DF5-494E-998B-57EF2CD9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E00B-2F52-4DC9-BB72-1BF12D8A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4B2D-AA49-4067-9F27-3F7BE38F44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76320" y="1362240"/>
            <a:ext cx="89722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50Z</dcterms:modified>
  <cp:revision>24</cp:revision>
  <dc:subject/>
  <dc:title>PowerPoint Presentation</dc:title>
</cp:coreProperties>
</file>