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287-528A-4FD2-8591-87DF1B33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9A3-1B69-4C30-B3AD-F0EC5C7A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E0C-DC6C-4D45-AFCE-CCC3C004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A67-64B9-4037-A816-C431A744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BE7-BF23-4803-B512-79ECCD2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0D6-4FA4-4B66-8C4E-2620E361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BA8-882E-4D21-8D53-D5AB7C33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7A9-794A-45E0-B5AF-FD7A0F90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D07-1E57-40B4-86DB-E5F159D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2FA-89ED-4D41-A060-D6486D94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341-0758-4EDF-B1BF-B0AF8E53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042-6456-488F-90BE-3F08294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6418-C8A7-4223-9FD1-69977CE1A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5Z</dcterms:modified>
  <cp:revision>39</cp:revision>
  <dc:subject/>
  <dc:title>PowerPoint Presentation</dc:title>
</cp:coreProperties>
</file>