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2DE2-A169-4176-A69D-C0B92F6CC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A | INDEX OF FIVE-YEAR CANCER SURVIVAL RATES (100=US) FOR SELECTED FEMALE CANCERS IN SELECTED INDUSTRIALIZED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0892-04FC-44CE-AD25-1E2F61622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6AF-4E82-494E-9536-0CC7FB0B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2B7-AE67-4BBE-9CCB-CE246C9E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043-55D9-4438-9DE7-1BAF764E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98F-7D92-45B7-9998-67BA849D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7BC-2369-4EC9-B1F1-EF40AB59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D62-2603-4055-BA70-E6F832BE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224-CF07-48B8-898D-6B2B1864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D83-EEBF-4453-81AD-D18DB955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742-A48E-42C8-B0AA-C0ECF023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2AF-E0C3-430F-A659-38C5F439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8E3-F923-454D-BEA6-098A5632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A19-90C1-4E1B-91AB-641C39F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3D39-7CAF-435D-884E-9785690D2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a | The U.S. leads the world in female cancer survival rates for the leading causes of cancer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1371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ve-Year Female Cancer Survival Rate Indexes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3520" y="522756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a | The U.S. leads the world in female cancer survival rates for the leading causes of cancer deaths</dc:description>
  <dc:language>en-US</dc:language>
  <cp:lastModifiedBy>Jia Yao</cp:lastModifiedBy>
  <dcterms:modified xsi:type="dcterms:W3CDTF">2013-09-06T15:41:1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a | The U.S. leads the world in female cancer survival rates for the leading causes of cancer deaths</vt:lpwstr>
  </property>
</Properties>
</file>