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75E5-0D43-4C20-A400-EE4593300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4 | UNION MEMBERSHIP AS A PERCENTAGE OF EMPLOYMENT IN SELECTED OCCUPATIONS AND INDUSTRIES, 1992, 2000 AND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346C-BA93-403B-924A-37F0F51AA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BE3-8450-49F4-82CD-5B321C29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EBC-F82F-4E92-BD25-F88D51A7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D5F-5003-48FC-A6E7-01EEA364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D36-41E8-4F6B-A498-0B226815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809-08A5-4C47-ADA7-2D16808B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CB2-5E90-4577-8AFA-F826071E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2AE-232E-4C62-8F09-3388C5DC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5CD-9121-4AFB-A07F-E57B2783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B61-66A3-4341-B854-D045E0B8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7B5-99F4-4FB6-BD99-1C835A4F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0ED-1509-4BD9-AEC3-613A725E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21F-28FA-4A9F-84D7-EAB69A05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F367-39AC-4537-B8DD-16B9C5F5C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4.4 | Health industry unionization rates appear comparable to those elsewhere, but among some health occupations, unionization is much gre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in industry/occupation who are union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5 | Health industry unionization rates appear comparable to those elsewhere, but among some health occupations, unionization is much greater</dc:description>
  <dc:language>en-US</dc:language>
  <cp:lastModifiedBy>Jia Yao</cp:lastModifiedBy>
  <dcterms:modified xsi:type="dcterms:W3CDTF">2013-09-09T22:42:23Z</dcterms:modified>
  <cp:revision>2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5 | Health industry unionization rates appear comparable to those elsewhere, but among some health occupations, unionization is much greater</vt:lpwstr>
  </property>
</Properties>
</file>