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279-C6D6-4F19-949F-ADCCABD7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BB1-4F40-4B34-9629-3BD36687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5D7-E704-4293-9EC6-A6D757EE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A5F-1F20-4BE0-A1BD-35AA88FA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183-6372-4C64-B8EE-0DB01CC2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65C-82E9-4A8B-B037-FBDDC18C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626-EE1D-4C94-85D1-179A91E9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798-1AF6-459B-BF61-0A7B4C3B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F03-6057-4575-A667-FD89945E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9E6-3617-49C7-B963-29574D1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E93-801B-4C07-87F8-A9BEBC48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146-5648-4F4B-8C56-E379584E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3487-E2E7-45DE-97DF-7F909DD3A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320" y="1371600"/>
            <a:ext cx="90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5Z</dcterms:modified>
  <cp:revision>26</cp:revision>
  <dc:subject/>
  <dc:title>PowerPoint Presentation</dc:title>
</cp:coreProperties>
</file>