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DD63-FFC0-4447-A708-5A7646275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D78D-A3B4-4F3E-9C2F-3052395A74B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7a | Distribution of Elderly and Disabled Enrollees and Expenditures under Medicaid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E31D-5F55-43EE-864F-B019CE4D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3363-A552-4F6A-B141-36DCAF69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C377-DEFD-41A5-B5DA-89920D7E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24FD-3B8B-4C3F-8403-BFBCF110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0492-C57A-43CF-8FDC-D1B99A51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4BFE-0995-45F6-9EB6-3931F3E0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AD7A-9B9A-4FC2-B063-8B077AE5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A733-1E09-45F4-9AB3-B04FD575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A7D7-59ED-4424-A920-5EF3827D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FA3A-1680-4272-92C7-0A8CFFC5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9B66-174A-4194-98F3-A1595965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95AC-E4A7-4882-AFCE-32AD3CEB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CD05-C800-4EA4-BB84-2EC33A2A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4DAB-0D89-490C-9E81-BB53465A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A26B-C69C-4B41-A8CA-81CDE6CC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4A4B-81FE-4112-876E-092665B0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A193-68D9-4536-B795-039907B5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76D0-A95F-4E21-AFAF-CD1B770D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68D8-E0A6-4DC4-94C8-F5CE33A3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AA5C-958F-4875-B11B-D48CB44B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5FBA-E767-4C24-BA4A-E3ED8D83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9FC-AFD8-42C6-8AAD-919F2FD0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D2B-5357-49D3-A45F-0DF947DC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31FA-47CF-4FA8-A4DA-F7FCEA6D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CD51-C64C-4984-B89E-2E66874A2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6D04-7F90-4A51-8081-62029EB072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7a | The elderly and disabled constitute one quarter of Medicaid enrollees, but more than three quarters of Medicaid spend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609480" y="5867280"/>
            <a:ext cx="815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Kaiser Commission on Medicaid and the Uninsured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edicaid: A Primer.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ey Information on Our Nation’s Health Coverage Program for Low-Income People. June 2010. http://www.kff.org/medicaid/upload/7334-04.pdf (accessed October 13, 2010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7a | The elderly and disabled constitute one quarter of Medicaid enrollees, but more than three quarters of Medicaid spending</dc:description>
  <dc:language>en-US</dc:language>
  <cp:lastModifiedBy>Jia Yao</cp:lastModifiedBy>
  <cp:lastPrinted>2002-05-16T21:44:34Z</cp:lastPrinted>
  <dcterms:modified xsi:type="dcterms:W3CDTF">2013-09-04T21:04:03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7a | The elderly and disabled constitute one quarter of Medicaid enrollees, but more than three quarters of Medicaid spending</vt:lpwstr>
  </property>
</Properties>
</file>