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E8D-F6D2-4CB0-BCBB-A3408B17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1B8-D77A-4989-A032-4F44D7FD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940-7CBC-4249-AB5F-B4C4280D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AA6-61DC-45B8-9081-321750E8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606-D339-46DE-A019-2D195C51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63A-98FD-4DA3-917D-EFEF702A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914-B5A3-4E26-8B5F-F5AE3E63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A43-80D8-4B55-B8DE-37BDD168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C49-6A34-481E-8F89-09777AC6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CF0-D5A4-4C60-BF47-A822B87E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727-2A5D-4458-A6C5-DCD2068F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5FE-3F40-4610-8C36-D5E3B398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511-9328-42EB-AAAA-E02E350BB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1Z</dcterms:modified>
  <cp:revision>37</cp:revision>
  <dc:subject/>
  <dc:title>PowerPoint Presentation</dc:title>
</cp:coreProperties>
</file>