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0BE1-A054-47A4-9F2A-5AAEC8D8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3247-367B-4E08-A28E-573D1D10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808A-9AF5-4A00-9D89-36A8A3E3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F499-19EB-425F-96CF-13184168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BBAA-B839-4147-8259-9E68413C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B3CC-B7F9-47F3-A7DC-99A20511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0E14-ED80-4B5A-A9A3-5D08E9A7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4BEC-0DD1-4616-8CF8-1E8EED63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001A-6A7A-4162-BAAA-C56F3840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359E-0931-4133-8C8F-F81D5C93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BC9D-5A70-40DF-9B68-CF610D68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10CE-FCDB-4917-A626-F8EE193B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D27B-EAA7-424D-B1F4-3EA43859AC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14200"/>
            <a:ext cx="912348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9Z</dcterms:modified>
  <cp:revision>28</cp:revision>
  <dc:subject/>
  <dc:title>PowerPoint Presentation</dc:title>
</cp:coreProperties>
</file>