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EE3-6930-44B7-BAD0-9117F3FB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105-C8D5-45CD-8E01-A9D68840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233-432B-434E-8847-265D622C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627-2632-4A09-B10D-6A98808F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BFB-7CAE-4DD5-A1D8-12A39054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9D9-42D3-4930-AFCA-F0FE192C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356-FA8E-47F4-8A5C-125A0CF1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858-FBFD-4544-A3FF-C2D105B2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35D-4258-42A4-BD60-FD4C5D6E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3E6-A386-4D52-9ABB-14BB6362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94D-2E62-4466-964F-6DEFF2C1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C8D-82AD-455D-8AC5-AE6D514F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CB2B-FBDA-4F42-B2C3-4CCEB2924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89632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4Z</dcterms:modified>
  <cp:revision>37</cp:revision>
  <dc:subject/>
  <dc:title>PowerPoint Presentation</dc:title>
</cp:coreProperties>
</file>