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C4C94-8673-4910-823D-A3A6B9667F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10 | INFANT MORTALITY INDEX (US=100) BY NUMBER OF WEEKS OF GEST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0D678-D4CB-47F2-81D2-314C0BC6CA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4671-1E11-4301-AF3E-14DD01E5D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1F85-1665-4494-85FD-3502A92FB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B762-74B5-45C9-8F63-83AA5EBAB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5BB4-A4AD-4052-A5FE-7D15D5D62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4AC6-31FD-41FB-8392-004CB45CB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AC7E-411B-4BC6-B373-0274DD2C4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4BEE-79BD-4A7E-96C8-4694CEDFF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D666-DD9A-4EE6-B304-CF663E9EC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BFB9-11C8-4A19-8DAD-7D823A20D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AE4C-71CF-4AD5-8BC4-62B0D4F3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4C33-9547-46E1-AC2D-24A34843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D10C-C4C3-40EB-AA54-2B91136C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E9C18-E3B4-411C-A273-5F127AB98A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10 | Except for Sweden and Norway, the U.S. generally leads to world in saving the lives of premature inf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330120" y="1244520"/>
            <a:ext cx="8483760" cy="436896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00040" y="5375160"/>
            <a:ext cx="853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ote: countries listed (left to right) from best to worst for infants with the shortest gestation perio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2209680" y="144792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ant mortality index (U.S. = 1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500040" y="5764320"/>
            <a:ext cx="796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MacDorman MS and TJ Mathews. Behind International Rankings of Infa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rtality: How the U.S. Compares with Europe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National Center for Health Statistic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Data Brief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. 23. Hyattsville MD. National Center for Health Statistics 2009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10 | Except for Sweden and Norway, the U.S. generally leads to world in saving the lives of premature infants</dc:description>
  <dc:language>en-US</dc:language>
  <cp:lastModifiedBy>Jia Yao</cp:lastModifiedBy>
  <dcterms:modified xsi:type="dcterms:W3CDTF">2013-09-06T15:41:14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10 | Except for Sweden and Norway, the U.S. generally leads to world in saving the lives of premature infants</vt:lpwstr>
  </property>
</Properties>
</file>