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945-94D0-434E-99CE-F15883FD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34D-7666-47EA-8355-13BE9ED9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DAF-49AD-400E-AD53-04684CFF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B49-45C0-436E-9878-184E9830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529-7CC0-4766-8C30-C9BF1D53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9AF-91CC-4360-8853-E6A69F38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00E-426C-40ED-959C-6C150066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8B7-ECDD-4C64-9793-984562FB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261-7292-4A82-89DD-5B38C4CA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CC7-75CB-47A6-9CF9-384BF5CE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968-3CD0-44E6-9E31-F1C56CA8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D30-936E-4877-B849-6E7EF68E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A847-1170-453A-8976-08BB0B32F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7Z</dcterms:modified>
  <cp:revision>37</cp:revision>
  <dc:subject/>
  <dc:title>PowerPoint Presentation</dc:title>
</cp:coreProperties>
</file>