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918A-10BC-4539-8A7A-8DDDAB88F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A | U.S. SHARE OF PHARMACEUTICAL EXPORTS AND IMPORTS AMONG OECD NATIONS, 1980-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9E13-6BA9-45D1-8773-B96991AC9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B50-4096-412E-85B9-4779E5F3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E10D-DC32-45F5-AF79-46E7D4E9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8A58-791C-4598-AD18-69558814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C02-ABD3-459E-8B6F-13D7DFAF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ED4-30C2-4600-9D44-FFC484DD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BCE-3894-4A8E-B09F-0AE77E7C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707-1F5F-4BEB-98C4-4A645333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02C-C962-4342-ABB0-1AEB6475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5E7-94B8-44E3-BEBC-23FFDD45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0A9-2B0B-43FD-8670-459FA109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86C-5D46-45F4-91E7-163A6A77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A99-D012-4417-A4A3-E0CE1F41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6A2F-451A-4468-BBF6-76173FC03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8.3a | Since 1980, the U.S. share of pharmaceutical exports within the OECD has been declining while its share of imports has increased since 198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521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30080" y="1447920"/>
            <a:ext cx="66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.S. share of aggregate value of pharmaceuticals traded, in U.S. dollars, PP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a | Since 1980, the U.S. share of pharmaceutical exports within the OECD has been declining while its share of imports has increased since 1980</dc:description>
  <dc:language>en-US</dc:language>
  <cp:lastModifiedBy>Jia Yao</cp:lastModifiedBy>
  <dcterms:modified xsi:type="dcterms:W3CDTF">2013-09-06T15:33:59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a | Since 1980, the U.S. share of pharmaceutical exports within the OECD has been declining while its share of imports has increased since 1980</vt:lpwstr>
  </property>
</Properties>
</file>