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EE87-11A5-40EA-85C4-DE2F750A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EAB9-6DAF-4584-93B8-D6833BD7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0FE3-2948-4F05-B9E3-FFF80C3B5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3F88-138D-4B46-9938-2F9DA211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9C7C-83CE-4877-A0ED-61089EB1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EAAC-769D-484C-8219-C1B90C31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3E96-01C4-4A9A-8AC7-354029D9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2C1F-CA29-4E15-BFBA-65A482CF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6302-A015-49C4-9A3D-9A9AF511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383D-D651-4F7B-BC9F-9CCECA97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4B07-7647-4BE8-B80A-330CB8CB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7143-B9D2-4E41-9380-F6334BE5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0BA6-464B-4D42-A875-AACBF849DC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3Z</dcterms:modified>
  <cp:revision>8</cp:revision>
  <dc:subject/>
  <dc:title>PowerPoint Presentation</dc:title>
</cp:coreProperties>
</file>