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875-C1DE-4F40-B5CB-DE746CFE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BE6-AC70-42B7-9D94-10FAEBC7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CC5-37AD-4DF4-A7C8-FA620D01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7B6-3694-4991-837A-3B127610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AA8-726D-4432-ADD5-3455D6F7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CC2-443C-4728-8216-E38B40EB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BF4-397A-4C9A-9DCB-1DFB9B3D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FFB-C2EE-4485-A78F-61119551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9B2-BC6B-4823-8AD5-444D2C3C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269-2D63-416A-A90A-3DE9EE29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7FF-0DF8-4A38-8D80-3D52C0C2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101-EBE5-4E89-A2ED-E6C2E918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7B12-0EA6-434D-ADBE-9D4F1DE2E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9Z</dcterms:modified>
  <cp:revision>8</cp:revision>
  <dc:subject/>
  <dc:title>PowerPoint Presentation</dc:title>
</cp:coreProperties>
</file>