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62F8-1AC7-45CE-B32F-6D1C9A6BA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A | PERCENTAGE OF FIRMS AND PERCENTAGE OF PRIVATE EMPLOYEES IN HEALTH SERVICES INDUSTRY AND ALL PRIVATE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0294-B239-4A2D-98C5-6F1BC6024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45E-0A55-4348-AC9E-3CCCA334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FA5-2B2D-4B26-96E8-4A0F327A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DFD-D34F-4172-85D1-34EA515F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CD7-24BF-4589-83E4-52E1166B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78F-A320-4B9D-BAB5-4A9F3226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81B-E031-419F-92BF-3171AA9F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873-3F05-4561-9835-AD6AE28C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490-FFD0-4F8B-A06F-F55F692D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9E8-0D1B-464A-8E39-46C91B48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FAE-D818-4E7E-9F20-4D1B08AA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E6C-556C-457E-97A8-DF6500E5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F08-2C6B-45DA-B23F-92BCBF65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2358-1764-48D9-98D4-E5515CDAF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a | Compared to all private sector workers, a much higher share of health services employees work for very larg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33520" y="1828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firms or employees within an industry working in firm s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5575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health services employees include those in ambulatory health care services, hospitals, and nursing homes and other residential care facil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a | Compared to all private sector workers, a much higher share of health services employees work for very large firms</dc:description>
  <dc:language>en-US</dc:language>
  <cp:lastModifiedBy>Jia Yao</cp:lastModifiedBy>
  <dcterms:modified xsi:type="dcterms:W3CDTF">2013-09-06T15:22:47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a | Compared to all private sector workers, a much higher share of health services employees work for very large firms</vt:lpwstr>
  </property>
</Properties>
</file>