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6D4D-3A9D-4CE3-B736-DF04D54D1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B | MAJOR DETERMINANTS OF LIFE EXPECTANCY AT BI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9968-634E-4D26-8E00-3303D40A0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2A7-0D89-4E06-A31A-DE46CE9D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DFB-CA6C-4BA9-BEDB-3B052421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559-DA2C-40B3-8A84-080AA1C3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D63-9C60-4C74-8008-D92762B1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961-C70C-4BCA-A77A-28F62938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E81-5B01-4C7D-9D13-773C6509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D06-79AF-4141-9D2F-3D53BF4F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BC1-2593-49B7-8C68-D19278FD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65F-ADB8-411D-A3C8-F3491B36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844-64F0-4607-BEE2-6BC7F9B0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AB2-0E92-4235-A746-F8E9134B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AF2-008C-4C0E-8F57-0819EDCD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7F1C-84EA-46D8-AE29-DA714AF7D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x.doi.org/10.1787/24085850013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b | Other determinants of life expectancy at birth are of equal or greater importance than the availability of doctors and nur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 change in life expectancy at birth per 10 percent change in f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0160" y="5759280"/>
            <a:ext cx="831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Joumard, I., et al.  (2008), "Health Status Determinants: Lifestyle, Environmen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Care Resources and Efficiency",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Economics Department Working Pap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627, OECD Publishing. doi: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0.1787/2408585001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b | Other determinants of life expectancy at birth are of equal or greater importance than the availability of doctors and nurses</dc:description>
  <dc:language>en-US</dc:language>
  <cp:lastModifiedBy>Jia Yao</cp:lastModifiedBy>
  <dcterms:modified xsi:type="dcterms:W3CDTF">2013-09-06T15:41:1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b | Other determinants of life expectancy at birth are of equal or greater importance than the availability of doctors and nurses</vt:lpwstr>
  </property>
</Properties>
</file>