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807A-5128-4C4E-A9F7-7D356E8AA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C58-E9B7-400F-8A93-74AA6656F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572-D0FB-48E2-8EEC-3A873180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799-BFAA-4301-B80D-6973C991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E9B-14F5-4185-9BC4-8006FFF0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A63-A323-4625-AC42-CD8AD6EF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DE8-519D-4472-8016-8D1140DE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F31-3D7E-40E2-913C-E62FD30A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7A7-10CB-47E1-B043-FCC29E36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B2E-A002-459D-8BC7-B034DAA7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4DC-BDC3-4E27-9F9D-201311EF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848-7EBC-4790-990A-0DDF21BD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ADC-11C4-426B-A9F0-4AC7FB9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9D3-BCDB-4A83-A7C4-0E17B3B2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C641-CEAA-46F2-9544-8A17A4133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a | The economic burden of illness has risen since 1963 even though loss related to premature death and morbidity have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conomic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bidity losses = lost earnings due to illn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lost earnings due to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a | The economic burden of illness has risen since 1963 even though loss related to premature death and morbidity have declined</dc:description>
  <dc:language>en-US</dc:language>
  <cp:lastModifiedBy>Jia Yao</cp:lastModifiedBy>
  <dcterms:modified xsi:type="dcterms:W3CDTF">2013-09-06T15:31:24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a | The economic burden of illness has risen since 1963 even though loss related to premature death and morbidity have declined</vt:lpwstr>
  </property>
</Properties>
</file>