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CD2-437B-43CE-9B31-B793D0C1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CF4-F095-4970-B703-EFB5AA0D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321-620A-4906-B557-0ACC6D02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E1D-4330-4A5B-9391-630A9C01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595-F797-477E-AF8A-895D4A80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6D7-A123-469C-96FC-BCC3E87D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49A-BF9A-4372-B380-124F0850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2FC-8114-4798-8D93-0A963D99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AD9-868C-4A9E-9F0A-BC86BB5E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B18-69F1-4B02-A94D-EEAD47FA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7FFE-B749-4482-AF88-2B116373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22C-1F2D-463E-B451-FFFB2ECA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3B5C-02DD-4610-8975-68B3F1748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7000" y="304920"/>
            <a:ext cx="9090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2Z</dcterms:modified>
  <cp:revision>37</cp:revision>
  <dc:subject/>
  <dc:title>PowerPoint Presentation</dc:title>
</cp:coreProperties>
</file>