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0C45-9B01-46AA-AB34-577A088E54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34AA-2328-4FA5-ADCA-988622FACB9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3.5b | Percentage Distribution of Personal Health Expenditures, by Major Source of Financing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B02F-4290-43C1-B54C-B74A3CC85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C179-429E-4566-B734-28657FC9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69BF-F2F4-4D12-9EED-C355E4901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98DA-41C6-48FE-AB75-65E6EDCC5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1359-4F4C-440F-BD45-51461EBAC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F3A4-49FA-42AA-8E56-6B78189C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C387-3689-4D6C-8F68-003AC511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1DE1-2439-463E-BB97-D94AA1B0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C73E-511A-4C6A-9E7D-8B2A9497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161C-34EB-4EE2-B700-B30BEF6C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9D8A-0786-4A87-92DE-1DEE0974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BCFF-79E3-43E3-AFEB-8780B2D0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79F2-1C8E-4B38-874D-1C78259B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8CB6-1074-4173-96CC-84887528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AE4F-0DE4-4FEE-A5A8-B70B98D1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F5C9-BD21-48F5-A506-C9734CEC1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4C88-491A-4030-B636-19C65E004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BB16-2E58-4406-A387-3C050D9A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F311-9E55-4E12-9E60-E38B654C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6FB5-C960-4F6E-957E-2309844A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00FC-C64B-4759-BC6E-E5C7474C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6205-B67A-453D-A5F8-70EEFCA2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9E2D-D8D3-4A78-B9A9-2D42FE93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69AB-6394-4F33-A24E-103ADC91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ACA8-5654-4A92-9E5A-6A3D6F9A9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8AC4-C123-457E-8331-332E728202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5b |The out-of-pocket share of spending has declined much more rapidly for hospital and physician care than other health services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5b |The out-of-pocket share of spending has declined much more rapidly for hospital and physician care than other health services </dc:description>
  <dc:language>en-US</dc:language>
  <cp:lastModifiedBy>Jia Yao</cp:lastModifiedBy>
  <cp:lastPrinted>2002-05-16T21:44:34Z</cp:lastPrinted>
  <dcterms:modified xsi:type="dcterms:W3CDTF">2013-09-04T21:03:57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5b |The out-of-pocket share of spending has declined much more rapidly for hospital and physician care than other health services </vt:lpwstr>
  </property>
</Properties>
</file>