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C064-BFDC-499F-A53E-B1911563F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2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458C-7CBB-4409-86EE-26D06D311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C6C-593A-4964-A56D-87673DC0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EE9-A140-4C54-A4ED-8B80560E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DEF-025F-4F2A-A095-A796A997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5A7-0015-43BF-B1E0-0CE01901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C86-E07B-47FB-82FA-5A667DD5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02A-191E-4344-B03B-EC612EE1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7F2-9390-4FDB-BAA7-6EC9F7CF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B99-B452-45AA-802E-B0E6AA09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B7A-959B-4875-8840-064634A4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AFB-DF8B-4847-8C18-0562057F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849-5A65-4830-96B8-FCC40CDA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D3E-3AA0-4ADE-9D4C-621B40E2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4B6D-ADC5-40C6-BC5F-DBD0341A9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2 | Most tax-exempt firms are voluntary non-profit agencies; government accounts for only about 10 percent in most  sub-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09480" y="6018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Medicare and Medicaid are categorized as government health plans. Percentages for health plan enrollment sum to more than 100% due to duplicate cove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2 | Most tax-exempt firms are voluntary non-profit agencies; government accounts for only about 10 percent in most  sub-sectors</dc:description>
  <dc:language>en-US</dc:language>
  <cp:lastModifiedBy>Jia Yao</cp:lastModifiedBy>
  <dcterms:modified xsi:type="dcterms:W3CDTF">2013-09-06T14:09:50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2 | Most tax-exempt firms are voluntary non-profit agencies; government accounts for only about 10 percent in most  sub-sectors</vt:lpwstr>
  </property>
</Properties>
</file>