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2DC8-F25A-4719-8672-8E2FAE06F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1 | AVERAGE ANNUAL CHANGES IN HEALTH EXPENDITURES DURING ECONOMIC CONTRACTIONS, 1948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11D6-A2FA-4F16-9D70-F55C04BC0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711-07D6-4D57-831E-58DD7B92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77C-F87A-4DE8-98D0-54DBA16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722-924F-4675-A5A8-DA9997AC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DF1-F5E5-4456-9F38-801B3A56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CA1-50A2-48E0-9B20-55FBEB9A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DE4-4308-4C21-9AD7-49DE08B7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155-BD72-4670-9A48-5F711FBA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E40-F2DF-4458-9279-DF999C07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CAC-F617-4E3A-992A-F49C2FE1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A8F-78E0-403F-BA31-AFC7C8F1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63B-0344-4322-BC26-F214F2A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C18-ED67-45CD-B88E-FB8885F1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49A6-038E-4EFD-8D21-6D31007FE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1 | Aggregate health spending growth appears to be largely independent of fluctuations in the business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06668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1960" y="617220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=rec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1 | Aggregate health spending growth appears to be largely independent of fluctuations in the business cycle</dc:description>
  <dc:language>en-US</dc:language>
  <cp:lastModifiedBy>Jia Yao</cp:lastModifiedBy>
  <dcterms:modified xsi:type="dcterms:W3CDTF">2013-09-06T15:28:0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1 | Aggregate health spending growth appears to be largely independent of fluctuations in the business cycle</vt:lpwstr>
  </property>
</Properties>
</file>