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9F3-6F3A-47B9-8DE4-AA2B04C7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BC4-3605-427A-BBB7-C04D2B6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D66-B104-4E47-838A-657BB86E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B94-4747-4A51-854E-7DD53798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220-F5F9-42B5-B381-021FB6D9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385-F60F-46E9-8552-C5B7B3DF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211-3C0B-4319-9E7C-518683D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F2A-B7BC-45D9-9DC6-94F14C04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B62-9E91-4D86-AC51-8FC4EEEF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82A-B94C-4996-A523-FC1805A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98A-ECE1-44ED-A6E4-6B9578E1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B26-B998-4D95-ADF1-BE6D2F9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E0A1-AE12-41B0-A91A-53C2CDA7A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1Z</dcterms:modified>
  <cp:revision>39</cp:revision>
  <dc:subject/>
  <dc:title>PowerPoint Presentation</dc:title>
</cp:coreProperties>
</file>