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1D85-F3B8-474D-A887-41F2CCE51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F62F-E025-41DD-9AAE-079BF45A29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6 | DISTRIBUTION OF U.S. PHCE RELATED TO 15 BEHAVIOR, LIFESTYLE OR OTHER AVOIDABLE CAUSE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96F-AA4D-42A7-BE79-C6500956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6AE-241E-407D-ADED-F0401D8F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C12-193A-4512-BD52-F28E3105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DF3-18B0-41F1-A7B2-5D8962D4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6A3C-94F1-4CE1-9AC6-B695BD1F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171D-FDBD-490F-8EB8-B718DE60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C220-2912-4D5C-AA08-5B77763D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B82-4439-4C9D-9B28-89FFEE17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CB8D-2D33-4256-97C0-63B1B659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AF6C-07C0-427C-BC0C-845F394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431A-09E5-4D7C-8D4B-D8DDBBD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873-0C24-4089-B547-43038CAA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5357-FF23-4990-912E-DB513C4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ABE8-3489-44DD-A369-5D7A2BA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4D3-2C9A-4D81-9104-DCC44154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CA19-5DFC-426C-AFBA-CFF2C587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1BBB-A9B8-40D3-B80B-8FCAFD91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6E6-B9F3-4051-B064-23BBBC99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2BD-8327-4B9D-87E8-ED5BB618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B4D-03BD-4167-A297-F489A725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A9E-023D-4307-8BE4-1B8F8201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8DA-74EB-4A0B-B3A5-F230C63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619-8900-4CF3-B029-EF61044E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258-7F3C-4527-8E2D-D24A3F1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64D8-0D30-4BFE-9839-4795960D1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AFB-BFF8-46B7-9F64-A83663FF8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Figure 2.6 | Probably half or more of health spending is related to behavior, lifestyle or other avoidable caus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660240" y="787320"/>
            <a:ext cx="98074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Figure 2.6 | Probably half or more of health spending is related to behavior, lifestyle or other avoidable causes</dc:description>
  <dc:language>en-US</dc:language>
  <cp:lastModifiedBy>Jia Yao</cp:lastModifiedBy>
  <cp:lastPrinted>2002-05-16T21:44:34Z</cp:lastPrinted>
  <dcterms:modified xsi:type="dcterms:W3CDTF">2013-09-04T18:13:29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Figure 2.6 | Probably half or more of health spending is related to behavior, lifestyle or other avoidable causes</vt:lpwstr>
  </property>
</Properties>
</file>