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B20C-32EC-4F4D-8EEA-EDDDAC266B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7.2B | Reduction in Daily Cost of Therapy 24 Months After Patent Expi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E005-9175-44E5-B18E-07CE504493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698B-4A53-478A-9DC4-53826CB7C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D5FC-817D-4389-AB29-D19EA9B0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F34C-8BE3-4A58-9205-A353CFF53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0EBA-ED06-4185-95FC-1BB1C55BF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A1E8-DC21-4260-B68C-248A7D98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456A-2988-45F9-A068-E8B153C3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D1D1-B5D1-4EEE-AFE3-1EF14DAE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A68A-F929-4DA9-A568-7EE17903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7E50-4653-4C9E-8CFA-C0709A55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2D79-D021-4928-B6C8-44EC7CE4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07D7-239F-44A6-8022-4605A15D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EB52-7B7D-4C38-AD4F-07369C2E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26F1-CC46-441F-B9D5-1A2BEAD16B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0" t="19566" r="0" b="0"/>
          <a:stretch/>
        </p:blipFill>
        <p:spPr>
          <a:xfrm>
            <a:off x="592200" y="1523880"/>
            <a:ext cx="7959600" cy="4386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7.2b | After patent expiration, there has been a 51 percent reduction in the daily cost of therapy after 24 mont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762120" y="5880240"/>
            <a:ext cx="761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Berndt ER and M Aitken. A Different Perspective: The AARP Sponsored Schondelmeyer-Purvis Studies. In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Scaring Seniors: The AARP Drug-Price Repor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American Enterprise Institute. Washington DC. 201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15:16:56Z</dcterms:created>
  <dc:creator>Kristy</dc:creator>
  <dc:description>17.2b | After patent expiration, there has been a 51 percent reduction in the daily cost of therapy after 24 months</dc:description>
  <dc:language>en-US</dc:language>
  <cp:lastModifiedBy>Jia Yao</cp:lastModifiedBy>
  <dcterms:modified xsi:type="dcterms:W3CDTF">2013-09-06T15:31:20Z</dcterms:modified>
  <cp:revision>81</cp:revision>
  <dc:subject/>
  <dc:title>17.1 Net Present Value of Lifetime Earnings and Stock of Health for American Newborns, by Sex and Race/Ethnicity,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7.1 Net Present Value of Lifetime Earnings and Stock of Health for American Newborns, by Sex and Race/Ethnicity, 2005</vt:lpwstr>
  </property>
  <property fmtid="{D5CDD505-2E9C-101B-9397-08002B2CF9AE}" pid="3" name="SlideDescription">
    <vt:lpwstr>17.2b | After patent expiration, there has been a 51 percent reduction in the daily cost of therapy after 24 months</vt:lpwstr>
  </property>
</Properties>
</file>