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A5806-6C8F-426E-AB3A-A79F71B79B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6.3B | UNEMPLOYMENT BY SEX, OCCUPATION AND INDUSTRY, 1962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92DAA-E768-4A71-A230-C399C1C6AF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5451-A2ED-4295-95DA-4221A1D8C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A945-10E1-444C-920C-900B1703E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9C05-1E2D-4254-8C65-C831D9B80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E687-E821-4121-8289-67CECCC74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48EA-D9E0-44E0-8496-28578064D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ABC9-87A8-4B1F-90CA-E3AEA83B7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1553-51FD-4092-9D51-5886919BA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3181-06D3-4F7A-BC31-1BC638415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905E-A3FF-4EDE-BE8A-BE220B160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D05F-6938-4099-87E2-8CBB342F5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A691-F90D-42CC-B8A1-35C58A887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46C0-1DB4-42BD-943F-3A706F020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ECF99-BCA5-408B-B365-C9C0353560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6.3b | Unemployment rates among females working in health services, but not hospitals, are higher than for females overall; this has not always been tr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5" descr=""/>
          <p:cNvPicPr/>
          <p:nvPr/>
        </p:nvPicPr>
        <p:blipFill>
          <a:blip r:embed="rId1"/>
          <a:stretch/>
        </p:blipFill>
        <p:spPr>
          <a:xfrm>
            <a:off x="406440" y="1397160"/>
            <a:ext cx="8331120" cy="49780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609480" y="137160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verage annual unemployment rate within industry (percen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9T15:25:35Z</dcterms:created>
  <dc:creator>Kristy</dc:creator>
  <dc:description>16.3b | Unemployment rates among females working in health services, but not hospitals, are higher than for females overall; this has not always been true</dc:description>
  <dc:language>en-US</dc:language>
  <cp:lastModifiedBy>Jia Yao</cp:lastModifiedBy>
  <dcterms:modified xsi:type="dcterms:W3CDTF">2013-09-06T15:28:52Z</dcterms:modified>
  <cp:revision>2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6.3b | Unemployment rates among females working in health services, but not hospitals, are higher than for females overall; this has not always been true</vt:lpwstr>
  </property>
</Properties>
</file>