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B3A9-1C7C-4186-9D1B-FA6290D39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3565-ED68-4A85-AE48-F72706BAD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F9B2-4B0A-4C52-A3A9-5E75BCE4B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56B3-9A77-4425-ADE7-3921C4228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E188-2E32-4959-B743-AA7E3B341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70B1-CB72-44F4-9FFF-966D96E69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E0FD-3AD9-4EEC-84E2-862B6E17D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3975-4F29-4248-A3C2-03D62F00A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FBC6-61EB-4BEE-906F-1188E6971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8869-EA38-4974-8B32-D660C105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A818-27D6-457F-9CB3-C2B74C27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8415-36CE-438D-92FF-40054074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4B6BC-1080-4BB9-9781-40BA603BE6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9320" y="76320"/>
            <a:ext cx="909468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17Z</dcterms:modified>
  <cp:revision>20</cp:revision>
  <dc:subject/>
  <dc:title>PowerPoint Presentation</dc:title>
</cp:coreProperties>
</file>