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A853F-2591-4C4D-9EEA-618C0DB76F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8.2A | DISTRIBUTION OF PHARMACEUTICAL R&amp;D EXPENDITURES AMONG TOP 10 OECD NATIONS FUNDING PHARMACEUTICAL R&amp;D, BY COUNTRY, 1990, 2000 AND 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682E-0561-4F0E-B8C6-0D9EA84777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E45C-F1C5-4B38-B1CB-E06573E24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FEC8-985C-43EF-A187-8598B253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6FBA-CC75-4879-ADD0-3BCF3B8C7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C910-1F05-4616-8A58-0C8F10BB8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3323-9341-4E05-B777-11EC7AD61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19EA-89A4-43A9-A9CA-1B8A71E7A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C375-71C7-4804-BC7F-F6D591866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D590-331C-4D6C-9F49-30A1D85BF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7B46-B8E7-40CC-A22F-F3631673E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9699-2856-4AE0-9D4B-A15AACB8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D5C8-A66F-4E0C-9698-A7205E29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E5FF-3EA7-4E67-B4F2-77C1B759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C178D-F195-4A90-A713-DEC422508B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8.2a | Among the top 10 global funders of pharmaceutical R&amp;D, the U.S. accounts for more than half to two-thirds of total spe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1509840" y="4724280"/>
            <a:ext cx="582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op 10 global funders of pharmaceutical  research and develop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(ranked by 2006 R&amp;D expenditures in U.S. dollars PPP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656640" y="1371600"/>
            <a:ext cx="38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aggregate R&amp;D expendit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447840" y="5486400"/>
            <a:ext cx="791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data not reported for selected years in selected countries. Shares are of summed totals for countries that reported dat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5T17:43:19Z</dcterms:created>
  <dc:creator>Kristy</dc:creator>
  <dc:description>18.2a | Among the top 10 global funders of pharmaceutical R&amp;D, the U.S. accounts for more than half to two-thirds of total spending</dc:description>
  <dc:language>en-US</dc:language>
  <cp:lastModifiedBy>Jia Yao</cp:lastModifiedBy>
  <dcterms:modified xsi:type="dcterms:W3CDTF">2013-09-06T15:33:55Z</dcterms:modified>
  <cp:revision>5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8.2a | Among the top 10 global funders of pharmaceutical R&amp;D, the U.S. accounts for more than half to two-thirds of total spending</vt:lpwstr>
  </property>
</Properties>
</file>