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7A94-6C40-4336-BBAE-9E00D75B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37DC-C495-49B5-864F-1FB3EA23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CC71-67BB-431A-9D9C-8A63236B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F1C1-DF40-426B-8704-3A1180AB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A3A1-44E0-40B6-8FB9-085DCACD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A5EF-6833-4A79-B459-1694E5CE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A2BE-464D-4043-AEDF-5CB9D407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EE9-447F-43C1-ADC0-D7891B23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2F95-D624-4D7D-B51A-595D0679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3940-CF78-4475-9086-64B25807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560A-2F5F-4C3B-B01B-A1114056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064A-F9B8-441F-90D4-33125A18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5245-C874-46EC-85B5-E917B8B6B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0600"/>
            <a:ext cx="910116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51Z</dcterms:modified>
  <cp:revision>28</cp:revision>
  <dc:subject/>
  <dc:title>PowerPoint Presentation</dc:title>
</cp:coreProperties>
</file>