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AC3-DA74-42F9-943F-60A0B251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462-4CDD-4F1D-B4FD-FA4117B0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F6B-3730-418A-9B98-4EF6A0AF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8CC-0B6F-4EA6-B043-1AC41521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DEE-EFD2-4900-84E1-60C6B2F2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AF1-8B0C-47B1-9B6A-533A2AE8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E50-E1E1-412F-8916-A63536CB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89D-549E-4951-881E-266632CF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932-6145-452E-B3C4-7BCC7874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91E-35BF-4DED-8D56-F29996C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DE6-4EB8-4097-8AB0-E7E8B55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95E-F794-4372-B19E-26E5D0A8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4470-A659-4C10-B6AF-0B4BD2413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0Z</dcterms:modified>
  <cp:revision>33</cp:revision>
  <dc:subject/>
  <dc:title>PowerPoint Presentation</dc:title>
</cp:coreProperties>
</file>