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750A-A026-40E7-B9C6-311FFEAAB7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5.3 |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ercentage of Bankruptcies Related to Families with Medical Debts, 1994-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EAF3-B5DD-4E4F-9921-B391A3DBFF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C42F-F6B1-40E3-B29D-0F9982D0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0238-8FE7-4340-9CD7-E29DB546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DB1D-2CFF-4D18-9D80-EADD056D9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1464-EB1C-4B7B-ABED-C2FC1A2B8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5DF8-C84D-4A33-BB67-22AE1472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6736-5E23-46F7-89F6-A8001E84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E92F-9018-4C34-87FC-71063599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57E3-8994-48F5-8989-639C77A3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7CD3-CF2D-448C-81FD-E3791A1F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BA16-DB2F-4036-B123-4B35E7C2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A005-3958-4401-851E-EA16978A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7E94-EB2C-4E7B-833B-AA9A1907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7AE2-5D29-4F80-85BD-A1412C3797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5.3 | About one quarter of bankruptcies are related primarily to medical debts; medical debts are a factor in just over one thir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168560"/>
            <a:ext cx="85597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17600" y="575928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hur A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edical Bills and Bankruptcy Filings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erican Enterprise Institu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aei.org/docLib/20060719_MedicalBillsAndBankruptcy.pdf (acce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uly 28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533520" y="16002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bankruptcies related to families with medical debts, 1994-9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4:15:23Z</dcterms:created>
  <dc:creator>Kristy</dc:creator>
  <dc:description>15.3 | About one quarter of bankruptcies are related primarily to medical debts; medical debts are a factor in just over one third </dc:description>
  <dc:language>en-US</dc:language>
  <cp:lastModifiedBy>Jia Yao</cp:lastModifiedBy>
  <dcterms:modified xsi:type="dcterms:W3CDTF">2013-09-06T15:26:05Z</dcterms:modified>
  <cp:revision>291</cp:revision>
  <dc:subject/>
  <dc:title>15.1 Household Net Worth, GDP and NHE, 1929-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5.1 Household Net Worth, GDP and NHE, 1929-2009</vt:lpwstr>
  </property>
  <property fmtid="{D5CDD505-2E9C-101B-9397-08002B2CF9AE}" pid="3" name="SlideDescription">
    <vt:lpwstr>15.3 | About one quarter of bankruptcies are related primarily to medical debts; medical debts are a factor in just over one third </vt:lpwstr>
  </property>
</Properties>
</file>