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2F3A-D44D-42E1-BD72-41D461CA2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ACF7-16F0-4026-86F6-FC228D3F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8B86-529D-4216-919B-807CE719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DB34-10F9-406C-AC98-681D4CA7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6BCA-C747-4619-AEA5-C8A5A5E5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1091-4434-4C60-BC96-6DF6755E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72C5-8375-4EE5-8B03-560A93E7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F792-24AA-41AD-BCD5-BE661B61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2C6F-F4CF-4CD2-B47F-6181B368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168F-9A0E-4FF7-A41D-203B71B1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E697-406D-4BEA-A824-91450BDF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3D5E-37FD-4350-838A-AE0F544D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5F58-D793-4779-9BF3-8DB3262C16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1120"/>
            <a:ext cx="9128160" cy="65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8Z</dcterms:modified>
  <cp:revision>44</cp:revision>
  <dc:subject/>
  <dc:title>PowerPoint Presentation</dc:title>
</cp:coreProperties>
</file>