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A573D-9C6E-46DA-A99A-4D2AF555FB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9.3C | ANNUAL GROWTH IN MEAN INCOME OF WORKERS 18 AND OLDER WHO WORK FULL-TIME YEAR-ROUND, BY EDUCATIONAL ATTAINMENT, 2003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9DCBB-AF6F-41DE-BD2E-A20C5F9C7B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452A-025E-4794-BE3C-67348DCA9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3F5C-647C-4D8D-B370-414BD9275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6EB6-76B5-467F-995C-F3E139320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EA4C-AFBF-473D-B87D-81CEA0B1E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1BE4-2F32-4C12-8691-D0F84A7CB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9403-A5FB-4CFE-95FB-F30426479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8394-856D-4D69-8271-F936B6D29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4688-50A4-4D70-8D50-E37DD9C10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E9AF-2CD0-4D05-ADD2-CB2A90592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E177-6CE7-4447-AE3D-17A509A8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1A4A-5007-4A2C-AEF2-06DEDC71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858E-5C33-42FD-A147-87723530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EB78B-E65A-415D-AE43-DF989E6748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 Narrow"/>
              </a:rPr>
              <a:t>9.3c | Excepting those at the lowest education level, recent growth in health sector earnings has been slower than for other worke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6" descr=""/>
          <p:cNvPicPr/>
          <p:nvPr/>
        </p:nvPicPr>
        <p:blipFill>
          <a:blip r:embed="rId1"/>
          <a:stretch/>
        </p:blipFill>
        <p:spPr>
          <a:xfrm>
            <a:off x="177840" y="1168560"/>
            <a:ext cx="9016920" cy="574020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380880" y="990720"/>
            <a:ext cx="190512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nnual Growth in Mean Earnings of Full-time Year-Round Workers 18 and Older, 2003-200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3c | Excepting those at the lowest education level, recent growth in health sector earnings has been slower than for other workers</dc:description>
  <dc:language>en-US</dc:language>
  <cp:lastModifiedBy>Jia Yao</cp:lastModifiedBy>
  <dcterms:modified xsi:type="dcterms:W3CDTF">2013-09-06T14:59:17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3c | Excepting those at the lowest education level, recent growth in health sector earnings has been slower than for other workers</vt:lpwstr>
  </property>
</Properties>
</file>