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1A09-351B-4848-B384-AEBC7D503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E8CD-F14F-475B-99AA-2481EE9220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b | Percentage Distribution of Personal Health Expenditures, by Sponsor, 1987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7478-1EC1-4B37-85A7-5DDC5AE5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14F-7E4D-4417-8DDF-58BC3E20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8842-A34F-48CE-9B44-537388A4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73C-F029-4E15-91EA-7CB3375C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5ACB-D7BD-482A-A1BF-7E7575C9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B87A-D595-42DD-A047-A5069D12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D173-971D-4D8E-B007-DAFC31CE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8DC3-D100-44B0-AFA0-AFA5291F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08E7-23EE-4602-B298-C64D2DC8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B7ED-2295-4ABB-B0AB-DB09B81A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0737-6600-4DD6-9E95-E5D0291F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9B8-CA48-4D46-B672-708977EF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84F3-5DFB-4988-9317-A81D5721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00E5-EA4B-4D95-AE1B-758CE3CC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CCB9-0C0A-47EE-B4C8-A8751FA0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31B5-883E-458F-91D6-3A20CBBA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8E52-7D69-446E-BAE2-0A4908B6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8814-E7F2-49F3-A025-66DEE7A8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A56-2FF3-43A1-8E55-C79E8C1E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AC9-C496-4918-8BCE-B9EAD04E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20D3-31AE-4109-B75A-3240A3A7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921-B267-4415-A9E7-6AF1BDB6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33C-AAEA-4CD4-A866-DA978C21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0E1B-4C99-436B-B39E-03D56F79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C4CC-95FB-4A1D-9D77-90F94BAD6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BDDB-9BE7-4E06-9913-87927114B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81000" y="787320"/>
            <a:ext cx="906624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b | Accounting for each sponsor’s share of health revenues results in a much more stable federal share of spending over 2 decad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b | Accounting for each sponsor’s share of health revenues results in a much more stable federal share of spending over 2 decades</dc:description>
  <dc:language>en-US</dc:language>
  <cp:lastModifiedBy>Jia Yao</cp:lastModifiedBy>
  <cp:lastPrinted>2002-05-16T21:44:34Z</cp:lastPrinted>
  <dcterms:modified xsi:type="dcterms:W3CDTF">2013-09-04T21:03:4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b | Accounting for each sponsor’s share of health revenues results in a much more stable federal share of spending over 2 decades</vt:lpwstr>
  </property>
</Properties>
</file>