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003C-D6EB-4B86-8B77-4E70F48F7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D369-7124-4FF0-A130-EE25B6C94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a | Inflation-Adjusted Per Capita Expenditures, by Type (chained 2005 doll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9F2-E2A6-48F5-8F24-55361E04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3F3-781D-44D5-A196-FF068D3E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B24-C08F-4665-9543-EC6319F2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773-AF92-4F9A-B6DA-A9F35FD6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594A-0F40-49D4-AB3A-4C78C75D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2463-79CF-4FC4-A2DA-2269351B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90A3-19CF-4E51-99F8-2B22BC58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633C-76E0-4765-B703-9F52C5C8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54FD-A889-4719-A5DA-54AB23A5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A411-600D-44AB-8B18-90A6CD26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731D-FAC8-448B-9825-9991D264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242-C6F0-46BE-A33D-3994D010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8EFE-53E6-4454-943B-6C3C25A3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BF88-840A-4833-949E-EF060FC2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E975-16D2-4CA5-8260-175B3743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AD2C-EB16-4A39-B2F3-8B34FCB1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2723-2521-4C7A-A880-CC02C90A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2FE-7726-49ED-A31B-ECE9779E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24F-7313-434A-84D4-7E8EBDE8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897-2B84-41A0-98FF-8AD277FB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43D-1CB7-4495-8290-17E86DAB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7E3-4836-45EA-A7F5-835E1086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AAB-0D91-401C-940A-1320F173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742-27C8-4C23-8D2B-39EDF127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3725-2A11-4BF7-8E1D-9F8A677EC5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A4F3-181C-49EF-87B2-CA3068B577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4a | Despite rising health spending and taxes, non-health personal spending per capita more than tripled from 1929 t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a | Despite rising health spending and taxes, non-health personal spending per capita more than tripled from 1929 to 2009</dc:description>
  <dc:language>en-US</dc:language>
  <cp:lastModifiedBy>Jia Yao</cp:lastModifiedBy>
  <dcterms:modified xsi:type="dcterms:W3CDTF">2013-09-23T19:14:18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a | Despite rising health spending and taxes, non-health personal spending per capita more than tripled from 1929 to 2009</vt:lpwstr>
  </property>
</Properties>
</file>