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7E66-D35D-4CE3-A16B-CCA39E4D3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A | UNFUNDED LIABILITIES DUE TO MEDICARE AND SOCIAL SECUR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5D04-6C5A-4CBF-A1C5-B2784FB9F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B86-7E52-408B-9354-33F118A6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B59-3518-467E-B354-4BB34C20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8BD-A21F-4DC8-9970-1E1493FD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163-84C7-4CF4-8E4C-5100B694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F43-4800-4A00-BAE8-B387A8E6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EEE-CD68-4DE2-B3EA-25B3A432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6A0-9E66-48C4-AA1C-052BBA7C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05DD-454C-47C9-9778-772EFB4B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6D2-E70A-4741-AF85-4A5F2B95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2A2-C06B-41DF-99F4-6F23CE80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BA7-72AB-42FE-A04F-87D96653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E14-74C9-4D10-B2E8-5F586B9E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2FD4-C706-4AF9-9C73-F50BE0D04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a | Even assuming the health law works as intended, unfunded liabilities for entitlements will exceed $80 trillion over the long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of unfunded liabilities (trillions of 2009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9596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or Medicare Part B, Medicare Part D and Medicaid, unfunded liabilities are calcu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suming the 2010 share of GDP represents current willingness to pay for these programs. 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rease in spending above this share is calculated as an unfunded liability for which hig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xes must be paid eventu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b | Even assuming the health law works as intended, unfunded liabilities for entitlements will exceed $80 trillion over the long run</dc:description>
  <dc:language>en-US</dc:language>
  <cp:lastModifiedBy>Jia Yao</cp:lastModifiedBy>
  <dcterms:modified xsi:type="dcterms:W3CDTF">2013-09-23T19:14:26Z</dcterms:modified>
  <cp:revision>6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b | Even assuming the health law works as intended, unfunded liabilities for entitlements will exceed $80 trillion over the long run</vt:lpwstr>
  </property>
</Properties>
</file>