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D8B89-F73C-4B2C-92C8-69FD165CA96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9.7a | Multifactor Productivity Growth in Health Services, 1990-200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7FC56-C0E6-4491-99AB-6FA8812C345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BE6EF-DB3F-4493-8041-2EC716AAA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7D707-00F3-49C6-8F94-C1F82984B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923E1-3B2B-4B8D-9F2D-A3AD08331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2BA48-7FEF-4CE4-9052-CFB3B1824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1B830-0B00-4CB3-B47D-27AA9320F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E81ED-F632-4A7E-8CFF-517A257A5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1A7E8-38B0-4732-B5E2-421D94AA2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C79E9-C118-42D5-9C1E-A18DF65D6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1756D-458F-4018-B7FF-D41F4A7E3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9801F-6F00-40EA-B9C3-131884348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7EB5C-C78E-4E01-B44C-5F3652AF1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6778E-DC5F-4138-BE54-8CAA9CF1E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C024D-F4DF-477A-96E8-6F88E59AB6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89154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9.7a | Multifactor productivity growth has steadily increased in ambulatory care over two decades but still is negative for health facilit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320840"/>
            <a:ext cx="8559720" cy="5587920"/>
          </a:xfrm>
          <a:prstGeom prst="rect">
            <a:avLst/>
          </a:prstGeom>
          <a:ln w="0">
            <a:noFill/>
          </a:ln>
        </p:spPr>
      </p:pic>
      <p:sp>
        <p:nvSpPr>
          <p:cNvPr id="50" name="TextBox 1"/>
          <p:cNvSpPr/>
          <p:nvPr/>
        </p:nvSpPr>
        <p:spPr>
          <a:xfrm>
            <a:off x="533520" y="1143000"/>
            <a:ext cx="19573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ompound annual rate of change in multifactor productiv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9T21:34:12Z</dcterms:created>
  <dc:creator>Trinity Technical Services</dc:creator>
  <dc:description>9.7a | Multifactor productivity growth has steadily increased in ambulatory care over two decades but still is negative for health facilities</dc:description>
  <dc:language>en-US</dc:language>
  <cp:lastModifiedBy>Jia Yao</cp:lastModifiedBy>
  <dcterms:modified xsi:type="dcterms:W3CDTF">2013-09-06T14:59:35Z</dcterms:modified>
  <cp:revision>1387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9.7a | Multifactor productivity growth has steadily increased in ambulatory care over two decades but still is negative for health facilities</vt:lpwstr>
  </property>
</Properties>
</file>