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45B0-E505-4EAF-BB19-5C8386BF3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78DB-4AE0-4C3E-B0F8-C8E339AF56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a | EXPENDITURES ON CHRONIC CONDITIONS FOR ADULTS AGE 18 AND OVER, BY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89A-73B6-4E4F-9AFA-5253FB57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6CE-EB6C-4CB9-A3E1-A3C23F5A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954-3A4E-4831-A775-A09F93FE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528-FC80-4742-B782-34D0A753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2E5B-8418-4295-8647-A6CB380E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C922-E67D-4D25-8C5B-D0D2BAE4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733D-41CC-4FC6-B023-DDBDB60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56C7-35F4-4DD1-AA3A-FF4EDBD1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8A7A-846F-492A-A2D9-D6F3CCF1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A1C4-08C4-4028-B411-FA9A5AB4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8F38-8B19-44D7-9B40-1759B615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FB7-050F-4B09-91AC-40CA057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FFB7-38CF-4615-A6E0-F181C9DE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62EC-C756-4562-8F81-5EE1D205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5A73-D323-4564-9128-2EF5F412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C47E-8632-41E2-9CA1-853C220E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B774-14F3-4BAD-9A39-22B40159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5BC-8C18-487E-9632-406C4917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019-CB25-45EE-A6D5-CC0AD063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039-B9C1-4FB4-B479-A4B8CCBE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7D1-F493-4224-9015-AEF2A80F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486-71BF-401D-92A8-B874130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479-EA11-4E80-BD93-D49564F4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085-68ED-418E-A665-6C1AA7E4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6956-C9CC-4778-86AD-03955FEA1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1576-0EF4-444C-984A-525DBD0FB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a | About half of adult health spending is for chronic conditions; 90 percent of spending is on adults having at least 1 such condi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a | About half of adult health spending is for chronic conditions; 90 percent of spending is on adults having at least 1 such condition</dc:description>
  <dc:language>en-US</dc:language>
  <cp:lastModifiedBy>Jia Yao</cp:lastModifiedBy>
  <cp:lastPrinted>2002-05-16T21:44:34Z</cp:lastPrinted>
  <dcterms:modified xsi:type="dcterms:W3CDTF">2013-09-04T18:13:25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a | About half of adult health spending is for chronic conditions; 90 percent of spending is on adults having at least 1 such condition</vt:lpwstr>
  </property>
</Properties>
</file>