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D23C-1FA1-4948-8EE1-93F14A9B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7463-DB4B-41A7-87C2-B4FD6D89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5DBB-FD6B-4B99-87B1-338C3DC4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E1A-18FC-4C2C-80DF-C8CCA60C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B9A-5A04-4F56-8F88-EF188F3D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C644-A30F-4280-B0D2-59588D52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8509-2862-43C2-8A67-502CA2EE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5409-91C5-4991-B050-E4FF129E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0A6B-E701-4C74-80A4-1CF3BB8C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FFB3-D5ED-4E9A-B9CF-D20474A3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A5C7-621D-49B8-95B2-10F03093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0BA-7C28-4D60-AEFA-6A16EAC4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FC28-8235-499B-846E-9CF47D532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080" y="1523880"/>
            <a:ext cx="9051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4Z</dcterms:modified>
  <cp:revision>31</cp:revision>
  <dc:subject/>
  <dc:title>PowerPoint Presentation</dc:title>
</cp:coreProperties>
</file>