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42B0-D7FA-4802-9149-827A61E9E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1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6032-AC27-4A91-ADF7-6863A2B19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722-2901-4DAA-9020-20E00EDB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7FA-D4EE-4691-85C4-D3C75A6F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CAF-3AAF-4320-A3B3-63DE474F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8AF-BF78-4043-AB34-44612184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C0E-0685-411D-A891-0F843484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1B6-FC79-4A11-95B7-021221E7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553-6A07-4650-9824-DE587250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836-8E18-4955-A8D8-45398C2C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BB3-1BB1-4568-9C6F-2D2A25CB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19F-9604-44CE-B3DF-CC2C23E4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2FA-979C-48F9-9440-669230A8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188-AF6F-4AF1-B527-52732992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79E9-52B2-4E2E-9CE3-F0A880CF2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1 | Public and non-profit owners dominate the hospital sector and provide a large fraction of nursing home and home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1 | Public and non-profit owners dominate the hospital sector and provide a large fraction of nursing home and home health care</dc:description>
  <dc:language>en-US</dc:language>
  <cp:lastModifiedBy>Jia Yao</cp:lastModifiedBy>
  <dcterms:modified xsi:type="dcterms:W3CDTF">2013-09-06T14:09:47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1 | Public and non-profit owners dominate the hospital sector and provide a large fraction of nursing home and home health care</vt:lpwstr>
  </property>
</Properties>
</file>