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CD9-B380-4BA0-9ED6-276C0181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D385-889C-4182-BA47-436D2022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CF0-539C-4BD8-9756-6A2FC64F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7EA-8558-49DD-BF4E-DA78CF50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BF6-9C63-4102-8158-46D56AB2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96B-BC2F-4BE0-B1C3-716C9B94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A79-40A5-43D0-AB4B-432B9D63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7E6-E265-4AFF-BA1D-AE4C60C0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C22-86A4-4D10-808A-AC94D0E9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920-A049-4E5D-973D-6EFE31ED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A8F-C506-4C2A-BDDB-290B7A72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037-95CB-4FF1-900C-1C200340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07A2-62D0-4E4C-BEB8-13506E304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0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3Z</dcterms:modified>
  <cp:revision>30</cp:revision>
  <dc:subject/>
  <dc:title>PowerPoint Presentation</dc:title>
</cp:coreProperties>
</file>