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0E9B-670B-40BF-BED3-4F403DB36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330D-A694-4546-8B80-7DAA14B6BB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5a | Percentage Distribution of Personal Health Care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815-6EC1-4FAE-8670-3A0FC9E8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E3E-6A09-4E6E-B5CF-692BEF08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49F-45E7-4BFB-88AB-B867C07B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8DB-F5FB-4810-8D68-D08E8B5F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55C1-E6A2-4835-ACD7-EB8B6796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37B8-23E3-4228-AFF7-B87D6EDE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3FBD-4115-47D0-AEC1-D7C1622B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B1C4-CCF2-4D91-ABAE-D17A0A2C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B5EB-9FCE-4475-92AB-56CD5092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911D-3AF6-4E66-A3ED-467C347D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066A-0C39-468B-A046-5F0E008E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8C3-A6FD-457A-A51E-07E1A8D8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42CF-BD78-4D54-80EA-648DC6ED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591D-EAF1-4DCE-8612-55E89C50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D39D-899C-4511-BF49-27741B5E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E053-5389-4CF1-8DBD-E6DD7EC5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1A58-ED44-4FCA-A39D-4405FDC2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663-CA52-40C5-9DB8-BF5B1C57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94B-7909-46CD-8F43-B5784A81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363-3B0E-454F-B9E7-8FF5D373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1F6-0894-4E10-BECE-A93626EA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79B-0DF5-40AB-ADED-D43584CA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A27-8B0C-40C2-9DF4-4C2FD2A2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D71-7CE1-40C9-842E-41127CDA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7DE5-D679-473D-89F3-54760EFF7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0EEB-72B2-40BB-8034-3341DDC07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a | 1 in 7 dollars of personal health care spending now are paid for out-of-pocket compared to 7 in 8 dollars 80 years ago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a | 1 in 7 dollars of personal health care spending now are paid for out-of-pocket compared to 7 in 8 dollars 80 years ago</dc:description>
  <dc:language>en-US</dc:language>
  <cp:lastModifiedBy>Jia Yao</cp:lastModifiedBy>
  <cp:lastPrinted>2002-05-16T21:44:34Z</cp:lastPrinted>
  <dcterms:modified xsi:type="dcterms:W3CDTF">2013-09-04T21:03:5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a | 1 in 7 dollars of personal health care spending now are paid for out-of-pocket compared to 7 in 8 dollars 80 years ago</vt:lpwstr>
  </property>
</Properties>
</file>