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110-5930-4D00-9C20-5AFE69E0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CC6-0681-4E3B-8DA1-54874CD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D38-E660-401A-A23E-AE8052ED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90F-FEED-4266-A6AF-3F5694BE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38F-9A4E-4414-ACA9-938728A1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3BC-C0F8-4302-B7A1-6021C7CE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123-4EBC-4AAB-BD7F-982FE9C5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579-9806-48E7-9DCC-FBD1A07E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264-39C0-4412-8D56-69925578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A63-8941-400E-B746-3806496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988-869D-4211-80DB-AC83F06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262-5F44-4900-A4CD-C78D883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3B4D-DE50-4755-8D50-05C3A256D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37:21Z</dcterms:modified>
  <cp:revision>4</cp:revision>
  <dc:subject/>
  <dc:title>PowerPoint Presentation</dc:title>
</cp:coreProperties>
</file>