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D0D-B9E4-4289-86E9-B64756F5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28F-4F1F-486F-9638-BA097EE4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740-3025-454D-AB86-395032BC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DC1-29AA-49EA-B2C2-9148FB9F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85BF-D294-4B7C-A93C-7FCA6910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3C9-DCDA-420B-9103-78B2E3C8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2CF-21FA-4C1C-9DBF-CCFF2072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30B-8BF3-4470-B93C-0AC71990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27A-2111-44BC-87F7-6744185B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398-CA40-48D3-8E22-621F0965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F37-60A0-4EB3-B5F1-A01C0297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10C-5CE1-40E6-B32A-FC758F0A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A7A3-9A15-4901-BEC4-206D92DDA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3920"/>
            <a:ext cx="913752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1Z</dcterms:modified>
  <cp:revision>10</cp:revision>
  <dc:subject/>
  <dc:title>PowerPoint Presentation</dc:title>
</cp:coreProperties>
</file>