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1113-7231-4560-99FA-D1B3615AA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5 | PERCENT WITHOUT COVERAGE, BY SINGLE YEAR OF AGE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F131-B446-47E2-BB4C-6AF93985C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9FE-1A1A-44C8-8ADA-B28E4129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F9E-A093-4D71-B77B-BDA8D01E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E6A-6CC9-46A7-975A-FCCD8508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6F6-9BDD-4FF3-BE98-0FFB7224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E79-3C34-4C86-B571-8417800B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098-B739-4492-8954-2DF8F173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59A-3584-4B79-A0AA-34ADECFE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7F9-C3CF-46EE-B247-E7049294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623-BA34-4FF9-9CB5-3A268097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16D-64B8-4865-98EB-008A240C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746-52FE-4624-A692-29E476CA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089-AFF9-465C-9C6D-2ADDFB1E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9432-084C-44AA-AE78-3AE831614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5 | The probability of being uninsured is far higher among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450720" y="914400"/>
            <a:ext cx="29815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5 | The probability of being uninsured is far higher among young adults</dc:description>
  <dc:language>en-US</dc:language>
  <cp:lastModifiedBy>Jia Yao</cp:lastModifiedBy>
  <dcterms:modified xsi:type="dcterms:W3CDTF">2013-09-06T14:06:2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5 | The probability of being uninsured is far higher among young adults</vt:lpwstr>
  </property>
</Properties>
</file>