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E344-00BD-4E34-8540-1C36EFC6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093D-29D3-45BC-A600-5C2324C2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1E72-1EE9-4D40-91E0-C0188B76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CCD6-9DD9-44CD-B06D-844BFEE2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9AE6-5547-465B-8F4D-3AFB1A24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2965-5037-4578-8564-FD1D635D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5C5D-0338-4D1B-A126-0C760212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3033-085B-407F-ACD0-00CADBED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70DB-4C3F-4DAB-9748-9CBB55FF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BA87-E326-4B09-9971-BB9C38FA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19FD-1A78-475A-8D88-38E42568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E84F-F475-4A21-A13A-276FC965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8CA1-3D0B-4800-BAAB-B83DFA517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9840" y="152280"/>
            <a:ext cx="90043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7Z</dcterms:modified>
  <cp:revision>28</cp:revision>
  <dc:subject/>
  <dc:title>PowerPoint Presentation</dc:title>
</cp:coreProperties>
</file>