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B5F-B1C8-44FA-AE17-78FF25D2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792-60CC-466D-9984-16E5409E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E15-9EE4-43C1-8DB7-D59F1D35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BA3-48C8-42F6-8379-339BF98C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991-87E1-4675-8D8C-8B209675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80E-29DE-4CAE-BA82-625518C7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4DE-D6AF-4A76-B836-D0AE1275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AF1-0D8C-42B3-9286-43B5FD56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4A2-D6D9-4DD6-BC5F-E92676E4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4C6-5F1D-46C8-88E1-AF205293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67F-C13B-4176-81F9-814883E7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042-B798-4EAC-A042-AFB7E0EC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FD41-8443-4C35-821C-10ECFC6E7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0Z</dcterms:modified>
  <cp:revision>6</cp:revision>
  <dc:subject/>
  <dc:title>PowerPoint Presentation</dc:title>
</cp:coreProperties>
</file>