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FBD-849F-40CE-BB20-F9E3C142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C38-C771-4447-B405-D7EA387F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9C4-E2A6-463A-90C5-2F0A6B4D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5FA-6D00-4221-A34B-96A2CB72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77C-6E2E-4BE5-88CA-9E480F0C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FF5-F748-470E-8822-953AB222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538-D971-477B-AD05-14DF2EFB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476-D0CB-450E-AEA7-A923330A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0CF0-0D95-4FCD-8FBE-CFFF3C1D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0E8-E775-4A8B-A696-0CF9E2BF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769-4BE1-4B55-85D3-5A670E29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EB0-6EB3-4C26-B07C-8E997BC6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BE9D-E523-4F4F-94EF-0E33ADE1B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82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5Z</dcterms:modified>
  <cp:revision>35</cp:revision>
  <dc:subject/>
  <dc:title>PowerPoint Presentation</dc:title>
</cp:coreProperties>
</file>