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BECE-0A05-44FE-81CE-4052604A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4CD0-1EEB-4355-BDE8-7DE77E13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C139-239E-4174-85E8-35B4A364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276-51EE-4428-A29C-004FF9E8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D8A-4A99-491B-AFE4-643EBB48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0F24-1A73-4D50-83EE-33A8E556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AC55-D46A-425C-B3DC-41D2A1CD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CCB0-7FDD-4BB0-9BFE-0FCCB303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758D-11A2-4869-9DC9-EFB192D1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146F-5703-4AC4-806C-CC26ADF4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9587-5860-493C-9433-45866FA6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C01-D508-4F9E-872A-3A908D25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51E2-B901-40B8-8213-733728A64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49280"/>
            <a:ext cx="91314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3Z</dcterms:modified>
  <cp:revision>20</cp:revision>
  <dc:subject/>
  <dc:title>PowerPoint Presentation</dc:title>
</cp:coreProperties>
</file>