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C502-6B58-4FD0-A54C-7AB1608A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68F6-D469-4227-A975-F63B3476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666F-7822-48F9-9C58-835FA44A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0C0D-2F5B-404D-AF9A-A12B1C172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6282-A293-4021-8055-652C2481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8650-A12D-43E5-A0FD-13B78F3F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5AFE-118C-4DC6-AE51-C45B9A2A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735C-32B8-4785-B8D0-A095CB5F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F08F-6BA5-4548-AF71-FF7B656F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38E8-599B-4C96-89E5-20526496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5177-F089-4957-9542-E060ED2A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EB6B-CC74-4096-81F4-216CF2B2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7C90-3318-417B-9B6C-BB0DD2C69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60480"/>
            <a:ext cx="9123480" cy="67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1Z</dcterms:modified>
  <cp:revision>12</cp:revision>
  <dc:subject/>
  <dc:title>PowerPoint Presentation</dc:title>
</cp:coreProperties>
</file>