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797-3780-4452-9D8A-1A8689705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a | Hours-Adjusted Annualized Internal Rate of Return on Educational Investment Over a Working Lifetime, Selected Medical Specialties, 1955-19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0FAB-0E31-4D14-978E-32AE43F29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B80-5543-422D-BB35-EE292AEB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EAF-731C-444C-BA34-F52C00EA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387-830A-47D5-A17A-C82F293D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C96-D04C-43A4-A039-30809BA0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3C2-BDDF-4E07-BFDA-4BDE9C46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29F-9F66-48F1-8B69-BC7F182E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12D-F2B9-471F-B740-1C3EB0B5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D39-2E5A-40DE-A7E0-87F39093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30D-CD37-465E-8C12-60862261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445-9FB3-41DD-9707-2E7105F3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9BA-A778-44CB-96A7-41232A6A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86C-DAF1-4A39-A29A-01CE8FF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E0E5-5458-41A0-82AF-9A76F3CFB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a | The annual rate of return to medical education appears for some specialists to generally have risen over many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556272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interval between years is not equal. Each year represents a different study. These studies have similar but not identical method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0948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rs-adjusted annualized internal rate of return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investment over a working life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a | The annual rate of return to medical education appears for some specialists to generally have risen over many decades</dc:description>
  <dc:language>en-US</dc:language>
  <cp:lastModifiedBy>Jia Yao</cp:lastModifiedBy>
  <dcterms:modified xsi:type="dcterms:W3CDTF">2013-09-06T15:08:5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a | The annual rate of return to medical education appears for some specialists to generally have risen over many decades</vt:lpwstr>
  </property>
</Properties>
</file>