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BEC6-BA35-4E9C-A84B-78438D84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68B-9BF9-44A6-B95D-17C26CD1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079-FBCD-451C-86FD-74218649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B0E-FF33-45FA-A4EF-0AB6ACFF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BFD-313B-4B8A-8603-03F46372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6747-5BD9-4F54-9E40-554E3DCE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04C-4540-47C8-A85B-5091AC14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5CE-EB67-4DC0-8D41-E174E626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C13-39E6-4896-B5A5-7ABB102E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DD7-6DB8-43D5-BF8D-84A048D1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004-33A8-4F9A-B571-8AFC14F0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F505-674C-4B00-B8F1-FD9DB463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465E-361A-46E2-95F2-24C69F181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117360"/>
            <a:ext cx="909468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2Z</dcterms:modified>
  <cp:revision>37</cp:revision>
  <dc:subject/>
  <dc:title>PowerPoint Presentation</dc:title>
</cp:coreProperties>
</file>