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EB7F-6AEF-4323-9EF4-F95179AA2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CB59-57FB-417E-B126-503F5BF1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C11D-4982-43A5-B749-310AE149F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5772-FCD3-4109-B72C-A8863A35A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07F1-7F66-4CBA-BF1D-5063F702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035B-A502-4715-9BF3-CE2275A0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10A5-F3FC-48B3-AF85-2B7CDD85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9E1C-4BB2-4789-BB27-AF8A4388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B2C8-2357-4156-A690-2715C5CE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74E2-F008-47E5-A472-98026531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49B1-25A7-4187-847C-60B946D8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D455-5508-4EC3-943A-1A2886EA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5194-C046-4D5C-93B8-3601EA3FEC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8400" y="412920"/>
            <a:ext cx="9075600" cy="59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8Z</dcterms:modified>
  <cp:revision>39</cp:revision>
  <dc:subject/>
  <dc:title>PowerPoint Presentation</dc:title>
</cp:coreProperties>
</file>