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0FE-FA0A-4120-8643-3C2EEF2B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F3A-FEB8-4CC1-886B-63D985F5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C6E-F390-4A40-8E10-10A5B5DE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8C1-C084-4ED5-B897-76E26DD6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708-0225-4D28-9F27-911FE4AF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17C-3BCF-47FD-9360-1E50EF5E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C00-06F1-4818-BA4E-81763340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DFD-ACB7-40A7-ABF6-1FE776BB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6FC-A138-40FE-B9DE-A631BCDC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1F8-A757-4AD7-8AB2-145770AA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629-EE3A-4CB1-9E39-A07C757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DDF-2DA0-4FCA-B628-D9747945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0AFE-C493-4A7B-91D1-14A9B8D2D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1000" y="457200"/>
            <a:ext cx="898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0Z</dcterms:modified>
  <cp:revision>39</cp:revision>
  <dc:subject/>
  <dc:title>PowerPoint Presentation</dc:title>
</cp:coreProperties>
</file>