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75BDA-9AC9-4BA8-AE3F-261FD42533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5556F-1BD4-4094-B7FB-5D1A96A10AB8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f7f7f"/>
                </a:solidFill>
                <a:latin typeface="Arial Narrow"/>
              </a:rPr>
              <a:t>2.4b | DISTRIBUTION OF PERSONAL HEALTH CARE EXPENDITURES BY SELECTED TYPE OF SERVICE, 1929-2009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CFED6-E5CB-4B21-8E51-13C1D5DC7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6D77D-4E9D-43F8-A614-5FA3E8AB4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E434A-72EB-4393-8FC7-154E7A7A3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C2DC7-FDBE-47C2-B404-92D05078A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9899F-9E39-4901-8E32-8C6AD8DCC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77E0E-95D8-4009-AF81-C8881B7C9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C9443-9105-4C68-BAFA-342010E45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0A09E-986F-4595-9DC7-CFC423459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63779-2312-4BA8-88DB-60073C068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F6D2F-FF6D-4DED-9173-1CE44F7C5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97AAF-1673-4232-B1B8-B0BA016B4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EF069-D50C-40CF-959E-31BE1C71A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13B1E-FBDB-4CF0-B727-7DB8B18A7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94DF9-36CD-42F4-A64B-034AE28BC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F8DC2-F875-43EC-9D0A-995F29231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C6719-F42B-4A87-A38B-4FEFCF7D8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51058-CDCA-4384-83B7-343F7F9DA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C231D-1CB4-4A56-819E-42C0F85BC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0E202-5867-44C0-ADF4-365C157D2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47AD0-8311-4B8F-AC0C-172EE247D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2A3FD-6D56-4F57-9AE2-B3A35215B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BBC81-1700-43FA-97E6-9F2ADADAF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CE26C-CA4E-4677-9E4A-751FFC89C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3B9F2-E560-4470-A64B-99AAE4C9C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4667A-1373-4EA1-8DDE-3988A80919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5D0E5-23AC-4A51-A298-3B8F04C3820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3"/>
                </a:solidFill>
                <a:latin typeface="Arial Narrow"/>
              </a:rPr>
              <a:t>2.4b | While the share of PCHE accounted for by dental services has declined steadily, trends for other components are more mixed 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91" name="Object 3" descr=""/>
          <p:cNvPicPr/>
          <p:nvPr/>
        </p:nvPicPr>
        <p:blipFill>
          <a:blip r:embed="rId1"/>
          <a:stretch/>
        </p:blipFill>
        <p:spPr>
          <a:xfrm>
            <a:off x="254160" y="787320"/>
            <a:ext cx="8559720" cy="6121440"/>
          </a:xfrm>
          <a:prstGeom prst="rect">
            <a:avLst/>
          </a:prstGeom>
          <a:ln w="0">
            <a:noFill/>
          </a:ln>
        </p:spPr>
      </p:pic>
      <p:sp>
        <p:nvSpPr>
          <p:cNvPr id="92" name="TextBox 3"/>
          <p:cNvSpPr/>
          <p:nvPr/>
        </p:nvSpPr>
        <p:spPr>
          <a:xfrm rot="16200000">
            <a:off x="-2305440" y="37324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5T21:37:09Z</dcterms:created>
  <dc:creator>conoverc</dc:creator>
  <dc:description>2.4b | While the share of PCHE accounted for by dental services has declined steadily, trends for other components are more mixed </dc:description>
  <dc:language>en-US</dc:language>
  <cp:lastModifiedBy>Jia Yao</cp:lastModifiedBy>
  <cp:lastPrinted>2002-05-16T21:44:34Z</cp:lastPrinted>
  <dcterms:modified xsi:type="dcterms:W3CDTF">2013-09-04T18:13:23Z</dcterms:modified>
  <cp:revision>3465</cp:revision>
  <dc:subject/>
  <dc:title>Financing the U.S. Health System: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Financing the U.S. Health System: 1</vt:lpwstr>
  </property>
  <property fmtid="{D5CDD505-2E9C-101B-9397-08002B2CF9AE}" pid="3" name="SlideDescription">
    <vt:lpwstr>2.4b | While the share of PCHE accounted for by dental services has declined steadily, trends for other components are more mixed </vt:lpwstr>
  </property>
</Properties>
</file>