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58D-81CA-40F2-AC3E-9C8599132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1D3D-89B0-464F-952E-74C2865B63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a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0B0-A399-41C0-8BC6-01972009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68E-1428-42C2-9DB5-66FD85F6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C16-2C52-406E-A604-E969F28A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821-1524-4564-99DF-B211A729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74AB-A862-4C5C-9BDB-6E556EC8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0B37-16F1-445C-9774-3FB62D8D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ABE2-AB5A-4CCA-A00B-F166D7BC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BCE6-839B-4BAD-9122-CF3C9123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9370-D0C4-45E7-98C4-05635E91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982F-8A58-4338-A5DF-CD77AF2A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7079-60A5-4C18-80B5-CD2F63C7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A4C-B52E-4F2E-85DF-ACEE8C88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CBF9-C153-4C67-BD16-1DD37A8E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940B-A423-4E47-A2C5-3AFAA5A9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EE60-8193-44F9-BB09-933BBB86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1237-F58E-4270-B844-4393CC1F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1D11-3577-44B3-BF89-27904637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4BE-6DF7-45A3-8C7C-7D216E76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FC6-EC71-4461-BA4C-3282903C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129-3C7E-48A7-9F67-88DFB9C0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E84-34B7-4C7B-82C9-7C2E0BD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E73-69C4-4C7D-B8AB-F4EE3BB1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647-8B42-448F-B73D-D1033617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269-6CDA-4DF2-9EAE-55B4E67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E8D3-3255-4416-9FE9-02C8118F7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723F-AA8A-4EB9-AB0A-30598B574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a | Over six decades, both health and non-health supplements to wages and salaries have grown dramatically relative to worker p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a | Over six decades, both health and non-health supplements to wages and salaries have grown dramatically relative to worker pay</dc:description>
  <dc:language>en-US</dc:language>
  <cp:lastModifiedBy>Jia Yao</cp:lastModifiedBy>
  <cp:lastPrinted>2002-05-16T21:44:34Z</cp:lastPrinted>
  <dcterms:modified xsi:type="dcterms:W3CDTF">2013-09-06T13:49:57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a | Over six decades, both health and non-health supplements to wages and salaries have grown dramatically relative to worker pay</vt:lpwstr>
  </property>
</Properties>
</file>