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A061-F615-4614-B643-BE36FE6E0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2B | FEDERAL HEALTH EXPENDITURES WITH TRANSFER ADJUSTMENTS AS A PERCENTAGE OF TOTAL FEDERAL, STATE AND LOCAL HEALTH EXPENDITURES, 1929-20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2339-8918-4762-90E7-188CF791D6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37CB-54F6-4A6A-BE45-18CD3E1A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F4BC-58D2-400D-87A0-2AF6E069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060D-C4B2-4374-B0DC-5F67FB185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CF0C-3A55-4132-AC53-E4651225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E85D-C691-4A1B-84C7-435D4FE1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D6EF-0AC0-4B5E-82A3-4F46F3B7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3178-06D3-4316-B8CC-EBB55555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50BD-76EB-4D55-BDBC-B4882F66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A20C-F370-4C88-9791-C641F240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7F12-8494-4346-AAAE-E0900889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42A9-3670-44A0-AFEE-5F3C4D6A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6F48-C9A8-4DAE-AA41-871EFD70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CC69-B559-41BB-856E-46B434D5D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2b | Taking into account Federal transfers to states for health, the Federal share of government health spending exceeds 70 perc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84440" y="1676520"/>
            <a:ext cx="459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ederal percentage of total government health expendit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2b | Taking into account Federal transfers to states for health, the Federal share of government health spending exceeds 70 percent </dc:description>
  <dc:language>en-US</dc:language>
  <cp:lastModifiedBy>Jia Yao</cp:lastModifiedBy>
  <dcterms:modified xsi:type="dcterms:W3CDTF">2013-09-06T13:59:32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2b | Taking into account Federal transfers to states for health, the Federal share of government health spending exceeds 70 percent </vt:lpwstr>
  </property>
</Properties>
</file>