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D4A5-A557-4A0F-8DBF-5DF1E3CF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28EF-E85B-4265-AB9A-CE2449F6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568F-7707-41A4-AE82-B610813F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0B5-0D54-4BBC-978E-A187FD36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C1C-58EC-4F03-812C-381DADA8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3F0-ECF9-40CA-BCA8-EDDC3320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358D-D3D4-4DD5-9622-F61AC003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CD4-3991-49D4-8292-4D26F5EB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44B1-7085-413D-955B-EDEB266B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6AC7-24E3-4D26-B940-0E31A1A1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3D49-846A-4227-AF0F-0220A8F7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2403-6633-42A4-A2C1-89E8B123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454E-9320-40B4-99A9-AD539E59A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3Z</dcterms:modified>
  <cp:revision>31</cp:revision>
  <dc:subject/>
  <dc:title>PowerPoint Presentation</dc:title>
</cp:coreProperties>
</file>