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7690-6DF9-4EE4-9CA4-ACCD36C4E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49AB-590D-4D23-9218-3FC536628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D530-E946-4CB3-9323-5685B3779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5A36-35D6-40C8-8E6E-C68BE21E1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75A3-9C40-48FE-A790-A63CEB2FC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2146-FEF1-4AD8-9E9F-B25C1D6EE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EB61-F1C0-4F02-B694-886D0EFA6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F870-2DB8-4A1E-A1F9-C6DA39E69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2267-C066-40B3-84F3-61359A50D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9E4F-2B31-4902-9167-90C6877F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711B-567B-41F8-93E3-780492F8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EC5C-1C57-4D42-8D99-2BA4C391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B96CD-99D2-43A3-AE82-5EBD4659B2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12680"/>
            <a:ext cx="9144000" cy="66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49:36Z</dcterms:modified>
  <cp:revision>6</cp:revision>
  <dc:subject/>
  <dc:title>PowerPoint Presentation</dc:title>
</cp:coreProperties>
</file>