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FFB0-A71B-4323-8F88-7987D7E18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a | Output per Hour and Output per Unit of Input Indexes (1987=100), Private Sector and Ambulatory Health Care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4FBA-CD7F-4695-8172-38E6236E7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7A3-FD72-4FED-A250-78BED339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D59-F293-410E-A410-952D70A2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93F-F391-4C79-B24A-DEEA605E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D67-9357-4537-B3BA-217F7012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30E-E607-4471-AA68-3EB4162B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F42-BDA9-4726-9F5D-0E6E3F89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D15-2E01-403D-A824-4FF59AA9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889-0241-48CB-B454-63CCDF66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09B-47A8-4C5B-91A7-47C21903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E1D-A497-418E-9F09-2E8EA856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90B-044F-4AED-A946-341AB0CC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E6A-8CEA-45BC-BF90-4FD7A1E0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18C4-653F-42DD-9866-1110DF619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a. Since 1987, low or negative productivity growth in ambulatory health care contrasts with steadier private sector productivity g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015920"/>
            <a:ext cx="840744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a. Since 1987, low or negative productivity growth in ambulatory health care contrasts with steadier private sector productivity gains</dc:description>
  <dc:language>en-US</dc:language>
  <cp:lastModifiedBy>Jia Yao</cp:lastModifiedBy>
  <dcterms:modified xsi:type="dcterms:W3CDTF">2013-09-06T14:59:03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a. Since 1987, low or negative productivity growth in ambulatory health care contrasts with steadier private sector productivity gains</vt:lpwstr>
  </property>
</Properties>
</file>