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EE26-39C6-4958-9FB3-1DD9C0E5F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2A | FEDERAL, STATE, AND LOCAL EXPENDITURES, BY MAJOR PURPOSE, AS PERCENTAGES OF GDP, 1959, 1989 AND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8B5E-C632-4BBA-9140-4B9D48DAD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6D7F-196F-4813-B683-FD6D0279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4BD7-6316-4F90-99FD-8ADA27EB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47B-6B31-4EEB-BF41-8E904E70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7EE-FB59-49AE-92FC-D5C2909E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8593-7322-4632-ACAF-3577B07C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828-51AF-4E72-8522-51D1325F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CBFE-8414-4D27-B72D-EBD6F107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B995-B17A-4F2F-A835-811AA9DA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19BA-CFC3-49A8-9F7D-4A586867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8C59-B1B2-4013-95B5-9448A8AA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11E3-ED22-4B24-AE28-639A2CE2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4778-3CF0-4A93-810A-2A2F54F9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7A33-9D28-4D02-88EF-183AF98D6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2a | Government health spending has been the fastest growing major component of government budgets over the past 50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48340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flipH="1">
            <a:off x="533520" y="6019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 this chart shows the 7 largest functional areas of federal, state and local budgets in 2010, rank-ordered by size in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2a | Government health spending has been the fastest growing major component of government budgets over the past 50 years</dc:description>
  <dc:language>en-US</dc:language>
  <cp:lastModifiedBy>Jia Yao</cp:lastModifiedBy>
  <dcterms:modified xsi:type="dcterms:W3CDTF">2013-09-06T13:59:30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2a | Government health spending has been the fastest growing major component of government budgets over the past 50 years</vt:lpwstr>
  </property>
</Properties>
</file>