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C5CB-B479-4AF1-993B-E43BE3A400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1a | Real Output and Labor Hours in Health Facilities Index (1987=100)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AFC3-8DDA-487A-8C2E-8F8B6F4622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ECF8-4BB8-4AC4-B609-92D17FED0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1C5D-1F03-4756-9593-4FB76AE3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6AB2-E94D-468D-BC52-DEBFB81B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4D8D-0856-40E5-A026-6452DA2FF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DBCA-D939-47A4-87E1-121EC9CA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52A1-2DB6-4AD1-BB83-46286884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BB36-A03B-41A5-96D4-E4734B89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723D-E764-4139-AA87-05A21A03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D32D-57A1-43D3-B759-2C371F16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AA12-7437-45BB-9298-F1B57F37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88D5-C034-4F57-BCA1-1BE40F6F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C513-02E9-479E-A791-4C6B204B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07DF-B307-425E-BB39-69008FD855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1a. | In hospitals and nursing homes, real output grew faster than labor hours over the past decade, but more slowly than all inputs comb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5597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1a. | In hospitals and nursing homes, real output grew faster than labor hours over the past decade, but more slowly than all inputs combined</dc:description>
  <dc:language>en-US</dc:language>
  <cp:lastModifiedBy>Jia Yao</cp:lastModifiedBy>
  <dcterms:modified xsi:type="dcterms:W3CDTF">2013-09-06T14:58:57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1a. | In hospitals and nursing homes, real output grew faster than labor hours over the past decade, but more slowly than all inputs combined</vt:lpwstr>
  </property>
</Properties>
</file>