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E3D4-89D7-4CBC-9815-79D33225C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B | COMPONENTS OF PERSONAL CONSUMPTION EXPENDITURES, 1929, 1969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FF5F-1297-442F-A18B-3D8043CB6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51B-476B-4EED-8639-CB910701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E66-8230-4204-BAD9-FD2419C1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A9B-4F3A-4A5C-A9DB-AE862235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928-353A-41C8-91A2-FCE2F10C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303-60EA-4458-B9D0-5B61D2F6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C43-A502-457E-9D7F-9CAFAA41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026-DB3A-4C88-ADE8-660770CE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AE5-0141-460D-A6F1-334F3941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949-0209-406F-BEA8-E9AEF90A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5C4-47F8-42C2-BED4-82AE41CF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3B4-213A-4DBF-B7AD-AEB1C632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234-7AB4-4600-B52D-10B77B49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C10E-6EA2-42E7-B93E-4C878962C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b | The health share of consumption spending has grown as the portion for food, clothing and shelter has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4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62120" y="61722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personal consumption expenditures (listed [left to right] by amount in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b | The health share of consumption spending has grown as the portion for food, clothing and shelter has declined</dc:description>
  <dc:language>en-US</dc:language>
  <cp:lastModifiedBy>Jia Yao</cp:lastModifiedBy>
  <dcterms:modified xsi:type="dcterms:W3CDTF">2013-09-06T14:06:1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b | The health share of consumption spending has grown as the portion for food, clothing and shelter has declined</vt:lpwstr>
  </property>
</Properties>
</file>