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7EA5-25D8-4C56-9EE5-C2F0EB509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92AF-3730-413D-895F-D4316886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D093-FB4B-482F-9BF9-46023487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9629-3788-426E-8476-FBA9F826A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C09F-D125-40D3-8CA0-715BE794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8080-3AB9-44C2-B63D-BFE1EF67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7EE8-F9E9-475F-B88B-9B7244E9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EC6D-C01B-4E4B-A556-FA311E58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2385-57C8-4610-97BB-C5C012D5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1E8A-F1C8-4B4D-8F69-8741F6B1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4EC0-5764-40CA-86C7-F61BB6A8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A739-C2B0-4229-87DD-A1E1DA5E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7F41-3C92-4149-9047-6F4C9D33F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22120"/>
            <a:ext cx="913608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3Z</dcterms:modified>
  <cp:revision>39</cp:revision>
  <dc:subject/>
  <dc:title>PowerPoint Presentation</dc:title>
</cp:coreProperties>
</file>