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AD65D-CF46-46F0-9F11-16BC207557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20.3a | Annual Excess Cost  Growth in Per Capita Health Spending, 1975-200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14E5B-0D29-4638-A89C-2F781DF435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86A70-0F37-4AE0-9D87-8885A3E8D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2BFE4-6C65-4CDB-9CEC-1B3EE641D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43E50-57EE-4499-AD87-F4589B080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061A7-8E07-4763-BEA0-39BA9746F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D61F8-5C38-4D24-B903-159011F3E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21677-D541-40CF-83A3-830C0F9CE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381CD-7EE0-4D63-A1EB-A90F19557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BAD41-994E-46FF-B1F2-0E9B39F67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17CC2-03FA-4A86-8303-75012572E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41C63-EF99-42AD-A0C6-47D5A39D0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04C9A-1DB1-457C-9A61-84DA292D4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0C3FC-97D4-4E83-892F-F9487DACB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DB05D-E0EB-456E-B8DE-69851F1BE1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20.3a | Measured over long time periods, annualized growth in health costs  in excess of growth in GDP appears to be declining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244520"/>
            <a:ext cx="8559720" cy="566424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703080" y="1219320"/>
            <a:ext cx="699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nnual excess cost  growth in per capita health spending, by starting yea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>
            <a:off x="522360" y="4648320"/>
            <a:ext cx="8305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te that per capita health spending is adjusted for changes in age and gender. Also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 ending year after 2000 is 2007, not 2005. Thus, 5 year excess growth start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year 2000 is for 2000-2007; 10 year excess growth starting in year 1995 is for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995-2007 etc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6"/>
          <p:cNvSpPr/>
          <p:nvPr/>
        </p:nvSpPr>
        <p:spPr>
          <a:xfrm>
            <a:off x="522360" y="5848200"/>
            <a:ext cx="8612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: Caldis, Todd G. The Long-Term Projection Assumptions for Medicare and Aggregate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National Health Expenditures. Centers for Medicare and Medicaid Services, Office of the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Actuary, National Health Statistics Group, May 12, 2009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7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4T15:46:42Z</dcterms:created>
  <dc:creator>Kristy</dc:creator>
  <dc:description>20.3a | Measured over long time periods, annualized growth in health costs  in excess of growth in GDP appears to be declining </dc:description>
  <dc:language>en-US</dc:language>
  <cp:lastModifiedBy>Jia Yao</cp:lastModifiedBy>
  <dcterms:modified xsi:type="dcterms:W3CDTF">2013-09-23T19:14:14Z</dcterms:modified>
  <cp:revision>645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20.3a | Measured over long time periods, annualized growth in health costs  in excess of growth in GDP appears to be declining </vt:lpwstr>
  </property>
</Properties>
</file>