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5D65A-3471-40AF-A060-B0CD35813C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1A | COST PER LIFE YEAR AND "QUALITY-ADJUSTED" LIFE YEAR GAINED FROM INCREASED HEALTH SPENDING IN THE UNITED STATES, 1987-200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4BB3A-7AFA-4D3B-94CD-0FF9E5078F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0545-2F1E-4663-BEC9-C2BD65503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F36F-9AF0-4F14-9683-B9FF60EF8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F876-5748-4D1B-8D70-F19ED9008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F32C-969E-432A-8577-13A569DDA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1906-FC33-4CA9-882D-7F1B1B818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5E34-B850-4BDE-A34F-F9783B7A1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CB79-F9C2-46DB-9C63-ADDF80361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3451-EE31-4C96-A0C7-555D7EC91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C5DE-EBC3-45C9-9B33-7CF4B9F35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4FCC-9824-4FFC-80BB-81F20BADA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ECF8-515E-4E5E-B1D1-598690746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22B1-D5E2-4DDE-87FA-6012EA7B7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3AAA8-4B1A-49F0-88BE-5A252430A8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9.1a |  Even after accounting for the resources spent to add a year of healthy life, U.S. health spending appears to provide good value for mone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705600" y="1600200"/>
            <a:ext cx="48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st per life year gained, 1987-2000 (2000 dolla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531720" y="5759280"/>
            <a:ext cx="851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Cutler DM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A Health Report Card for the Nation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HE Presentation. June 6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6. http://healtheconomics.us/conference/2006/plenaries/powerpoint/cutlermadis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pt (accessed August 18, 2010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1a |  Even after accounting for the resources spent to add a year of healthy life, U.S. health spending appears to provide good value for money</dc:description>
  <dc:language>en-US</dc:language>
  <cp:lastModifiedBy>Jia Yao</cp:lastModifiedBy>
  <dcterms:modified xsi:type="dcterms:W3CDTF">2013-09-06T15:40:34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1a |  Even after accounting for the resources spent to add a year of healthy life, U.S. health spending appears to provide good value for money</vt:lpwstr>
  </property>
</Properties>
</file>