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DDD-521B-4FEE-88ED-5221FF3E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C85-9A53-4763-929E-FC2375DA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BBF-F2F7-46F4-8E7E-C8AD7ABA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A8A-B7D2-4F3A-912C-E46B007E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9B9-3F5E-435D-9B1F-9A2B0C72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B77-F92D-4808-B6FE-203CDD41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925-04F5-46B9-AAEB-D16092A0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842-5F18-4B6E-831D-A8E5637E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0F5-C170-42DB-B7B2-439AEFBC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0B5-09EB-4386-8742-8C578D42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2E8-2C0A-4D71-A96C-C0E1A0B1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566-0082-4850-A8B5-BCAF886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D301-BC27-4D62-AE5F-CCEF49971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9844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8Z</dcterms:modified>
  <cp:revision>36</cp:revision>
  <dc:subject/>
  <dc:title>PowerPoint Presentation</dc:title>
</cp:coreProperties>
</file>