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D18-8FA0-4312-8061-0F71A676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B16D-A5C9-43AE-9EA5-996857B5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DAA-2197-4311-BB28-C9A4CF2C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6D9-CF38-4AAB-B1CA-F6FA9149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4F0-1B99-4A90-BD4C-142CA1AB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CFB-ED4A-4188-8202-BFFCD6B2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B391-59EA-4F61-809E-81752BCF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FBF9-048C-46D2-9CDA-1495EE5D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F59-063B-44FA-A73F-63E8B613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3F3-F1A2-4E47-BF92-1EC1B666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D49-2ACE-4820-B53C-D97C7EE8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DBE-1D2E-4982-94C9-C5EDEC65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71F0-FA61-4CF4-9DBE-5CE60091E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6480"/>
            <a:ext cx="89992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8Z</dcterms:modified>
  <cp:revision>31</cp:revision>
  <dc:subject/>
  <dc:title>PowerPoint Presentation</dc:title>
</cp:coreProperties>
</file>