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C171-A7E0-444A-8038-CE407026C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573F-7E41-47B4-8E17-A335C97F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46A2-A467-4D1E-899F-7D64368E1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DC36-0F80-4587-B36F-D671E54CC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DAD2-C667-4808-A4EB-7DDBCF62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6619-A18C-42F4-B1E8-CB6B1487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DA81-1C58-47E5-8F50-50D3CD58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292D-2279-4954-A242-59A495B2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B700-8FEE-4330-99FA-92866A02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E7A1-8940-4AD1-889F-E3DC005B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E88D-EB60-4B4E-833E-F25F8923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876E-5151-4B02-811D-FB0CAC16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705E-4D1B-480C-8161-F3D4AFCE61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9200" y="304920"/>
            <a:ext cx="8988480" cy="62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0:56Z</dcterms:modified>
  <cp:revision>30</cp:revision>
  <dc:subject/>
  <dc:title>PowerPoint Presentation</dc:title>
</cp:coreProperties>
</file>