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9A14-1E9A-4CFB-88F6-81F612A27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BD8D-6798-4E4E-9DDC-6C0BFAD1F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85CE-9C7E-4D54-9FAF-075EB39CA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371B-D43B-43F9-B1EB-B6922D9E4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3E91-860A-41C5-9CD3-1C4B3B08E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3406-608F-48D0-9EDB-3A3F5F30C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C6AB-F9EB-4A0A-ABE5-9FC8009DB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136B-75C9-4713-97BD-BEA5101F3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B221-916E-44A2-BE4F-98E8814BF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FCF6-B3B2-4495-96E4-D89A2359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2BD5-F21B-430C-84B4-69E217FE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B38A-9434-4A24-ABDC-110B8E7F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0020F-366F-4FED-9D21-12EE28C71C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52280" y="58680"/>
            <a:ext cx="8761680" cy="67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12Z</dcterms:modified>
  <cp:revision>8</cp:revision>
  <dc:subject/>
  <dc:title>PowerPoint Presentation</dc:title>
</cp:coreProperties>
</file>