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2616-AFF4-43E8-9466-6C2A12611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D7DF-EC1C-4AAA-8818-AFE802C9C9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b | TAX SUBSIDY AND PREMIUM AS A PERCENT OF AFTER-TAX INCOME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EAD-CC19-4FAD-A7AF-8C2C4871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6CFE-EE89-4820-A45B-59AC67D5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DE0-A263-40F9-B946-616D00FB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625-8BF4-4610-A0ED-6D4D18DE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63DC-C2CF-46AF-A107-003C3B56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C4A5-6659-4C01-85CE-0631BB87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65FF-BB45-42CF-861A-F2562B5E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366E-E3E3-4699-9805-6684751C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A7A5-BDA8-420A-9F8A-BB79CA00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8192-2CE3-4FE1-A405-5F0D8B35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8548-8B19-41B3-BAFD-68BD9D5B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088-59B1-4F4F-8DAE-FD884EF7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3C65-FF9A-4AAF-B0D7-03580854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062C-1175-4625-AC8E-96A2C4F1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5966-9C76-48BD-B0B4-E547A8A5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F4BD-A514-470C-B933-3106D87A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CB24-2E74-485E-A7EA-21E3B73E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C72-4EB5-414F-8C6B-2AC0CC61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BBB-8D41-4896-90B0-5BEF4F38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13E-943B-4CB4-B89E-42E56805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CC8-F78E-4498-A125-52C1538B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692-C468-4D12-861E-60734FEE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E05-63C0-4D7B-B535-FA19EDF5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845-5472-4930-99B3-045D4F77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0563-310D-437F-8791-0B503E134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CE97-CBC1-4AEF-ADF2-09B3A1313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b | The share of income needed for health insurance rises sharply as income declines; the tax exclusion mitigates this only slightl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44600" y="787320"/>
            <a:ext cx="85215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12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b | The share of income needed for health insurance rises sharply as income declines; the tax exclusion mitigates this only slightly</dc:description>
  <dc:language>en-US</dc:language>
  <cp:lastModifiedBy>Jia Yao</cp:lastModifiedBy>
  <cp:lastPrinted>2002-05-16T21:44:34Z</cp:lastPrinted>
  <dcterms:modified xsi:type="dcterms:W3CDTF">2013-09-06T13:50:43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b | The share of income needed for health insurance rises sharply as income declines; the tax exclusion mitigates this only slightly</vt:lpwstr>
  </property>
</Properties>
</file>