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E06C-94DB-4CAF-8868-13E041087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2A | ANNUAL COMPENSATION PER FULL-TIME EQUIVALENT WORKER, HEALTH SERVICE INDUSTRY AND OTHER MAJOR INDUSTRI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8681-4EA5-42B4-9D00-B8F7C6C29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B02-9EED-4577-85E3-A85C385F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3AFD-0BE9-465B-A60B-CB43409D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25A-53F4-43FD-976D-D5B00FA3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E55-B645-43D7-A981-B2DBC5DD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018-F02B-468D-AD2F-CF7D4085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0F7-494F-4097-B2EB-9491FBA2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4B1-FC0F-40F8-95BE-8FB2C735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9B8-DE66-47AD-8C8F-C5E62866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A595-3F24-4564-8411-3ECA061F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9D3-C235-4AC2-B710-816C5C70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9379-32E6-40A1-9D50-41E372A3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D9ED-D7D6-464C-9861-F461B49F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0586-03E8-4CD5-AC09-4EBC8F747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2a | Average compensation in the health care industry is higher than in the rest of the service sector but lower than for public employe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279360" y="1015920"/>
            <a:ext cx="101599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2a | Average compensation in the health care industry is higher than in the rest of the service sector but lower than for public employees</dc:description>
  <dc:language>en-US</dc:language>
  <cp:lastModifiedBy>Jia Yao</cp:lastModifiedBy>
  <dcterms:modified xsi:type="dcterms:W3CDTF">2013-09-06T15:08:36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2a | Average compensation in the health care industry is higher than in the rest of the service sector but lower than for public employees</vt:lpwstr>
  </property>
</Properties>
</file>