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E2CF-73BC-4D3E-8F15-F9D22425D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A67F-0504-41BC-A8B3-DCA3B08E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8DF1-8024-4539-A52A-398EAFF61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DCDC-59FB-4216-8A89-259D3D6F2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809F-80E8-41FE-A972-5D755ADF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5D22-E3FF-459C-B279-D8CB970A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C64E-A639-4233-9657-AA0BA9E7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1FF2-04A7-4CB8-8A8C-3C81D6B9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F051-BE99-48E3-AF32-933BFA3F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95A0-0714-4734-B6D7-560D6FD9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227D-FC52-4F9E-A69F-98834279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EC89-C8E7-4A88-A284-232BE13B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C1DB-CAE3-429B-8209-5F1AF69C16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11240"/>
            <a:ext cx="9144000" cy="66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2Z</dcterms:modified>
  <cp:revision>39</cp:revision>
  <dc:subject/>
  <dc:title>PowerPoint Presentation</dc:title>
</cp:coreProperties>
</file>