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019-886A-4FB0-808E-D7654B6B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909-A1DF-465E-B532-7A38B620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C26-B586-43BC-92AC-80A4039E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630-636A-4E5D-8777-62BBB074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4F4-43DB-4075-AE98-7F737F3C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C57-1458-417A-9603-4CA229FB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4AF-007B-418D-815A-0055641B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BEE-9FB0-4C34-B2F7-D45C5B44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0A7-CEB4-4E85-BCAD-BB91B9B8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CEC-6414-4FD4-9ADE-6E5A31AA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573-0CA2-4E26-B73A-C805CEB5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E65-E440-4087-AD9D-985DA45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DF3E-875C-4FD7-BA3D-CC150367B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3760"/>
            <a:ext cx="912816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6Z</dcterms:modified>
  <cp:revision>28</cp:revision>
  <dc:subject/>
  <dc:title>PowerPoint Presentation</dc:title>
</cp:coreProperties>
</file>