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E01D-51B5-4BBB-959B-13586812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8E17-A1D6-46D4-9415-9CF99E10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BFBA-D338-4BF6-967E-D97E1695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8E6B-97E2-485E-89AC-59254FE1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ECA1-78EA-4DD8-9097-B09FBFD3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2DD1-3EA6-42BC-AA6B-8E8F158F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006A-32B0-418A-BCFC-3F83B43A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D196-C585-43B5-80DB-3FFC81EB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25E8-6282-4F40-AC2C-7141723A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85B0-3FD0-4C73-A166-6EE94E5A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11C1-D718-43B7-B3A1-7A44B230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B613-F34F-4AE1-B010-EA4F42BB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EC19-4E2D-4365-A8D1-AADFFBFAB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57200" y="7920"/>
            <a:ext cx="824076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6Z</dcterms:modified>
  <cp:revision>8</cp:revision>
  <dc:subject/>
  <dc:title>PowerPoint Presentation</dc:title>
</cp:coreProperties>
</file>