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5A0E7-A5F5-41F7-8EBE-8183DED43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9205E-EC9B-4190-A31F-2F209AB35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B5761-6105-4E0B-8F68-23C461A7B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9CCAA-C4BD-47F1-A953-02065548C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CE37B-ACA5-4B9B-8E64-38BA44A64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DB172-F0B7-4757-B0E3-3CBBA99B5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C9E97-AB5B-479E-A0BB-39D926F10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6E6AA-0799-40F7-B8F6-27137AE63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845C7-B4F7-4EB5-937C-29C384B04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1B2BC-8DD7-4014-817A-377D3C26C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876CB-F5E9-4AD4-B596-801E43687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551D2-FA70-461C-ADE5-83A98CE6A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F16D7-A877-4373-9889-9A60B72843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63360" y="152280"/>
            <a:ext cx="9017280" cy="655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23:27Z</dcterms:modified>
  <cp:revision>45</cp:revision>
  <dc:subject/>
  <dc:title>PowerPoint Presentation</dc:title>
</cp:coreProperties>
</file>