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6E7-236E-4E66-AC6A-C8C09C02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9E92-1C7E-4748-B015-62E6E28F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3F8-DC78-4414-A3EB-0DFD5882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88FB-6979-4F97-B65E-714E981F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7D4-817E-4550-BC5B-32F22119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91A1-D55A-4EC8-8032-5F3BA561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8D06-328B-4E9E-AC94-F86CBB16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F22F-2472-4E5A-89BE-E4E72CDE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05C9-7AB1-434A-A2A0-90296398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9C7A-749A-4C37-9FD4-3A3D6211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E57B-E65E-47B0-B98E-921EEA52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2191-197E-4EA2-8C87-E6D07DBC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0164-6256-40FF-A237-E5B4E2631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21Z</dcterms:modified>
  <cp:revision>20</cp:revision>
  <dc:subject/>
  <dc:title>PowerPoint Presentation</dc:title>
</cp:coreProperties>
</file>