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EA72-CF29-4738-921F-B7D3A69C8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ADB5-8EBB-4264-9E1F-F0DC36611A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b | DISTRIBUTION OF NHE BY TYPE OF EXPENDITUR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3AF-722E-4D92-91F7-22A2336F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280-D9A5-448E-8904-97549438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132-C313-4946-8BC3-E9DB9A67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0C2-0CE1-473D-8826-61247969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4B6D-B1EE-4078-9997-342DABD6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7613-2B9F-4141-84D2-79C5DE8A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CC53-C023-406D-A0A9-E9119B39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33F6-8D4C-448C-9BD2-03DF8BE3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9256-D988-4A4D-B202-666B9F7F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729F-DCD6-40BD-9E05-7CB0945E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993D-5134-4D20-9A14-806E23B7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3B1-30CE-4245-9A62-ADF63DEB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B755-54FA-426B-BD59-0C5E9B05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2D77-511B-48C1-B820-1D50EA78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AF9C-CDC3-4C53-9CD0-6E6FEAEA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57C7-9374-49D6-BAA3-C38D1DF8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FA24-DE99-4E6F-A3FA-F2CBF2DD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06D-B2BE-4A79-A888-8867FF3A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31D-AEEE-4FE5-8D4D-CBB1FCA4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F0F-40AD-414D-A153-737AD4C8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3D9-F535-430B-8F20-9F27B673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C6E-F90B-4521-BAC8-C1DB80D2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457-BA13-474D-B59E-DA3E9758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856-4FFA-4390-BD9D-86FA44FF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A0A0-B680-4B6E-8BB5-0BB2685B7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CE7D-847A-4725-BF5D-45420AE83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b | For over four decades, spending on personal health care has exceeded four-fifths of national health outlay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b | For over four decades, spending on personal health care has exceeded four-fifths of national health outlays</dc:description>
  <dc:language>en-US</dc:language>
  <cp:lastModifiedBy>Jia Yao</cp:lastModifiedBy>
  <cp:lastPrinted>2002-05-16T21:44:34Z</cp:lastPrinted>
  <dcterms:modified xsi:type="dcterms:W3CDTF">2013-09-04T18:13:12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b | For over four decades, spending on personal health care has exceeded four-fifths of national health outlays</vt:lpwstr>
  </property>
</Properties>
</file>