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010F-40B3-4BC4-9A33-E4761E2A6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b | Hours-Adjusted Annualized Internal Rate of Return on Educational Investment Over a Working Lifetime, Selected Professions,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E657-FD49-41F9-85B5-45381905C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D54-3F42-42DA-B417-FF3CF4F8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2C4-8A0C-4AC6-85CE-FDAD9C48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726-2B39-4CA9-AF83-992402D1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AA4-4326-4E35-8433-F19F61DB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AE5-9C4E-4B48-A98F-60F09FB8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57B-10FD-471B-A598-F41DE57B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921-4708-4596-8875-9F2B82BA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F1F-F327-4EC2-876C-58A854E2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7D0-70E7-495B-A2E7-1507F4B0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867-C6A1-4AAF-AA2D-D6815975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5D1-A5B2-47CE-B741-2220BD85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143-A6DF-45B3-8810-C8EB8EF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2115-5B04-4354-91DC-50D13C5C6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5b |  Physician specialists have higher educational rates of return than primary care doctors have, but these rates are lower than those for lawyers or for those who have MBA degr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625760"/>
            <a:ext cx="863604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85800" y="1523880"/>
            <a:ext cx="834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rs-adjusted annualized internal rate of return on educational investment over a working life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65440" y="5880240"/>
            <a:ext cx="72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William B. Weeks and Amy E. Wallace. The More Things Change: Revisiting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rison of Educational Costs and Incomes of Physicians and Other Profession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ademic Medic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2;77:312-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b |  Physician specialists have higher educational rates of return than primary care doctors have, but these rates are lower than those for lawyers or for those who have MBA degrees.</dc:description>
  <dc:language>en-US</dc:language>
  <cp:lastModifiedBy>Jia Yao</cp:lastModifiedBy>
  <dcterms:modified xsi:type="dcterms:W3CDTF">2013-09-06T15:09:00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b |  Physician specialists have higher educational rates of return than primary care doctors have, but these rates are lower than those for lawyers or for those who have MBA degrees.</vt:lpwstr>
  </property>
</Properties>
</file>