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8762-4446-4059-B643-4B40FA64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7F44-CDCC-4464-81A0-604AE828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109-AD1B-458F-96FE-8006DD16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965-A98C-4E1B-8627-922F3BFE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608-4F78-480B-9A37-516792D6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F8C4-10A8-4480-A6A7-1AD7265C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7D67-EBC9-4063-B24F-89E80911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EEF8-6861-4DE7-B8A1-6BBC7816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FDBF-604C-4996-85B1-2348FE78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5DDD-65BA-4F25-A79A-2A850507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9E2-BEE5-431F-A7E8-04BA86A8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8ED-2C43-4CDD-9124-571DF958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E766-9C7D-4CE1-A7FD-FAE635C5C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4920" y="22320"/>
            <a:ext cx="85629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9Z</dcterms:modified>
  <cp:revision>37</cp:revision>
  <dc:subject/>
  <dc:title>PowerPoint Presentation</dc:title>
</cp:coreProperties>
</file>