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EAF5-2AF6-4006-A6F1-C9255295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1607-17D4-4C67-BEFF-D1EBB5C4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D1E9-73FE-46A8-BAFE-77305874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5B95-C699-4540-A27D-5B16276D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D92-F4BE-4138-B15F-620F3255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846D-E157-40F8-A953-30B1A094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A0DF-9911-4CF0-A6A5-236EC94D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3FEC-A5F3-480E-920A-312CFB4E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715C-AEA6-46BB-BEA0-E3EC1D85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F65A-CB92-47B1-992B-604154AE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57A7-3586-49BD-B466-91A915E4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A629-AD9D-4E31-A98D-CBC4B325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D8E5-E8A7-4CAB-BB6B-D92B64623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65480" y="0"/>
            <a:ext cx="461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08Z</dcterms:modified>
  <cp:revision>38</cp:revision>
  <dc:subject/>
  <dc:title>PowerPoint Presentation</dc:title>
</cp:coreProperties>
</file>