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3EA4-8201-49B1-83FB-214D681DC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8FFE-86AF-4459-90DE-EF3057E4A4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a | Health Spending, by Source of Financing, 20 Largest OECD Nation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4A7-1765-41BB-BFCA-ECB63EA5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9AD-D129-4F12-A6FC-AEA3A238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37B-8339-423E-8A69-D18F070C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5C5-ADCD-43E7-9555-856C5E66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0AD2-C1F4-4419-BFC8-63BD8AF0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5BA8-7119-456B-BFF2-55CF4504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4B70-06B3-4474-B754-637CFFA8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CF17-DBDB-4A26-8C30-EA7A7919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DDE0-050F-406D-9AF5-A72FCFE2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5E37-7D89-40E2-8616-B1A28DE1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56F6-335F-43BE-AC81-302983B6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6F5-4976-4852-B5A1-0B45B432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8E31-AEC8-4526-8ACA-DFBB515D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D9CB-E177-4AA8-B36C-D55C06F6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1A59-2E20-40C3-A02D-2FF4A8BE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C0D1-72D3-4AAC-A557-E0A13168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8BE8-8F8D-4DD5-B0EE-9BD75A6F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871-ED28-4029-88A3-AA18076A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3C6-EEFC-474E-A3C5-87140617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53B-C8E4-42EA-8CDE-B2883B64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F7F-096E-44D7-B7A6-A65C7A83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A3E-29E5-4A48-925A-407381C4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9B0-7397-4705-AEFE-E06FA6B3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BC1-B2F4-497C-8F3F-0099654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1F5F-F603-40C9-898C-7CF81909E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5123-DF97-4EC4-8329-098FCB385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a | Among the 20 largest economies in the OECD, the U.S. has the fourth lowest percent of health costs paid for out-of-poc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291960" y="787320"/>
            <a:ext cx="8560080" cy="5626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495520" y="6019920"/>
            <a:ext cx="576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Countries ranked by out-of-pocket share of total health spend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a | Among the 20 largest economies in the OECD, the U.S. has the fourth lowest percent of health costs paid for out-of-pocket</dc:description>
  <dc:language>en-US</dc:language>
  <cp:lastModifiedBy>Jia Yao</cp:lastModifiedBy>
  <cp:lastPrinted>2002-05-16T21:44:34Z</cp:lastPrinted>
  <dcterms:modified xsi:type="dcterms:W3CDTF">2013-09-04T21:03:59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a | Among the 20 largest economies in the OECD, the U.S. has the fourth lowest percent of health costs paid for out-of-pocket</vt:lpwstr>
  </property>
</Properties>
</file>