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ACC8-31D9-4FA1-B201-97E9A36B0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9F24-D23E-459D-A4CB-1D3CF56A9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3D26-AFAD-44BE-8C88-5AA395947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0824-A2D8-4C89-A2CB-AABA03B95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58AC-FA05-4487-88D3-FCD1AF007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5DDA-518D-4C42-93C3-30958049E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629D-FDE2-40AD-A425-418F6FA8D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AF9B-18EA-4373-8418-6BC4A0AE9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FAA6-A1A3-42BD-BE77-E0594B3BB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1E33-1E3B-46EB-84F0-E52A6F81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9D61-73D8-473F-9DA3-1A5B2692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9E1C-3547-4C99-A041-8FE76E65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2057A-AF42-4EA8-A5A7-62EEBFDD32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5560" y="1523880"/>
            <a:ext cx="9092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37Z</dcterms:modified>
  <cp:revision>28</cp:revision>
  <dc:subject/>
  <dc:title>PowerPoint Presentation</dc:title>
</cp:coreProperties>
</file>