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7C40-2FEC-400D-96ED-F6E1DB23C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 | State Rankings of Health Services Regulation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C077-EF79-4D5F-A56E-4F59FB7FE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B77-2334-4380-80CE-A6BCDF15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EB9-7C70-43D8-A989-CB37D023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7D2-A34A-43DD-88F5-DB854501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844-CAE1-4F7E-B884-6959345B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69F-0E30-4F10-8DBE-CD9916C6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D0F-52F9-4363-878A-DFC364FF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B6D5-12A2-4679-AB61-A7C15B08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19F-1E71-40CF-93C7-792AFF12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627-040A-4E54-8865-ED15469D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3893-0677-4AAC-A7A3-449309E3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AA3-7642-4693-929A-B208AE8A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FB7-335E-43E7-B1C0-8CC58A7D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A391-E644-45BB-9124-94F6FDF0D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4_3.png"/>
          <p:cNvPicPr/>
          <p:nvPr/>
        </p:nvPicPr>
        <p:blipFill>
          <a:blip r:embed="rId1"/>
          <a:stretch/>
        </p:blipFill>
        <p:spPr>
          <a:xfrm>
            <a:off x="912960" y="571680"/>
            <a:ext cx="6935760" cy="51973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447920" y="7621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4.3--State Rankings of Health Services regulation, 2007 (1=lea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09480" y="585144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raham J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dex of Health Ownersh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3rd Edition. Pacific Research Institute. 2009. http://www.pacificresearch.org/docLib/20090720_IHOP_3_2009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22:45:09Z</dcterms:created>
  <dc:creator>Jia Yao</dc:creator>
  <dc:description/>
  <dc:language>en-US</dc:language>
  <cp:lastModifiedBy>Jia Yao</cp:lastModifiedBy>
  <dcterms:modified xsi:type="dcterms:W3CDTF">2013-09-09T22:45:55Z</dcterms:modified>
  <cp:revision>1</cp:revision>
  <dc:subject/>
  <dc:title>PowerPoint Presentation</dc:title>
</cp:coreProperties>
</file>