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AC0E1-F72B-4E79-8D4F-4E4B30DF1C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9.1b | Inputs, Output and Labor Hours in Ambulatory Health Care Indexes (1987=100), 1987-20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EF664-8757-46D4-B2E0-3202F6435C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AD7F-26D1-41C5-A834-6510F0597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9008-1018-462A-A4BF-5C2A792D3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8AEB-CA55-4C0B-AE50-F3ADE3329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5957-CF9D-4519-B9D8-684948010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9198-E768-47E0-8067-ACD5CBF3E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B337-4741-46DD-A20A-252211724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857B-2989-42D9-888C-102D37393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2371-CC1C-427D-860A-50CAE8487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13C4-9A43-4866-B69A-7C8096B94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ABCF-D2A0-4294-868E-722FBF576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B577-21FC-4558-9FBC-CF8E48E2E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AE9B-417C-4BD6-B24A-740508BF3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30885-895B-4C3D-8F67-9D0F1A6BE0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274680"/>
            <a:ext cx="89154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9.1b. | Over the past two decades, total inputs for ambulatory health care outpaced growth in output even as growth in labor hours slowed dow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177840" y="1015920"/>
            <a:ext cx="8102520" cy="543564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9.1b. | Over the past two decades, total inputs for ambulatory health care outpaced growth in output even as growth in labor hours slowed down </dc:description>
  <dc:language>en-US</dc:language>
  <cp:lastModifiedBy>Jia Yao</cp:lastModifiedBy>
  <dcterms:modified xsi:type="dcterms:W3CDTF">2013-09-06T14:58:59Z</dcterms:modified>
  <cp:revision>138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9.1b. | Over the past two decades, total inputs for ambulatory health care outpaced growth in output even as growth in labor hours slowed down </vt:lpwstr>
  </property>
</Properties>
</file>