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F6E3-EE89-4E7F-88EC-5BBD971E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4C8-5558-4CCA-B60C-2F1BE373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A942-F096-4BB8-B976-87B812DB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B85-1E3E-4709-83EE-0E7EBA24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C1C-91CB-4D32-BB7A-CDCA7D3D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5EBB-DA89-4F97-B373-703D7306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C68-B8DD-4715-A59D-D2405D2B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6A1F-F0D6-4773-BBE7-1AE54072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86B-D904-46A5-A966-B1855023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F75-9047-4BC4-A1A8-2234B701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D61A-691E-4C72-8CBE-EECDCF23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E1F4-4C8A-4D7B-8235-8BE53C3C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A616-842E-4D19-B44D-B730DEC9D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1Z</dcterms:modified>
  <cp:revision>14</cp:revision>
  <dc:subject/>
  <dc:title>PowerPoint Presentation</dc:title>
</cp:coreProperties>
</file>