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90CB-7012-425C-B7DC-0AA71A5DB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4 | CHANGES IN PRODUCTION OF HEALTH CARE, GOODS, SERVICES, AND GDP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2E29-A01A-4247-AE9D-F1F07AC5B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106-8B88-44A9-9858-EFEB9A2A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650-5AF1-4DE8-9C32-CF17554D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448-DB10-46AA-968C-4A4F1006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4BB-D05B-4B0B-8CDE-414AADC1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D08-E815-44A0-AE3A-FC3A06F5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171-187F-43AC-87C8-DF87EA97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9F2-4FC4-4E6F-926A-04523800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1FC-C715-4571-B04D-14137671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659-755E-4D95-A682-E8E50AFD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303-4231-4A16-9BEE-D79D7B6D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505-F13E-4FA7-A1CC-AAF4219B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78A-A48A-4FF3-8017-8B820F75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7D8B-4275-46C9-BA57-F574C982A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4 | Output in the health sector has increased much more rapidly than in goods-producing industries, service sector o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63604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44792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ained quantity index (1929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4 | Output in the health sector has increased much more rapidly than in goods-producing industries, service sector or GDP</dc:description>
  <dc:language>en-US</dc:language>
  <cp:lastModifiedBy>Jia Yao</cp:lastModifiedBy>
  <dcterms:modified xsi:type="dcterms:W3CDTF">2013-09-06T14:09:56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4 | Output in the health sector has increased much more rapidly than in goods-producing industries, service sector or GDP</vt:lpwstr>
  </property>
</Properties>
</file>