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DF4-2925-47BD-9D5B-BB47CA0D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948-90EF-4BCA-A2D9-B7D693F8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0F1-DAB8-47C8-8302-0C4BBE19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7D1-D7AF-4C1E-950E-DE50AC8E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187-21CE-4773-A173-FA92A4E6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D79-17BF-4515-8B2E-EA3A8A74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4DC-BCB5-4DF7-A057-C853A08E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FE4-C1B0-4718-8271-E98908BC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495-1261-44F0-9329-DBC9C582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CD8-59E8-4DEA-AB7B-885A22A8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BC6-00EF-4052-B8D6-E023482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1A5-487E-4AAD-A633-49845D58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0C2B-3C4C-4B83-8F3B-2B7A636DA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080" y="152280"/>
            <a:ext cx="8997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6Z</dcterms:modified>
  <cp:revision>37</cp:revision>
  <dc:subject/>
  <dc:title>PowerPoint Presentation</dc:title>
</cp:coreProperties>
</file>