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CEB5-1FCA-47AC-84B1-4D8EDFFB2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3c | Net Burden of Health-Related Health Spending as a Percentage of Family Income, 1989 and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DDF8-73C2-4002-9A10-5B5979D62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73C4-34B6-40D8-A391-8EA00F33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3152-A895-45D1-B1C3-01D6C343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3A61-D276-44E8-9AD1-9D071AFD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F193-4F66-40F2-BD91-4146C727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C85F-8817-4B9B-81D4-D3F82653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1922-8C68-40DF-8D24-808457E4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D686-192B-4F03-91F9-1B79453D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CCDA-9583-4C18-A531-86921A0D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29EE-D9D4-44C6-81C4-6AB6880D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F042-4154-4EB1-B232-6AD6C2DD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4431-95E5-4EA7-BB1D-04327BEF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E5E7-E5E0-4D9D-8D41-307BEF1F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DFE7-9FC5-4138-8081-A636DCF7D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3c | The total net burden of health-related expenditures has roughly doubled at both ends of the income distrib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39114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762120" y="13716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t burden of health spending as percentage of family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762120" y="541008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The net burden of health spending includes out-of-pocket spending; premium payments for group and nongroup health insurance (including the employer share) and Medicare Parts B and D; and health-related taxes, including payroll taxes for Medicare Part A and the family’s share of other taxes used to pay for publicly-financed health car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3c | The total net burden of health-related expenditures has roughly doubled at both ends of the income distribution</dc:description>
  <dc:language>en-US</dc:language>
  <cp:lastModifiedBy>Jia Yao</cp:lastModifiedBy>
  <dcterms:modified xsi:type="dcterms:W3CDTF">2013-09-06T15:13:5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3c | The total net burden of health-related expenditures has roughly doubled at both ends of the income distribution</vt:lpwstr>
  </property>
</Properties>
</file>