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B3F2-60AD-4052-9E55-706EBCAF7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B8A9-2368-494F-A244-63F2CA233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a | TOTAL REAL NATIONAL HEALTH EXPENDITURES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EDFF-9028-40CF-BF69-BDE40871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3B99-AD30-4890-99CA-4D8D73F2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E678-4A5D-45D2-863B-A408B92B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AF7-E636-44F0-9B50-2D7C9B1B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90F2-ED6D-4510-94FD-BD8BE4DC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54AE-1F6B-4D93-9EC6-45CC8A30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AEBD-DA9C-403C-B0C9-C1E17C71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E17B-BA08-449B-95A8-AA650C4C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83B1-D0AE-4F0B-BADB-85922CB1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3860-D890-4625-88DD-AFC3F614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25E4-809D-4990-ABF8-9C4ACBB3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8F9E-31B7-4F4D-A68A-5FA53972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5FC0-4992-47BF-BDF4-BBE845B3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A20E-342B-4526-8D03-03DB2061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1ACB-2629-4AE6-904D-FFA72E8D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4E78-61D8-4CAC-949E-F227EE72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175C-5EB0-40D8-B470-81A97B98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05D2-51C0-40FA-9783-89312939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823-05AF-43D7-8551-29C8B89E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E522-21D0-4AB2-A4A9-EE3924A2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E57C-E19C-4B86-9899-3CF221C4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92C-A341-48D9-BAAE-82D19CBB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357B-5DB5-40F0-8A01-EAD200A4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C51E-5C76-4336-B3CE-52D9965C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D6B4-005F-4857-9FB7-3AB7962B1F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2EC9-273D-427D-8BF1-DD46D91D84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a | In constant dollars, national health spending increased more than 60-fold over the past 8 decades, real GDP grew far less in thi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05:56Z</dcterms:created>
  <dc:creator>Jia Yao</dc:creator>
  <dc:description/>
  <dc:language>en-US</dc:language>
  <cp:lastModifiedBy>Jia Yao</cp:lastModifiedBy>
  <dcterms:modified xsi:type="dcterms:W3CDTF">2013-09-03T18:50:56Z</dcterms:modified>
  <cp:revision>1</cp:revision>
  <dc:subject/>
  <dc:title>1.1a | In constant dollars, national health spending increased more than 60-fold over the past 8 decades, real GDP grew far less in this period</dc:title>
</cp:coreProperties>
</file>