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B6E-7FA2-4566-AB90-173C3E48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E0E-E996-485F-A516-BFCDB2E5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14E-0922-4EFC-BEA8-CD31B204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5BD-9822-4A40-9E3D-6196A983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6D0-7F8A-4910-93E7-4E5C09D4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42A-AE9D-4B54-A742-EC399047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38D-75D4-4904-A55C-67246CC4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BE3-7B53-4F3F-9C09-F005B058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264-2657-4EA9-BC6E-3AC62FB6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BDA-EBF8-4C24-B425-EC48CD8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D8F-E721-479D-A641-84696A1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B3A-0B25-4735-B6D7-51387D0A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993D-4127-45C0-87F8-81F5787DB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59:59Z</dcterms:created>
  <dc:creator>Jia Yao</dc:creator>
  <dc:description/>
  <dc:language>en-US</dc:language>
  <cp:lastModifiedBy>Jia Yao</cp:lastModifiedBy>
  <dcterms:modified xsi:type="dcterms:W3CDTF">2013-09-06T22:01:57Z</dcterms:modified>
  <cp:revision>1</cp:revision>
  <dc:subject/>
  <dc:title>PowerPoint Presentation</dc:title>
</cp:coreProperties>
</file>