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BAEF-A4A0-4EB9-9986-773A08B41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1C3C-623C-4517-8617-A5074F39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992E-E2CD-4BF0-AF2A-6A8D81A75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F603-B3D4-4629-A966-55B82D686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8A6B-D70A-4B2F-9D6A-4BA48949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A46C-4308-4839-9951-FB571FF7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D33C-0ADD-4965-8135-8BBB4684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696A-FD57-4B54-9368-20D3412A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8C9A-4E63-470D-AE04-CDF202A2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4EBD-4C79-4F26-82AB-D87EB86C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24BA-095D-4F30-B664-B944EFCC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5EB8-1B00-4AAB-9568-A95CE923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0564-29A6-4E9C-9040-5AABE531EF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82440"/>
            <a:ext cx="9144000" cy="669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29Z</dcterms:modified>
  <cp:revision>14</cp:revision>
  <dc:subject/>
  <dc:title>PowerPoint Presentation</dc:title>
</cp:coreProperties>
</file>