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75BA-C1C4-499C-84CA-F24059D4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A07-E136-458D-873A-EE75EEAA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DEA5-C3A2-4A71-AF1B-DCA7A41F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003-6F71-419B-9570-94E6246D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21A-DC6F-4245-95DE-B273C332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02E-7A45-439B-A098-FAB4BE47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12E-EA00-4340-99FB-36E73469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FFBE-10DB-46CA-80DC-F3E7DCEF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DA6-011A-4309-83E4-239EE2FE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562-622D-4FB6-8014-CA90D958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72C-AC1F-40C5-9212-3A584B5A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2A5D-467D-4E92-9BF2-9CE252F2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8818-A0E6-4E84-9796-67DBDA6A2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8Z</dcterms:modified>
  <cp:revision>10</cp:revision>
  <dc:subject/>
  <dc:title>PowerPoint Presentation</dc:title>
</cp:coreProperties>
</file>