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49AF-B3F4-4AB2-9A0E-5C80D022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2CB9-3474-46FA-A6BA-9EE23330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B2E7-5590-456B-A838-72818E60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56CC-460B-41AA-A1C8-36F150F24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DB6B-BE75-4DF2-A678-8AD0603D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F38B-B2E1-488E-8B36-8E6886F7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BCF9-A986-475C-9354-D265A82B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F483-0712-4B89-A72B-1DA5DD2A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0A47-96E0-44A3-849F-E1192E19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E2EB-0BB5-4882-A5EA-8FC05B12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3EB0-4451-4ED9-A2D2-F265F5B1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3F1B-F5D4-4711-8788-994A86E7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74D8-6208-4364-8E99-155645FB58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3120" y="0"/>
            <a:ext cx="853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2Z</dcterms:modified>
  <cp:revision>31</cp:revision>
  <dc:subject/>
  <dc:title>PowerPoint Presentation</dc:title>
</cp:coreProperties>
</file>