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C423-825A-4EAE-9A8D-787C491C65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3B | TOTAL GOVERNMENT EXPENDITURES ON HEALTH CARE AS A PERCENT OF GDP: 192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6B4B-45CA-4F27-BB7E-19B02D8070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7F93-AD39-4BF1-A982-1A08F9E5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29D9-789A-49DA-9EC9-B906E727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04A2-E832-43A5-B8C4-E81FF4C71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5153-E666-403C-ABB4-B80997292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2A3E-A8D5-4D12-A4A0-7CF9ADB9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1191-C356-4CAC-BF7D-78038C98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6ECD-DF92-4E2A-84AC-56673B39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18B7-A32A-4AC3-890A-AF7FC5AC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72DA-32DE-44B7-94E5-5E2646D5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14A2-2108-449F-976A-C4993891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9547-1916-47D3-85C5-9AA4D118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7D46-4A32-4205-A32C-6BEBC1DF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AA89-5127-4D1C-9B66-89B116589F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7.3b | As a producing industry, the value added by health services has grown more rapidly than for goods or non-health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473120"/>
            <a:ext cx="8940600" cy="4292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295280"/>
            <a:ext cx="5943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alue added as percentage of private industry output (based on current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3b | As a producing industry, the value added by health services has grown more rapidly than for goods or non-health services</dc:description>
  <dc:language>en-US</dc:language>
  <cp:lastModifiedBy>Jia Yao</cp:lastModifiedBy>
  <dcterms:modified xsi:type="dcterms:W3CDTF">2013-09-06T14:09:54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3b | As a producing industry, the value added by health services has grown more rapidly than for goods or non-health services</vt:lpwstr>
  </property>
</Properties>
</file>