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D3BD-3BA9-4E93-98F1-5A9F0CD5A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4DD4-924C-4DCD-A6D8-4B1BC451623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9a | Sources of Payment for Persons, by Insurance Statu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6067-B876-47B3-AAB1-CC7474B4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BF12-4D75-4F6C-9A17-8E621C89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1E61-24B0-4BD0-9681-504842D0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A298-6742-4157-B018-A546D232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621C-0DA1-48A6-A4A2-C53A4DEF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7EF2-9D4E-42A4-8A00-DB1159FE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F23A-684B-41C9-B4DC-7E6B7FF3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A1CF-E4B3-4B13-BEF8-1D80F3FF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42E4-0559-4893-8833-B05897A3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DD07-795A-4D8D-856D-A08F39B6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3412-8F32-44DF-97ED-1EF9F662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F4D2-FE58-4024-9A85-2FF1093C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BE66-0619-4BAC-87CC-CC8F4041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312E-946D-4F68-BD75-5583B11D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EEEC-E82F-4EFF-A9D2-9EA32DBA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09C6-FCF0-4EC2-BC16-2C27BF35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591E-2B79-4340-9C4D-98DDE7C4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CCF7-841D-44AA-9659-3352BA13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ED34-D742-4797-A62F-B49CCAB2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59AC-3BCE-40F7-96EC-2A690613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3511-5C65-43AD-9520-3EB85AF3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BE0D-2491-4F54-B71A-395780AD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8A4A-BADB-4887-B123-E454483F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CBEE-9AA3-4737-B08B-750A1EEE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7905-1791-4C86-898B-446C221CB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F5B5-C8E6-435C-A74A-984B4B7F9C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9a | Out-of-pocket spending is similar among the uninsured and privately insured, but the former receive much more subsidized car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9028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380880" y="5610240"/>
            <a:ext cx="8553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Hadley J, J Holahan, T Coughlin and D Miller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overing the Uninsured in 2008: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etailed Examination of Current Costs and Sources of Payment, and Incremental Cos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f Expanding Covera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Prepared for the Kaiser Commission on Medicaid and the Uninsured. Kaiser Commission on Medicaid and the Uninsured. Washington DC. August 2008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9a | Out-of-pocket spending is similar among the uninsured and privately insured, but the former receive much more subsidized care</dc:description>
  <dc:language>en-US</dc:language>
  <cp:lastModifiedBy>Jia Yao</cp:lastModifiedBy>
  <cp:lastPrinted>2002-05-16T21:44:34Z</cp:lastPrinted>
  <dcterms:modified xsi:type="dcterms:W3CDTF">2013-09-04T21:04:14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9a | Out-of-pocket spending is similar among the uninsured and privately insured, but the former receive much more subsidized care</vt:lpwstr>
  </property>
</Properties>
</file>