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4E0-9CD8-4DB4-8ADE-F0998AE5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CA4-B816-4967-9E53-AC730C7C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D5F-F487-4A86-8CAA-A1FE91B3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A9B-F368-4FDD-B7F8-0B0760FF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4AE-BB54-4629-8ABA-800A8169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CAC-8A35-4109-8EBC-7C06BA85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D4C-ABF0-48FC-B502-3EEEE8B1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8DE6-E631-4386-BBCF-852F12CF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157-B337-4C2D-BDC9-AAE2ECB6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1372-168B-44A5-A8A5-967676B5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E43-147A-4D51-AABB-350E97BC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F0C-5047-4AEC-9E29-49BE6CC4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D486-2550-49E1-A6CE-8072D8F41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30Z</dcterms:modified>
  <cp:revision>20</cp:revision>
  <dc:subject/>
  <dc:title>PowerPoint Presentation</dc:title>
</cp:coreProperties>
</file>