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329-90AA-468A-854D-39FF5921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AB7-8C4B-4770-8893-ADAF9EB3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368-BE82-48BF-B0DB-A501CC3F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82E-6EC8-4C45-96CB-70CFC244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450-9C9B-45FF-988D-3BF74FEE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FAA3-FE0F-4440-BD4F-4987C7E2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283-C923-4283-8101-3F20D39F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27A-F47D-4389-BC04-83CC1632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04A-C325-4875-8CFA-6E1DCEE1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F8D0-75F7-453D-BF9C-112A5534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411-A05A-438A-AE3F-FD80790C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011-684E-4B03-BC6B-79CCF463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AAAC-E1F1-49DC-8923-F84C25D3C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090440"/>
            <a:ext cx="906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1Z</dcterms:modified>
  <cp:revision>28</cp:revision>
  <dc:subject/>
  <dc:title>PowerPoint Presentation</dc:title>
</cp:coreProperties>
</file>