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EC89-1198-4312-AFDE-4981AFBD8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B | STANDARDIZED EXPENDITURES ON MEDICAL CARE LABOR, AS A PERCENTAGE OF GDP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0311-CD21-46A9-8F0E-4E05B5F2B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298-C3D3-4CDA-8684-6A0D8689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739-D081-4BBE-9B52-F9761E61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DA2-B665-48DC-A817-9DDFA166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5E0-C1E1-4E39-BE4A-980730BF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045-FBC5-427F-927A-5B32C840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4CB-F894-4E51-A186-60BCA3B0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B94-7410-4D32-ACEC-684D3810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A45-4A10-4CAB-9D36-5E72F65F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B1E-0EBC-4854-B66E-F24148E7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936-79AC-41C4-820D-20B0C01F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787-2DAD-473B-BF1C-14F9E6C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381-7CAF-459A-8C4F-B8FD6219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00C2-3E18-4781-8050-D52873737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3b | When U.S. prices are applied to health sector employment, the U.S. has a lower relative share of GDP spent on doctors and nur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ndardized spending on medical labor (U.S. Prices) as percentage of GDP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" y="56386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ized spending is calculated using U.S. levels of compensation for general practitioners, MD specialists and nurses (both standardized spending and GDP measured in 2006 U.S. dollars, purchasing power par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b | When U.S. prices are applied to health sector employment, the U.S. has a lower relative share of GDP spent on doctors and nurses</dc:description>
  <dc:language>en-US</dc:language>
  <cp:lastModifiedBy>Jia Yao</cp:lastModifiedBy>
  <dcterms:modified xsi:type="dcterms:W3CDTF">2013-09-06T15:05:22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b | When U.S. prices are applied to health sector employment, the U.S. has a lower relative share of GDP spent on doctors and nurses</vt:lpwstr>
  </property>
</Properties>
</file>