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D705-3DDC-4CF5-876A-59231C611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B | NUMBER OF COVERED WORKERS PER SOCIAL SECURITY BENEFICIARY, 1960-208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2E31-DFB8-48B0-9845-5592425A8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F18-94F1-4A80-902F-356BE625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958-A922-4B41-8071-75C16CA1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933-6850-4E81-9E94-5DC8682F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70F-412F-4C58-9753-19FCC7FD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31F-7FDD-42C8-9F17-FE90085C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96E-B1C6-4AA7-8AED-F221C152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ACA-1B90-44B8-AB2B-9FCC27CF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876-A03D-4DE6-B692-72169DA1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C956-8391-499D-9981-EEE57EE4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A24-0549-4C87-8F34-7B801D12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F350-4A59-4736-93E1-70DE2017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B26-59AF-4EF8-980B-F4BCAE7F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3D2E-57F9-4991-AE25-87D1D70A7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b | The number of covered workers per Social Security beneficiary is expected to decline even under the most optimistic assum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overed workers per OASDI benefici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20280" y="5934240"/>
            <a:ext cx="747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Social Security Administration. Table IV.B2.- Covered Workers and Beneficiaries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lendar Years 1945-2090. Available at: http://ssa.gov/OACT/tr/2012/lr4b2.htm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accessed September 1, 2013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b | The number of covered workers per Social Security beneficiary is expected to decline even under the most optimistic assumptions</dc:description>
  <dc:language>en-US</dc:language>
  <cp:lastModifiedBy>Jia Yao</cp:lastModifiedBy>
  <dcterms:modified xsi:type="dcterms:W3CDTF">2013-09-23T19:14:37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b | The number of covered workers per Social Security beneficiary is expected to decline even under the most optimistic assumptions</vt:lpwstr>
  </property>
</Properties>
</file>