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4582-2B4C-4243-A707-4E3B4AC6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21F-EFB2-4F49-B4F1-CFADE5C5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98F3-525C-48AA-B5CF-D4995FF4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E6C6-CD51-4233-9438-6D7825DF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89A0-E579-4A47-B762-5918386F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A83-49CD-4C3F-B44D-5193CCA1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6BD8-E040-4981-B16C-FC05778F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8360-B34A-4E99-8676-B4BA9501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0A8-1ECD-419B-8413-32CBF20B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C8A0-A949-45B2-853D-E4C0FE44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5310-E3A0-438F-8BE9-3E3EC040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068-2C3E-4EA4-9106-7622AA4A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A455-4FFD-4C14-A07E-C7F6FB2B5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01600"/>
            <a:ext cx="910584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8Z</dcterms:modified>
  <cp:revision>30</cp:revision>
  <dc:subject/>
  <dc:title>PowerPoint Presentation</dc:title>
</cp:coreProperties>
</file>