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3DD3-41C5-4222-AA43-F268C79AF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A323-8E99-474B-8741-FD22EEE375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b | AVERAGE EXPENDITURES FOR TREATMENT OF ACUTE CONDITIONS, BY CHRONIC CONDITION STATUS AND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2BB-9D71-477A-8595-59490485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958-F7A3-4DEE-BB04-52A17C9F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A48-D3F6-425D-BCDB-ECABE73C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ECD-8D59-48A3-B396-38524E26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ED48-0DC9-497C-B55C-27D0F98D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F128-A18E-4FD2-96E9-F87F2C0A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D1F1-A320-4325-8877-A91003D6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4B25-4FAA-4341-987F-E58CA1F5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EF2-5074-4664-8048-E6ACEEDC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C082-28F6-499D-A1BB-3C28EF1C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4DF8-B627-4DD8-9D04-02586F9C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8C8-01D5-4C5B-8B6A-EC8D327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BA02-238F-4817-ACC9-E048A945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F8D4-C3B5-4DAF-AF88-F77F50FB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562F-8669-4F33-ADA4-AA44F2FF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FEA0-07F3-4D4F-B4ED-BE57FEEE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F432-C288-4937-A6CF-67798546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E0E-D009-4DBB-ADB6-B3BC0FC2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647-F880-49DB-B777-13F19C81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82B-F268-4FFC-825C-EEF62CB3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5DF-E2B4-4681-8158-8C3C7C9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7CD-8D7A-45C0-96AA-0E84AABA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DF0-D986-4FCB-926C-91F605A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434-5F14-4EF2-976D-06ED7701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1C3D-D1AC-411E-ABB9-2053ADA1E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E966-3F1E-4941-9F94-F4B702799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b | Compared to those without chronic illness, annual health costs are 2 to 3 times as high for adults with one or more chronic condi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04920" y="5810400"/>
            <a:ext cx="293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: Machlin S, JW Cohen and K Beauregard. Health Care Expenses for Adults with Chronic Condition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5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tatistical Brief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203. May 2008. Agency for Healthcare Research and Quality. Rockville M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eps.ahrq.gov/mepsweb/data_files/publications/st203.pdf (accessed November 14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b | Compared to those without chronic illness, annual health costs are 2 to 3 times as high for adults with one or more chronic conditions</dc:description>
  <dc:language>en-US</dc:language>
  <cp:lastModifiedBy>Jia Yao</cp:lastModifiedBy>
  <cp:lastPrinted>2002-05-16T21:44:34Z</cp:lastPrinted>
  <dcterms:modified xsi:type="dcterms:W3CDTF">2013-09-04T18:13:27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b | Compared to those without chronic illness, annual health costs are 2 to 3 times as high for adults with one or more chronic conditions</vt:lpwstr>
  </property>
</Properties>
</file>