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3038-7133-452A-A931-D6EA2624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4C4-608C-49C5-9473-64C578BD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CF1-19C6-49F3-87F4-C9D6061F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31D-19EE-4B7E-9C1A-70EF50D7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179-5076-42BC-A9B2-0D78A090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156-16CB-4121-8D94-2816E76E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B4E0-6DAB-4535-AA96-385989FB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ECD-4E67-4B9B-B6ED-B182B440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35D-389E-49E1-9C02-BA8EEDA9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16A-ABA0-4E52-9671-C11C4409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95C-068C-45E0-9B16-BE99628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EEE6-B910-407F-954C-A0CAB721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32B7-BD27-4557-AB2D-2292A5388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"/>
            <a:ext cx="91551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5Z</dcterms:modified>
  <cp:revision>20</cp:revision>
  <dc:subject/>
  <dc:title>PowerPoint Presentation</dc:title>
</cp:coreProperties>
</file>