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28D-BB65-489F-BD7C-32ECCD14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01C-E184-4F91-B702-515A25F2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896-5F21-447C-AD1D-92F991FD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BDC-581E-4C17-928B-F5F2CBB2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460-6277-4F92-A1E1-45DDC835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CD6-B178-43C6-A42A-FAD69560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9DA-106B-4FC7-AB78-FCFA413E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6DB-6616-4B35-B150-E2503EA9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694-0512-4ECB-9B11-8897346D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362-7ED5-4960-A597-85D5EACB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779-533C-417C-A22E-635920F8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5F7-66F4-45CD-AC53-C8A1256D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1551-CD94-46EE-8F28-1F79B9525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35080"/>
            <a:ext cx="914400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7Z</dcterms:modified>
  <cp:revision>22</cp:revision>
  <dc:subject/>
  <dc:title>PowerPoint Presentation</dc:title>
</cp:coreProperties>
</file>