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9937-FC9F-40C1-AE6E-8540C8687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9.14b | Percent of Adults Age 15 and Older Who Are Obese, United States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131A-A7C6-4593-9D10-F3697B25C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20EB-EB47-433A-A977-7ED2E1D1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FC06-0768-4B61-B642-5D530193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188-CF51-47CA-9F95-8D0F6704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10C-792F-495A-BF18-5D1FC99D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778-9F27-4B8D-99BD-44E98734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BE1-8FE1-4788-8FE6-C2D3DFB4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DDD-AF79-47F4-8E68-894D63F8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672-3E2B-4BB2-8961-F0D3E4F2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171B-EF30-4481-8D3F-86286872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E572-5791-4EDC-A75D-B5BE41B7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847D-8F40-43CA-B13A-A6F780FB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9A9-B544-4E3C-8492-D4E194B0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819F-83AC-4A53-B466-184FE229C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dc.gov/obesity/data/adult.html" TargetMode="External"/><Relationship Id="rId3" Type="http://schemas.openxmlformats.org/officeDocument/2006/relationships/hyperlink" Target="http://www.cdc.gov/obesity/data/adult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9_17.png"/>
          <p:cNvPicPr/>
          <p:nvPr/>
        </p:nvPicPr>
        <p:blipFill>
          <a:blip r:embed="rId1"/>
          <a:stretch/>
        </p:blipFill>
        <p:spPr>
          <a:xfrm>
            <a:off x="762120" y="4572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876240" y="50472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4b | Percent of Adults Age 15 and Older Who Are Obese, United States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83720" y="6067440"/>
            <a:ext cx="71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enters for Disease Control. 2009 State Obesity Rates, available 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verweight and Obesity. 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cdc.gov/obesity/data/adult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0:47:58Z</dcterms:created>
  <dc:creator>Jia Yao</dc:creator>
  <dc:description/>
  <dc:language>en-US</dc:language>
  <cp:lastModifiedBy>Jia Yao</cp:lastModifiedBy>
  <dcterms:modified xsi:type="dcterms:W3CDTF">2013-09-10T20:48:40Z</dcterms:modified>
  <cp:revision>1</cp:revision>
  <dc:subject/>
  <dc:title>PowerPoint Presentation</dc:title>
</cp:coreProperties>
</file>