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0A26-CBE6-4A7B-87D3-3F1BE01AF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8A0D-EA0A-42D6-BF78-5A5AE7F4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BA90-FEC8-429E-BB9D-C49245AA7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9DA4-D10A-42F7-9DFA-F83301390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9EA1-CC1E-478C-B4BC-6720F8BA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56B4-8801-4E06-8512-D9DE5BD7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9B41-E2EF-45B7-9DCF-88CA97A4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D4DF-F5B7-42C7-ADEE-D5AD9BCF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D4D7-A7B0-4335-9E84-4EF6E1AC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8C60-A8C2-4AFF-99C9-E5CD96D0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E5F9-A9F1-4A16-83BF-7B75BA5C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2DCD-03F8-4AD0-8457-5E2C6567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0896-1465-4E90-BB12-3DC2C0754A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58680"/>
            <a:ext cx="9144000" cy="67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49:34Z</dcterms:modified>
  <cp:revision>6</cp:revision>
  <dc:subject/>
  <dc:title>PowerPoint Presentation</dc:title>
</cp:coreProperties>
</file>