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C564-8348-4F31-B288-E65EDDDC8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D0E4-4F8F-4D1C-91DF-85BFED60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08D9-AAB4-4A13-86C8-A46F81D4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85C2-5AB8-487F-92F3-C8B3F41CE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CDF3-0F74-4C15-9DD6-C7FB82EE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34F4-096B-4F6E-B3B7-9CBB230C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D3F8-1407-443F-9963-ACE9547B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ADDE-6737-4830-9DEA-4F272FF5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2601-D5BC-4901-8F45-7545B67B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FCAA-EBA6-4990-B917-A99387C9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6278-236E-43E2-AC3F-D59795A7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CF7F-3BDF-4EC0-9B75-EE7202DD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0371-30FF-4916-A655-855B9CC672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28600"/>
            <a:ext cx="91425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0Z</dcterms:modified>
  <cp:revision>37</cp:revision>
  <dc:subject/>
  <dc:title>PowerPoint Presentation</dc:title>
</cp:coreProperties>
</file>