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577B-24C9-4ED9-A3B0-F1C6AECB4D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363C-208F-4621-82A9-01D36ECC81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E2C6-93BA-451E-B6F8-CCBC96EC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318D-17F1-47CC-B6E2-B5FFED27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CD5E-8DC6-4FC2-BC0C-AC427E4C5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A8BE-63FC-48A1-8474-BEE8CCEED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DC84-09BC-48B0-AC07-EA019ECC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A2D0-B286-4805-BC04-62A32BEC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AC77-97C8-4E16-9602-AA4E6F18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C72F-DE75-47C6-9C5F-6718CB2A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9621-5DBD-42DC-8DF6-475236FD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299F-0A65-4BC9-A825-F1D7D45D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73AB-3997-4651-9BE0-66E5F2EC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177C-F409-4D80-BA5D-E1B53A89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115F-82FF-4B3D-A059-F3C620F679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aas4064.asadmin.duke.edu:60620/results/C/Users/lc135/conovermapchart19_16b.png"/>
          <p:cNvPicPr/>
          <p:nvPr/>
        </p:nvPicPr>
        <p:blipFill>
          <a:blip r:embed="rId1"/>
          <a:stretch/>
        </p:blipFill>
        <p:spPr>
          <a:xfrm>
            <a:off x="1447920" y="380880"/>
            <a:ext cx="6819840" cy="5114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619280" y="43344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9.14c | Percent of adults age 15 and older who are daily smokers, United States, 20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477360" y="5495760"/>
            <a:ext cx="861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enters for Disease Control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-Specific Prevalence of Cigarette Smok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Smokeless Tobacco Use Among Adults --- United States, 2009.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ortality and Morbid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Weekly Repor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November 5, 2010 / 59(43);1400-140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cdc.gov/mmwr/preview/mmwrhtml/mm5943a2.ht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0T20:48:54Z</dcterms:created>
  <dc:creator>Jia Yao</dc:creator>
  <dc:description/>
  <dc:language>en-US</dc:language>
  <cp:lastModifiedBy>Jia Yao</cp:lastModifiedBy>
  <dcterms:modified xsi:type="dcterms:W3CDTF">2013-09-10T20:49:20Z</dcterms:modified>
  <cp:revision>1</cp:revision>
  <dc:subject/>
  <dc:title>PowerPoint Presentation</dc:title>
</cp:coreProperties>
</file>