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6E3C-6E53-4D5A-823D-ED4F81455F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6B | NATIONAL HEALTH SPENDING AND AVERAGE GROSS SAVING AS A PERCENTAGE OF GDP, G7 NATIONS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F89B-FEC2-491F-B53C-B5EE285A1A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EBF2-510F-484A-B61E-6122C5D65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39D8-37F4-49DB-BE4E-75905A49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DFEB-D329-466F-9AF0-2C650E9BE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A5D9-84CD-4679-88FC-28B3FEBBB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D839-9CAC-4622-AE5C-9BD24814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C2CC-BFEE-4262-A7CA-3ED07788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9F5D-2245-40F3-B007-54DCA37E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12ED-9FD7-4D36-B8D1-2BF6FCA8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F897-FBE5-4CE8-AA73-7D33BC69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9399-4560-4BB6-BF7D-C92CBA92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6866-0164-47E2-B242-711324F3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8E4E-7725-4B0A-9075-4FB8FB10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79BE-9765-4177-A218-51A717CD1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6b | Health spending matches gross saving in the U.S.; in most other G7 countries, the national savings rate is much higher  than N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82760" y="1320840"/>
            <a:ext cx="848340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143000"/>
            <a:ext cx="1957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GDP, 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6b | Health spending matches gross saving in the U.S.; in most other G7 countries, the national savings rate is much higher  than NHE</dc:description>
  <dc:language>en-US</dc:language>
  <cp:lastModifiedBy>Jia Yao</cp:lastModifiedBy>
  <dcterms:modified xsi:type="dcterms:W3CDTF">2013-09-06T14:59:32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6b | Health spending matches gross saving in the U.S.; in most other G7 countries, the national savings rate is much higher  than NHE</vt:lpwstr>
  </property>
</Properties>
</file>