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170-464C-41E9-9C95-8665031D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EFF-B94A-4FED-9762-8F430CBD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24C-B75B-4B62-A891-46CFFCA2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F31-1CD9-428C-ABB4-F91F5B87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429-B6E3-48F8-B2A8-DF5C6EE2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3D8-451D-41E5-B605-3BF577B7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BF6-54CB-488C-B52F-717AA40F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8E5-1484-4A53-81B5-0B20EC22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E2C-02F2-430C-BEA0-7D87BEE2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4FF-B3DE-4975-A7E9-557700E3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C66-BF84-4D3B-B274-DBDC4B49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C31-8741-4E00-9C39-BEF40471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7D34-14FF-49D5-B1D0-B7430307A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988920"/>
            <a:ext cx="8837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6Z</dcterms:modified>
  <cp:revision>26</cp:revision>
  <dc:subject/>
  <dc:title>PowerPoint Presentation</dc:title>
</cp:coreProperties>
</file>