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35FF-0C59-47DA-BA2E-A8C2A524F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5A | PUBLIC SPENDING AS A PERCENT OF TOTAL PERSONAL HEALTH CARE EXPENDITURES, BY FAMILY INCOME, FOR THE U.S. CIVILIAN NON-INSTITUTIONALIZED POPULATION, 20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0F89-4CC6-4742-B819-C406BDE39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54E7-0AC3-411E-9EF8-BA30EFF3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09D2-2286-4D68-A619-FFFE3F0E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CBB6-4620-4791-A3DE-8555E297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FAE5-2361-4D91-AA34-8DF1EF84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A9F-52AB-40F0-A831-FC644220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8E26-8F7E-4B85-A87D-D6256160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C2B2-54B0-4D32-A041-141B67F5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0E02-7353-47E4-9FD0-D833EEBB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AE95-F606-4B05-912E-4B65D321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E0E1-2D20-4B94-83FC-FCCF0641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489-3F07-44D6-AC70-753D99D7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8939-670A-46A2-9F09-B73F80FA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6417-E74B-40DB-B065-8263AE12B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5a | While the public share of health expenses rises as income declines, nearly half of spending for families above 400% of poverty is tax-financ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981080" y="5343480"/>
            <a:ext cx="49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federal poverty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33520" y="14479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personal health spending paid by government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14520" y="5853240"/>
            <a:ext cx="795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eldon TM and M Sing. The Distribution of Public Spending for Health Care in the United States, 2002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b Exclusive 2008; 27:5w349–w3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content.healthaffairs.org/cgi/reprint/27/5/w349 (accessed June 14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5a | While the public share of health expenses rises as income declines, nearly half of spending for families above 400% of poverty is tax-financed </dc:description>
  <dc:language>en-US</dc:language>
  <cp:lastModifiedBy>Jia Yao</cp:lastModifiedBy>
  <dcterms:modified xsi:type="dcterms:W3CDTF">2013-09-06T13:59:39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5a | While the public share of health expenses rises as income declines, nearly half of spending for families above 400% of poverty is tax-financed </vt:lpwstr>
  </property>
</Properties>
</file>