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5948-D1C4-4A3D-8D16-5FBFE26F6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6 | TOTAL GENERAL GOVERNMENT EXPENDITURES AND PUBLIC EXPENDITURES ON HEALTH AS A PERCENT OF GDP FOR SELECTED INDUSTRIALIZED COUNTRIES, 199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E692-E7D7-43A3-A574-09F3B12D2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753-0665-4CCA-911B-805341AE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E0A-3A08-4857-9931-95A60D49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873-0D71-44F8-BADC-85A85902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E65-20AE-41AE-9B4E-CD487A1C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BC9-080B-4555-843F-964F2FA4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361-4D22-4066-AC88-2C615443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411-9F0E-4E10-8FCE-ED424594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AC7-6881-43FF-8E7B-ADA150C2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1EA-9CF3-4176-BBAB-643BC2F5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7B9-AC99-4F2A-9EEB-A975BFF1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5C5-A45F-4A3B-9331-1F4D9B0F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AA1-327F-4D02-9298-3ACE162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321D-6EC0-4C63-A9E5-48F3852D8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6 | Lifetime Medicare benefits grew fastest for low income workers, yet even for high income workers, net lifetime benefits exceed $3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96800" y="1092240"/>
            <a:ext cx="833112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7560" y="5867280"/>
            <a:ext cx="806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teuerle CE and S Rennan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ocial Security and Medicare Taxes and Benefits Over a Lifetime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rban Institute. January 2011. http://www.taxpolicycenter.org/UploadedPDF/social-security-medicare-benefits-over-lifetime.pdf (accessed June 10, 201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7560" y="150480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t lifetime Medicare benefits (own benefits minus own taxes paid), 2004 dollars in thous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6 | Lifetime Medicare benefits grew fastest for low income workers, yet even for high income workers, net lifetime benefits exceed $30,000</dc:description>
  <dc:language>en-US</dc:language>
  <cp:lastModifiedBy>Jia Yao</cp:lastModifiedBy>
  <dcterms:modified xsi:type="dcterms:W3CDTF">2013-09-06T13:59:43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6 | Lifetime Medicare benefits grew fastest for low income workers, yet even for high income workers, net lifetime benefits exceed $30,000</vt:lpwstr>
  </property>
</Properties>
</file>