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3085-60A3-46EF-8B58-E009274715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7A | PHARMACEUTICAL RETAIL PRICE INDEXES, RELATIVE TO U.S. PRICES (US=100), 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58D0-5C5C-4633-B0FB-E2E352A41B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DAF8-6310-460C-B0F4-253CB555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168A-42E3-4331-9078-A68D24FA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70E3-3016-4805-AB5B-48AFCBB5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C4E6-223F-46C5-BE22-332109E2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18C7-0283-43F4-8FB9-789221D8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B6C1-A8C5-4E3C-8003-DE866574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5BCD-7ED0-4533-84F1-E61523EC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18B8-F793-4674-BEEC-25F8FC82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C650-ADB1-41B0-9EDA-8AB39141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35C1-86F0-466C-9100-43863146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6055-8C6A-4793-8CD3-2C163451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ECAE-C014-4BEB-9565-2F34FF9B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BAF9-F798-4F09-8816-21C298B40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7a | Americans generally pay more for drugs on patent than other nations in the G7, but less for over-the-counter prod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2952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: 100=U.S. (20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64920" y="6019920"/>
            <a:ext cx="740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Danzon PM and MF Furukawa. International Prices and Availability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armaceuticals in 2005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8; 27(1):221–3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7a | Americans generally pay more for drugs on patent than other nations in the G7, but less for over-the-counter products</dc:description>
  <dc:language>en-US</dc:language>
  <cp:lastModifiedBy>Jia Yao</cp:lastModifiedBy>
  <dcterms:modified xsi:type="dcterms:W3CDTF">2013-09-06T15:41:01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7a | Americans generally pay more for drugs on patent than other nations in the G7, but less for over-the-counter products</vt:lpwstr>
  </property>
</Properties>
</file>