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6333-7859-4377-98BF-0E99462B5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CB6F-95EE-4305-AEE1-6E7828EE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BE78-E1E7-46E1-8440-9A162724A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9474-B070-43FB-9FB5-02A292573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BE10-0765-4034-996F-D9FF9C17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2FD5-FC38-4E8E-977E-D0BF8090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180B-2B62-4583-9FE9-5DE0DFCE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7787-8A9F-4A8F-B9CC-3BBE51AD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8D3E-813D-4DFC-85CE-C429E29E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44CC-A296-4073-B86C-64644A32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096E-57FA-4A0C-83CD-6367E526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E0B3-78F0-4CB7-8E15-7A0633B2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DCA4-F8AD-4918-9944-97555B43BC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88920" y="49320"/>
            <a:ext cx="890280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7Z</dcterms:modified>
  <cp:revision>39</cp:revision>
  <dc:subject/>
  <dc:title>PowerPoint Presentation</dc:title>
</cp:coreProperties>
</file>