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A494-5F3A-428A-A174-0D081DE9C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3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a | Per Capita Income and Health Spending as a Percent of Gross State Product, by State of Residence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D96-E0C6-4DBE-9ED0-6B5524E0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1EE-8A2E-4181-A080-3458BFD1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3C3-C8A6-4B14-9D3B-794D36B6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455-30DD-4626-8B7A-23B34795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87D-3950-43E6-926D-D615BF4C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6D6-CE4F-4B0A-AEFE-8ED2EA23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B45-4B7D-4B92-A8DA-DFFF79F9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B6F-FDE9-47E7-9230-3FA9C17A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C56-BFE0-4EF0-A992-FA8B509E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E96-D8D7-4ACB-BB69-32E9F686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6742-8CFA-432C-9E67-67E793C3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A28-656F-40B1-AB62-F2A667FB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F483-B330-49C0-99A1-AB77F7F66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3" descr=""/>
          <p:cNvPicPr/>
          <p:nvPr/>
        </p:nvPicPr>
        <p:blipFill>
          <a:blip r:embed="rId1"/>
          <a:stretch/>
        </p:blipFill>
        <p:spPr>
          <a:xfrm>
            <a:off x="0" y="1473120"/>
            <a:ext cx="8686800" cy="5130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315200" y="54100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523880" y="3886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14600" y="1981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572000" y="47242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Straight Arrow Connector 24"/>
          <p:cNvCxnSpPr/>
          <p:nvPr/>
        </p:nvCxnSpPr>
        <p:spPr>
          <a:xfrm flipH="1" flipV="1">
            <a:off x="4272840" y="4571280"/>
            <a:ext cx="299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 Box 10"/>
          <p:cNvSpPr/>
          <p:nvPr/>
        </p:nvSpPr>
        <p:spPr>
          <a:xfrm>
            <a:off x="4572000" y="4267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Straight Arrow Connector 26"/>
          <p:cNvCxnSpPr/>
          <p:nvPr/>
        </p:nvCxnSpPr>
        <p:spPr>
          <a:xfrm flipH="1">
            <a:off x="4304880" y="4343400"/>
            <a:ext cx="267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 Box 10"/>
          <p:cNvSpPr/>
          <p:nvPr/>
        </p:nvSpPr>
        <p:spPr>
          <a:xfrm>
            <a:off x="45720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4864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143000" y="2286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3"/>
          <p:cNvSpPr/>
          <p:nvPr/>
        </p:nvSpPr>
        <p:spPr>
          <a:xfrm>
            <a:off x="533520" y="15238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health spending as a percent of gross state product, 2004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228600" y="274680"/>
            <a:ext cx="86868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a | Differences in per capita income alone account for more than one third of differences in health spending burdens across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733920" y="518148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37"/>
          <p:cNvCxnSpPr/>
          <p:nvPr/>
        </p:nvCxnSpPr>
        <p:spPr>
          <a:xfrm flipV="1">
            <a:off x="3961440" y="4952160"/>
            <a:ext cx="6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Text Box 10"/>
          <p:cNvSpPr/>
          <p:nvPr/>
        </p:nvSpPr>
        <p:spPr>
          <a:xfrm>
            <a:off x="2286000" y="2362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09880" y="2819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/>
  <dc:language>en-US</dc:language>
  <cp:lastModifiedBy>Jia Yao</cp:lastModifiedBy>
  <dcterms:modified xsi:type="dcterms:W3CDTF">2013-09-06T15:13:2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