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60CB-BCD3-4AA7-9117-4C7F7A273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2b | Distribution of Net Burden of Health-Related Expendtures by Family Income Decile, by Type of Payment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051A-1A36-4B17-B0FB-F27D25D85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8E79-7A54-4C49-884E-3B4DC481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1720-2C49-4DBA-A92D-7A50EEA6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5638-795F-4007-936C-1FFBF568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89B9-CE4A-4AC3-AA76-56DC3FF7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6AFB-4C14-4866-BC2B-B3BFE59B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29C7-29BA-4945-90F4-8AA3CE3C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5619-19C9-4BAF-9D8A-7F9313CE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A180-F31E-41C9-B183-ED775D67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D63C-0EA4-4EBE-B640-1B28468F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6FC6-A3E2-46F3-89B8-23A2D8AA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8807-C79E-4248-BF2C-4936770F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BB52-8B15-4E6B-8612-4940BF84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D80F-D055-490D-80DE-7A60935DF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2b | Even for the lowest-income families, health-related taxes account for more than one fifth of the net burden of paying for health  ca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72960" y="1197000"/>
            <a:ext cx="833148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376280" y="535932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ome Decile (1=10 Percent of Households with Lowest Incom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12800" y="17413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stribution of net burden of health spending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60520" y="5791320"/>
            <a:ext cx="843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Selden TM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Using Adjusted MEPS Data to Study Incidence of Health Care Finance.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gency for Healthcare Research and Quality. http://www.ahrq.gov/about/annualconf09/selden/selden.ppt (accessed July 16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2b | Even for the lowest-income families, health-related taxes account for more than one fifth of the net burden of paying for health  care.</dc:description>
  <dc:language>en-US</dc:language>
  <cp:lastModifiedBy>Jia Yao</cp:lastModifiedBy>
  <dcterms:modified xsi:type="dcterms:W3CDTF">2013-09-06T15:12:5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2b | Even for the lowest-income families, health-related taxes account for more than one fifth of the net burden of paying for health  care.</vt:lpwstr>
  </property>
</Properties>
</file>