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5A8-128F-4624-B13E-F5C72D59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F18-2105-4F47-ABC6-16C9EA7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16C-69D7-4DA0-B1C0-DE71629B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B63-D746-4A60-9159-BD093602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DF3-7CAD-4C39-AC22-30D7A596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95B-B2BF-4674-9D98-21FE0D64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6FE-D319-4346-B9DC-145A3271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8A1-0472-4351-88D9-F389C12E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9C6-4CCD-4930-BC6B-B2F267DE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ABB-E8AD-4FB6-895A-D50C257A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14E-6B90-484B-BBFE-3F8C4685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7F2-65A1-4C73-AC0E-8D913143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9B19-91F0-401A-9234-3EDB6ED23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090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5Z</dcterms:modified>
  <cp:revision>14</cp:revision>
  <dc:subject/>
  <dc:title>PowerPoint Presentation</dc:title>
</cp:coreProperties>
</file>