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AD95-C4BC-4BA3-9F18-2CE1A9DCE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93A1-A195-4F20-BB27-9B21E334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C60A-4A56-4461-A96A-307906174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59FC-C5F9-4CB1-8AFA-57BCB8761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7C74-7E00-4F54-AC7D-4B7482DC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BF4C-CF15-4A8D-A029-8619DC62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1FE2-4268-4A79-84A2-13E9C05A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4C92-215D-40B6-B492-3FD94934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A728-99FF-4C35-9FF5-7FB65051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D341-A68A-4824-B732-FD47036C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3481-15E5-4E45-8DB1-FE0F178B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268E-2A18-48B6-B0E1-15BEC25A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5E6B-727C-41B0-B339-1771540C32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35000"/>
            <a:ext cx="9118440" cy="65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55Z</dcterms:modified>
  <cp:revision>14</cp:revision>
  <dc:subject/>
  <dc:title>PowerPoint Presentation</dc:title>
</cp:coreProperties>
</file>