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AFF8-F1B5-4C94-8126-4C119DC98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6 | NUMBER OF UNINSURED AND PERCENT WITHOUT HEALTH INSURANCE, 1940-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Tahoma"/>
              </a:rPr>
              <a:t>Source: Author’s estimates based on CPS, HIAA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16C5-0FB3-46CB-BB25-60E097120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6C0-C528-4BC0-B744-46F7ADBA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E30-214A-4FC6-B647-8F1DED74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263-BA2F-4951-819D-2B6E8504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22D-A35E-49B1-B9FC-7EBAE077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353-1661-41D9-B32D-B5B0AE93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288-AED9-48BF-A503-F59356C9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91D-25DA-43FB-A0A5-F99B7681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A66-53C6-4115-9B5E-F8597945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A16-DDA1-49A2-B015-22795513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FA5-7698-405D-9E53-77D1EAAB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5E1-5D34-4788-8DA8-34E78BE2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50C-700A-42C0-90A4-9A599C33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C97D-970D-4455-A821-4D805D83E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6 | The risk of being uninsured has declined by more than 80 percent between 1940 and 201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228600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5440" y="5943600"/>
            <a:ext cx="865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Figures simulate the gross number of uninsured as if measured by today’s Curr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pulation Survey. No adjustments have been made for the 10 to 20% overcounting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nsured by the CP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extBox 1" descr=""/>
          <p:cNvPicPr/>
          <p:nvPr/>
        </p:nvPicPr>
        <p:blipFill>
          <a:blip r:embed="rId3"/>
          <a:stretch/>
        </p:blipFill>
        <p:spPr>
          <a:xfrm>
            <a:off x="4979880" y="914400"/>
            <a:ext cx="3140280" cy="512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6 | The risk of being uninsured has declined by more than 80 percent between 1940 and 2010 </dc:description>
  <dc:language>en-US</dc:language>
  <cp:lastModifiedBy>Jia Yao</cp:lastModifiedBy>
  <dcterms:modified xsi:type="dcterms:W3CDTF">2013-09-06T14:06:2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6 | The risk of being uninsured has declined by more than 80 percent between 1940 and 2010 </vt:lpwstr>
  </property>
</Properties>
</file>