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91DE-B507-4A01-A75E-F8A6292ED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ED75-9579-49F0-9E4B-D0A0901951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8a | Major Sources of Payment for Personal Health Care Expenditures, by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826-55EF-4236-9187-0C304C4C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CFDB-A664-4132-8CBF-500BD950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070-9040-45D7-A11B-4EC8E9F9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C56-FCC9-4ABF-AAE9-CDEDC3E0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B919-197D-4687-9550-C872BA56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95EF-E659-434C-8CF2-E7BF2930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757B-4E6A-4A9E-92A7-72011F5C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FD5D-91D6-42FD-86D4-0954D0FC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AB95-7F68-4814-94FE-63CECDFA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96EA-D885-48DC-9151-B963038F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8B22-DA01-441E-8E52-F0F35DF2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247-AE60-420F-BE15-6014450A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CBB6-039A-42F9-903D-0644991B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8337-B5E6-495D-AA14-56ED5009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54AB-E506-4820-9F11-8B145F90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B05C-8ACD-4509-8060-EB6B2939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0C7B-D0C5-4EA7-A7E1-2CBCCDC1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A43-596F-42C6-9940-0871ABE1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C92-4976-4C2C-8FA9-A7F86157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304-A6FF-4439-81E0-286AB9C2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D27-BE9A-46F4-8625-1FCCFB90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332-2EED-48EE-9602-8B3A56B4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478-AB72-413C-8ABD-FC933213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452-787A-49A3-BA97-2F0524C9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6002-3E03-4C62-88CA-E01AB4B3E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B8D1-6F17-410C-A52F-68E059095F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8a | Less than one eighth of Medicare spending is financed through beneficiary premiums, but this varies greatly by componen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8a | Less than one eighth of Medicare spending is financed through beneficiary premiums, but this varies greatly by component</dc:description>
  <dc:language>en-US</dc:language>
  <cp:lastModifiedBy>Jia Yao</cp:lastModifiedBy>
  <cp:lastPrinted>2002-05-16T21:44:34Z</cp:lastPrinted>
  <dcterms:modified xsi:type="dcterms:W3CDTF">2013-09-04T21:04:1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8a | Less than one eighth of Medicare spending is financed through beneficiary premiums, but this varies greatly by component</vt:lpwstr>
  </property>
</Properties>
</file>