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63FC-14F8-49D9-8461-210965617E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7b | Multifactor Productivity Trends in Pharmaceuticals and Medicine and Medical Equipment and Supplies, 1987-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8B0A-6D15-4DDB-B875-4B29A269B8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3905-203F-497F-A261-BD3C52A55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FC22-672D-46EF-99D2-D4981343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B4DF-86AD-4899-91B8-895202CC5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5886-204B-422B-A61C-BFA8AFB5B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5911-B0BB-497B-A81A-223D6408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4B63-BA31-41D1-AC46-E5E5F2AA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F225-1FC8-4817-998D-B04C28C0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B952-A21F-411A-B805-F09F8BD0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E9D6-EB4D-4987-95A0-4DC7CD5B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D010-7390-4B90-8DAE-E662534E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0887-1420-4FAE-8766-C32C1AC7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CFC6-A1C8-4DBB-BA32-805A94CD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D194-5537-4A73-AE18-1C8D347E5B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7b | Multifactor productivity has fallen in pharmaceuticals even while rising in the medical device industry more quickly than the private sector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85800" y="12193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ultifactor productivity indexes: (1987=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7b | Multifactor productivity has fallen in pharmaceuticals even while rising in the medical device industry more quickly than the private sector  </dc:description>
  <dc:language>en-US</dc:language>
  <cp:lastModifiedBy>Jia Yao</cp:lastModifiedBy>
  <dcterms:modified xsi:type="dcterms:W3CDTF">2013-09-06T14:59:38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7b | Multifactor productivity has fallen in pharmaceuticals even while rising in the medical device industry more quickly than the private sector  </vt:lpwstr>
  </property>
</Properties>
</file>