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7F0-33A5-48F6-9BB4-9C1D5107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182-E3C6-46EE-BED4-C96BEF80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52F-A073-44FA-9A78-50AD1D05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4AD-8A11-4FAA-B7B6-865F21D2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A59-F5FF-4239-832E-7AB8B0F5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D35-85E8-48D7-85A3-658FFF76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577-16D3-4FE5-9EFC-008A291F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DA5-7157-4394-9EFE-841C12C8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B35-2846-4521-AF25-CD2A2DFE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6E2-0B08-405A-916F-0C0F9292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E46-E29C-4540-8C39-A34858AA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B9C-B6AE-4602-B25D-5CD2191F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E3C2-1EF2-4E05-8852-1B9D8D3B1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98320"/>
            <a:ext cx="91249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0Z</dcterms:modified>
  <cp:revision>30</cp:revision>
  <dc:subject/>
  <dc:title>PowerPoint Presentation</dc:title>
</cp:coreProperties>
</file>