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3B3-D7F1-4DD8-870C-0495E024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37E-C6D7-4A38-844C-C853F01A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BB7-F261-43E7-8844-6F6AEE67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2FB-11C6-4173-823F-14986974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65B-E30B-44FF-A275-10FA96A2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6FB-5FA5-4B94-B42E-9F12E719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536-4FA9-4BBE-AE97-65E62943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2AA-915C-47FB-9E67-CFDB5DF5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55F-5DB5-45BE-9909-A3B22F06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2E5-7CE5-4989-8B3E-1AF43E6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ECF-781C-49C1-8E7D-576AB80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DB2-BA8F-4651-86A5-6BA1C7B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2617-C050-4B68-97EA-571C3829F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90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0Z</dcterms:modified>
  <cp:revision>31</cp:revision>
  <dc:subject/>
  <dc:title>PowerPoint Presentation</dc:title>
</cp:coreProperties>
</file>