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8A1F-6E9D-455F-BB4C-AFF5802E2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A | PERCENTAGE OF WORKERS AGED TWENTY-FIVE TO SIXTY-FOUR, BY EDUCATIONAL ATTAIN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C70D-A90A-45AF-A9CF-61EDE494D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0E6-7CE6-40FF-86FA-DF81F890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66BA-E08E-47BD-8E0B-05C95380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750A-43D2-4690-9E8B-601F2CC7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2A47-EC8C-4822-8362-F38228D4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79D-39D0-4C0E-A4BB-8CA8B79A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A4D-1A84-4D74-B55F-78C19CBE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33E3-27F4-446D-914D-A62B907C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8BA0-8B1B-4902-99C5-25F93579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129A-5FD0-42BA-B7A0-4F92C902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3DD-77B3-4AA9-99A4-AA2004D0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1B5C-7891-44F0-8F0B-D395F5DC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2D6A-E0D2-4600-8DF1-90E16563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F3B6-0D54-4812-9E89-36A7335AF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.3a | For both men and women, education levels are much higher in health services than among other 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388800" y="1393920"/>
            <a:ext cx="8577360" cy="5514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55680"/>
            <a:ext cx="19051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workers with education level sh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a | For both men and women, education levels are much higher in health services than among other workers</dc:description>
  <dc:language>en-US</dc:language>
  <cp:lastModifiedBy>Jia Yao</cp:lastModifiedBy>
  <dcterms:modified xsi:type="dcterms:W3CDTF">2013-09-06T14:59:14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a | For both men and women, education levels are much higher in health services than among other workers</vt:lpwstr>
  </property>
</Properties>
</file>