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54AE-8D4B-46E3-B663-B3EFA1D74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B | PHARMACEUTICAL WHOLESALE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1E54-37F0-464C-9CFF-29CF26EE0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13B-8731-4E41-AEE3-A994B391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179-94B0-44E2-98B6-74507DBC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2DF-33C8-42EA-A72A-494481C9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81E-CCD6-4024-81DB-AB2BE662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9DA-E74D-4C29-B9FC-DE6A907D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72D-0643-4E38-936A-1237DA41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A2A-DFE5-49A9-B2E6-9A23E2E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715-7369-4DED-819C-FD88AAB8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FAE-6CF7-41FF-8793-F5FFF245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C5C-B8F8-4346-9CDE-F7DD9090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E6D-7D1B-4BBD-AADF-4B1D7D58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7CF-B6FF-4BFC-98C2-4E3EBD78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F002-7B93-4B77-BB55-9C8568709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b | Manufacturer’s prices generally are higher in the U.S., but U.S. pharmaceuticals are generally more affordable due to higher in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 price 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b | Manufacturer’s prices generally are higher in the U.S., but U.S. pharmaceuticals are generally more affordable due to higher incomes </dc:description>
  <dc:language>en-US</dc:language>
  <cp:lastModifiedBy>Jia Yao</cp:lastModifiedBy>
  <dcterms:modified xsi:type="dcterms:W3CDTF">2013-09-06T15:41:0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b | Manufacturer’s prices generally are higher in the U.S., but U.S. pharmaceuticals are generally more affordable due to higher incomes </vt:lpwstr>
  </property>
</Properties>
</file>