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92B1-730E-4353-8AD4-414CAD3A4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2A | PERCENTAGE DISTRIBUTION OF NATIONAL INCOME RELATED TO HEALTH SERVICES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A836-9F2B-431A-8B83-1F55AB1A2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6548-1418-49F1-8D4B-3C307191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C91F-E0A9-44DC-8C0E-061291EF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1B92-A55D-4E33-BFF9-A9AA050E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C74-C3DB-4307-83FF-85BACDBB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3E5-F060-4292-8475-3E507F87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2DC8-78BC-47CE-80B1-9A1BC3D4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03C-F2D5-4E9D-934C-4241D168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A9A2-FB9E-46E6-88A8-61E976CC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530-A452-4C03-99D0-85711A62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0F9-8E02-4E3C-8529-3888F77D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7DD-BFF0-4514-A57B-BF2E24C8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18E4-D08F-4B90-A796-3FF53402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4B42-1EBC-440F-945E-68511A751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8.2a | In health services, the share of income for wages and salaries as well as fringe benefits are higher than in the service sector or general economy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084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571500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1) ambulatory health care services, and 2) hospitals and nursing and residential care facilities. It does not include pharmaceuticals, medical devices, non-durable medical products or the health insurance indust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2a | In health services, the share of income for wages and salaries as well as fringe benefits are higher than in the service sector or general economy  </dc:description>
  <dc:language>en-US</dc:language>
  <cp:lastModifiedBy>Jia Yao</cp:lastModifiedBy>
  <dcterms:modified xsi:type="dcterms:W3CDTF">2013-09-06T14:16:52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2a | In health services, the share of income for wages and salaries as well as fringe benefits are higher than in the service sector or general economy  </vt:lpwstr>
  </property>
</Properties>
</file>