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20E-9F08-45F2-BA9D-4E17AFB3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17C-5DF9-4919-B57E-8B0F154A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AE8-EB77-4FCB-85D0-5C9EBF43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699-AF46-4D4D-BC3E-1C1B5075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2A4-DCFC-49EE-99C3-C43846B8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983-8B07-4D49-BB3C-D6D0AF57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0A5-76A9-4F07-9DFC-36E8DFE5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952-8772-4525-8184-8C7460EE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AFA-FA2C-458D-A24E-BDBB0E4E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8C5-E7B0-4E3B-83E4-943F5581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F51-0F44-4DEC-AA09-F9446BF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33B-2EBF-4B02-9799-D84D77E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95F6-47EB-4FD1-B090-857100DDC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52280"/>
            <a:ext cx="8985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6Z</dcterms:modified>
  <cp:revision>37</cp:revision>
  <dc:subject/>
  <dc:title>PowerPoint Presentation</dc:title>
</cp:coreProperties>
</file>