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E3E6-4F67-4B4F-867B-0AD44CE83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A | INCREASE IN MANDATORY FEDERAL HEALTH SPENDING AS A PERCENTAGE OF GDP, 2010-20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6180-8BF5-431E-BC57-1DC6A3DE9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6D0B-25D7-4841-8D4F-81BECB0C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C69-065A-46C2-9534-2FEAC342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1D9-BC95-4283-81F7-E3398DC1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062-639D-439F-AB8C-533A8409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0A31-EBAB-4D77-8A09-E5B6F229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4DE-4ADE-49F2-BF1C-44D4FED9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E2EF-525C-47DE-BFA3-42BA3EDF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99FD-3AE3-4682-ACD4-A8911B2E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8CC-12F3-4BF0-9070-7803BEFA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750-3EF0-4459-ADC9-E86AB8A0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0DED-74B5-475F-A598-C02FCF34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F34-B576-4B67-B836-34D3ADA5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D44A-BFC9-4561-8239-916456E84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20.7a | The projected 75-year increase in mandatory federal health spending exceeds revenues from the three largest sources of federal tax reven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2548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45720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7a | The projected 75-year increase in mandatory federal health spending exceeds revenues from the three largest sources of federal tax revenue</dc:description>
  <dc:language>en-US</dc:language>
  <cp:lastModifiedBy>Jia Yao</cp:lastModifiedBy>
  <dcterms:modified xsi:type="dcterms:W3CDTF">2013-09-23T19:14:3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7a | The projected 75-year increase in mandatory federal health spending exceeds revenues from the three largest sources of federal tax revenue</vt:lpwstr>
  </property>
</Properties>
</file>