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7DF4-16E1-4005-9572-1CA77FCBB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A18A-88F3-4E84-AA31-35761BD1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F889-197A-4636-A732-BAB76D032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9451-EADD-42F1-8615-2C5A33DBC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99E5-FC9F-4B2E-89CD-AF3E44B6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BC18-BD4D-4481-8C49-E64BA5AB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2201-29FD-485B-BB49-98807DF2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5040-31F8-4C50-A85F-58B69B65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4DA9-71CF-4278-BCFD-DA26C9D9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61B2-1F31-4F6E-808E-B1C8B144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9297-B45E-4128-8BF2-F5D414E6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EE88-BBAE-4410-9B37-815370D4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9649-B260-4922-B5C5-E5F495E5DC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3Z</dcterms:modified>
  <cp:revision>38</cp:revision>
  <dc:subject/>
  <dc:title>PowerPoint Presentation</dc:title>
</cp:coreProperties>
</file>