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BB0-375C-4856-9468-9853AF31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2C0F-EC7D-4FD7-A908-08A6E15B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FD7D-8D98-4EF2-B2F9-28545DAC8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95AD-4087-4EDA-BFAF-7B8A6EAC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1013-5D1A-4E9D-8E3C-36B26A8B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3E0E-C643-4260-95C6-9C2FF901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4B49-9B87-440B-9DB5-1B9B1F56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71B3-F810-4E18-AE91-2E73269D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0C0B-8764-448D-ACAB-CA8EC2FC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7B5D-60D6-4F30-9AFD-92275296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4F6A-AE30-4668-B61D-E3C71236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9F7C-2D59-49D7-9EE0-1295EE0E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2315-4F0C-4EA3-A538-60378FF90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7240" y="76320"/>
            <a:ext cx="9086760" cy="67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50Z</dcterms:modified>
  <cp:revision>39</cp:revision>
  <dc:subject/>
  <dc:title>PowerPoint Presentation</dc:title>
</cp:coreProperties>
</file>