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9785-6AE6-4E58-BBB2-77E802766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FDA6-8E41-454E-93FB-93203003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F78B-41DC-47DF-A2AA-FC52F001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A433-AFE8-452F-AF25-6C9309690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54FB-6E65-4852-B2D7-5704D685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4A95-73E2-4D83-A347-03CF4CD4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EE03-18C7-4D7C-BD35-4BE2B0A5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F328-F1EB-4EB7-A6CF-5E2BAEDA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D257-7DA6-4EB3-B7AD-2BFF4816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6D6F-E0E3-427F-9A53-F6CD3086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121E-4B4A-4F42-91FB-B4A3A908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F6ED-65D8-491F-8362-C34360A4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18ED-F405-41E2-AA62-7E1A93FED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2560" y="228600"/>
            <a:ext cx="90388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2Z</dcterms:modified>
  <cp:revision>39</cp:revision>
  <dc:subject/>
  <dc:title>PowerPoint Presentation</dc:title>
</cp:coreProperties>
</file>