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432D-9A89-417F-AE70-1B30C4D41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A | REAL PER CAPITA NON-HEALTH SPENDING, BY HOUSEHOLDER AG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E108-C0C1-47AE-843C-BFB48CD0E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976-1312-46F4-9F0A-6C6CA88D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28FF-66DA-4609-A70D-0FE39121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5B70-494C-4114-9BB7-7166121D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B91-6587-4D33-8BF8-E3CF1219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918B-DF8D-48F3-82E4-2883B6F7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B798-7BD7-4C76-8ACE-AE727060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4A4B-45C2-4310-8625-F3745525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D332-CE28-415C-808A-2B6E9402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6845-767F-47BB-AADF-E1FA9041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3FA2-6391-420A-8E43-0DB7B50F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C71C-2153-497B-BE62-2E05D752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4BB-3B60-43B8-A2FC-47037357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A383-F2EA-4200-ACA8-766BE481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3476-B77F-4C84-AF76-2E2C6596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E095-B313-457A-93A2-7FB3AB30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C4DC-35AF-4537-9F55-B4C2A90F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46AC-3CCD-45BF-9C6B-09CE3D51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17E-556A-4F4C-9AEB-28FDB222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3D8-2CE8-4DB4-8DA1-3A6B6B81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0B2-84AF-439E-9BF6-BCC8BA55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D13-23B3-43F5-A825-C702A881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F32-F816-4439-83F1-AE841165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E61-4255-455F-934A-308488C6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479-6185-4F8C-9596-9DA10BA3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2F89-5E93-427F-87A1-CE2731DD1D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2310-2D00-49BE-A5C3-BEA8AEF34C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a | Real per capita non-health spending currently is higher in households headed by elderly people; this was not true in 19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388800" y="1092240"/>
            <a:ext cx="8348760" cy="1854000"/>
          </a:xfrm>
          <a:prstGeom prst="rect">
            <a:avLst/>
          </a:prstGeom>
          <a:ln w="0">
            <a:noFill/>
          </a:ln>
        </p:spPr>
      </p:pic>
      <p:pic>
        <p:nvPicPr>
          <p:cNvPr id="91" name="Chart 4" descr=""/>
          <p:cNvPicPr/>
          <p:nvPr/>
        </p:nvPicPr>
        <p:blipFill>
          <a:blip r:embed="rId2"/>
          <a:stretch/>
        </p:blipFill>
        <p:spPr>
          <a:xfrm>
            <a:off x="388800" y="2921040"/>
            <a:ext cx="8348760" cy="147312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762120" y="1371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572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094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hart 9" descr=""/>
          <p:cNvPicPr/>
          <p:nvPr/>
        </p:nvPicPr>
        <p:blipFill>
          <a:blip r:embed="rId3"/>
          <a:stretch/>
        </p:blipFill>
        <p:spPr>
          <a:xfrm>
            <a:off x="388800" y="4292640"/>
            <a:ext cx="8634600" cy="2082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990720" y="61722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l per capita non-health spending (thousands of 2009 dollars using GDP price defla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1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a | Real per capita non-health spending currently is higher in households headed by elderly people; this was not true in 1984</dc:description>
  <dc:language>en-US</dc:language>
  <cp:lastModifiedBy>Jia Yao</cp:lastModifiedBy>
  <dcterms:modified xsi:type="dcterms:W3CDTF">2013-09-23T17:02:09Z</dcterms:modified>
  <cp:revision>26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a | Real per capita non-health spending currently is higher in households headed by elderly people; this was not true in 1984</vt:lpwstr>
  </property>
</Properties>
</file>