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636A-0085-4F11-8339-A0DCEB667E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366C-6FC8-4458-892F-89A5D7D3537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3b | Percentage Distribution of Personal Health Expenditures, by Source of Payment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82C2-34A6-4453-A775-103695AF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8DE0-2D82-469F-8443-0B0A969A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78F2-5801-4E83-9B80-277201DA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34C6-B7B5-44EC-9BC9-CC83339F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8EC6-EFB4-447E-9DD5-D9EFCE5E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381A-336A-4456-A921-26D9E136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4320-B5E8-4327-BE00-77746045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6B0B-8312-4246-B62C-9D241DC9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C80F-1FAB-430E-9B6E-B9BA67DF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977A-6D9B-41B3-BED2-4A3034D2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8404-8A0C-41FE-828C-A7345D9E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A5CA-FA7E-478E-B539-60B13934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90BA-0FAB-4150-995B-B6B2DA9D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17B6-C126-46A1-992D-A5B92909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1F77-E7C1-4FF4-A766-89F4C555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863D-2DE3-4C2D-B0D9-E92C2A349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3FEB-7B00-42A0-AF10-127200C0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039F-EA4D-48A5-BCF5-D979BC84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53B3-356B-40AF-B9B3-35D2AA9B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75A9-A1B5-4AB7-BE5F-A3BE7BBD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EC54-A6F9-4AE4-83F8-5F83D03F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A676-DEE1-473A-80B1-9C757B25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4704-E273-4803-BB8C-175DE13A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1D77-7418-4879-AB03-764BE419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01E3-43EC-44C3-9EF0-23FAA4622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AB86-8DDE-480D-9593-505EF553BF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3b | Tax-financed health spending expanded more rapidly than private health insurance after 1965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cxnSp>
        <p:nvCxnSpPr>
          <p:cNvPr id="92" name="Straight Arrow Connector 5"/>
          <p:cNvCxnSpPr/>
          <p:nvPr/>
        </p:nvCxnSpPr>
        <p:spPr>
          <a:xfrm flipH="1" flipV="1">
            <a:off x="4038120" y="5028480"/>
            <a:ext cx="53424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3" name="Straight Connector 6"/>
          <p:cNvSpPr/>
          <p:nvPr/>
        </p:nvSpPr>
        <p:spPr>
          <a:xfrm flipV="1">
            <a:off x="2514600" y="121932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Straight Connector 7"/>
          <p:cNvSpPr/>
          <p:nvPr/>
        </p:nvSpPr>
        <p:spPr>
          <a:xfrm flipV="1">
            <a:off x="1523880" y="137160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Straight Connector 8"/>
          <p:cNvSpPr/>
          <p:nvPr/>
        </p:nvSpPr>
        <p:spPr>
          <a:xfrm flipV="1">
            <a:off x="3429000" y="137160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Straight Connector 9"/>
          <p:cNvSpPr/>
          <p:nvPr/>
        </p:nvSpPr>
        <p:spPr>
          <a:xfrm flipV="1">
            <a:off x="4343400" y="1523520"/>
            <a:ext cx="0" cy="43434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Straight Connector 14"/>
          <p:cNvSpPr/>
          <p:nvPr/>
        </p:nvSpPr>
        <p:spPr>
          <a:xfrm flipV="1">
            <a:off x="6248520" y="1523520"/>
            <a:ext cx="0" cy="44960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Straight Connector 15"/>
          <p:cNvSpPr/>
          <p:nvPr/>
        </p:nvSpPr>
        <p:spPr>
          <a:xfrm flipV="1">
            <a:off x="7238880" y="1523880"/>
            <a:ext cx="0" cy="464832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Straight Connector 12"/>
          <p:cNvSpPr/>
          <p:nvPr/>
        </p:nvSpPr>
        <p:spPr>
          <a:xfrm flipV="1">
            <a:off x="5334120" y="1523520"/>
            <a:ext cx="0" cy="43434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Box 11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3b | Tax-financed health spending expanded more rapidly than private health insurance after 1965</dc:description>
  <dc:language>en-US</dc:language>
  <cp:lastModifiedBy>Jia Yao</cp:lastModifiedBy>
  <cp:lastPrinted>2002-05-16T21:44:34Z</cp:lastPrinted>
  <dcterms:modified xsi:type="dcterms:W3CDTF">2013-09-04T21:03:50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3b | Tax-financed health spending expanded more rapidly than private health insurance after 1965</vt:lpwstr>
  </property>
</Properties>
</file>