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326D-FCCF-46FD-B5A4-D2AAEF43E0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C563-8E3A-4E27-AC13-E301FBD3291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4a | HEALTH INSURANCE BENEFITS OFFER RATES, BY SIZE OF FIRM, 1999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3930-6F0E-44CB-8536-21536F943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6A3E-8D32-4743-9565-EFA34B00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6C12-507E-4FB0-99C3-06AEDD7F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84C8-3BDB-4438-8085-A968B95EA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6097-D203-4F4F-906D-6DFD0E69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E395-E35F-42CA-A492-EDD31BE0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1697-FE86-4C93-8669-D5FD4161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E62D-EB84-4E55-9A86-DABB3F21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856A-8D66-4C07-91D8-4E46B7DB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11F0-BB80-4A8F-BAF1-4693FB29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3FB9-07E1-44BE-AE06-D42ECFC4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2301-4C52-407A-8AC8-5A418359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42DC-3CC9-41FB-9FF4-ED9A261A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5044-16B5-42A3-AC3B-65156F34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466F-B9BA-48BA-9073-536F790B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90ED-B2CC-4F17-95A6-1CE3BC9B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9E3E-40CE-41D2-8F3D-AFDE5B5B7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C4DF-9BDF-46D1-A9C5-A3453E16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863A-AF2B-43A7-A8FE-2427D518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0083-CA99-4133-9328-781BA6B6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E488-5C16-46D1-97E2-BBF95A50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7B87-0B6A-4B4A-A411-F4951BB2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8E8B-B0D5-44C7-9935-52609FDA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09D8-D39F-4145-A7AA-4F0F0679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878F-4FD8-44A4-8CE4-30CCA4F8A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4A45-50A6-4D9C-8DC1-92800B73A9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4a | The percentage of the very smallest firms offering health benefits has been below 60 percent for more than a decad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49400" y="787320"/>
            <a:ext cx="904536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-29880" y="5867280"/>
            <a:ext cx="94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Kaiser Family Foundation, The. Health Research &amp; Educational Trust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mploy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ealth Benefits 2010 Annual Survey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tember 2, 2010. http://ehbs.kf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g/?page=abstract&amp;id=1 (accessed November 21,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4a | The percentage of the very smallest firms offering health benefits has been below 60 percent for more than a decade</dc:description>
  <dc:language>en-US</dc:language>
  <cp:lastModifiedBy>Jia Yao</cp:lastModifiedBy>
  <cp:lastPrinted>2002-05-16T21:44:34Z</cp:lastPrinted>
  <dcterms:modified xsi:type="dcterms:W3CDTF">2013-09-06T13:50:08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4a | The percentage of the very smallest firms offering health benefits has been below 60 percent for more than a decade</vt:lpwstr>
  </property>
</Properties>
</file>