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C45-1CE6-4D0C-A1C2-5C410FC6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959-5B5B-4D15-9B54-DC290095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C39-1F86-4F7B-8751-3660C939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92D-BAC9-44E8-AAFB-777E9FDF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D2B-9C0B-4BAD-9B06-524B0490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E1E-C5A7-4EDF-81A4-43FABE25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3D1-3C9E-4042-A65D-B0055AEC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D10-047A-47DB-BF1C-954D62BC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248-43AC-497F-B5E2-9EBBE713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D7D-708E-4AE4-BB96-7698CA78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7E1-993E-4883-8D37-535D202C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985-02D0-4397-9309-CDCB105A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4087-8149-4AEE-9F25-FD4EA2570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2Z</dcterms:modified>
  <cp:revision>12</cp:revision>
  <dc:subject/>
  <dc:title>PowerPoint Presentation</dc:title>
</cp:coreProperties>
</file>