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B2A-AF39-4AD5-9689-8675EC0B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177-3C1F-4C5C-8D08-060952B5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97A-146C-4E6E-B53B-DCDB53E1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8AA-C445-490E-9266-ADBB6F9C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B02-4B34-4188-9353-04CDE9FE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4AD-C0F0-4BDF-A565-E466F949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DD3-052D-44C1-AF25-2E68D53B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60C-7107-49C4-BD18-F0CEAFAC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120-D63A-46B7-999D-27F310AD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F72-C1E5-46A3-AABF-4AE6DB0C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27B-842D-4A82-B571-0689EAF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7BB-7BFE-429A-AC62-A100B835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AE40-7579-4834-9F7B-65A42F2F3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5Z</dcterms:modified>
  <cp:revision>22</cp:revision>
  <dc:subject/>
  <dc:title>PowerPoint Presentation</dc:title>
</cp:coreProperties>
</file>