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8C21-4D39-421D-9B6F-96A057D006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5b | Net Stock of R&amp;D Capital per $1,000 GDP or National Health Expenditures (NHE), 195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BDBE-B10A-405B-B0F0-B9DAEB23AA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0904-2120-46DD-A26B-4A5A3956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733C-C017-4721-9AAE-1A916DFD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7B23-FC9D-400E-B687-FF75FEA8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EC7-219D-4635-9DA7-0E6D945B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CED5-D183-4BF0-BD1E-30CD8DC9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31F2-CA05-4F21-AF10-7FC4B088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4066-6DBB-4BB1-98BA-2A0F4246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D3DB-62A5-4699-8938-9C4FF3E9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CB0B-D972-4202-81AF-513E4AE2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9485-9933-4866-96DE-BE608332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A122-CAD0-47EC-A8BC-AB7E8CA1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E1A8-D3CE-4D85-B4E8-5F023573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F719-1E00-4086-9A49-43D1BC8C9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5b. | The ratio of R &amp; D capital to GDP is higher than the ratio of health care R &amp; D to NHE; the reverse was true from 1960-19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1015920"/>
            <a:ext cx="834876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R &amp; D expenditures include both private and public sector spending, regardless of where the R &amp; D was actually conduc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5b. | The ratio of R &amp; D capital to GDP is higher than the ratio of health care R &amp; D to NHE; the reverse was true from 1960-1979</dc:description>
  <dc:language>en-US</dc:language>
  <cp:lastModifiedBy>Jia Yao</cp:lastModifiedBy>
  <dcterms:modified xsi:type="dcterms:W3CDTF">2013-09-06T14:59:2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5b. | The ratio of R &amp; D capital to GDP is higher than the ratio of health care R &amp; D to NHE; the reverse was true from 1960-1979</vt:lpwstr>
  </property>
</Properties>
</file>