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14F9-D9CE-4E9A-86CE-D386AECD0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.8B |HEALTH CARE SPENDING AS A SHARE OF AVERAGE ANNUAL PERSONAL CONSUMPTION EXPENDITURES, BY HOUSEHOLDER AGE, 1984, 1996,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762E-C81A-403F-AFE7-725253DD81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F3A2-8BCF-445E-BC4D-9CD8DCCDA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2E62-A3AE-43FF-AB3E-EC02BBCA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45CA-81C5-4BE3-90CD-562EC0B11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C16B-DA68-4BC7-A29F-2ADFDE56B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158C-DBD4-491F-B4D3-C7010C38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5ADF-7047-4313-870A-048473E3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34DF-C398-4496-B636-4CEEEFC4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AAD6-3828-4DA2-9474-A98423E2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5E23-A571-45D8-AB3F-2034D2B3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19DA-E547-45FE-9897-F9449A63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19A9-5CA9-462E-B013-C3703DCB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FD2C-CDDF-4575-B0D3-699B6D11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7160-112B-451F-9616-CDEBD29A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9BDD-268C-414B-8031-9DF18FBE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A175-36EB-4DCD-B82A-744BC2B6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E950-DD71-435A-A10F-51E746235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DDE6-29C2-4DBE-AC26-E3C6A154D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41CF-31BC-416A-A596-584DFECD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D158-8F56-42A1-80B3-F6F89DF3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30A9-495B-444D-8918-81F9AA69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7AB9-3B1E-431E-ABE4-855D2B63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E7C0-B3D9-47AE-B743-09C67204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E1A1-6CB4-4A4C-A423-55709D09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DA8E-936D-42EA-B952-6B89E737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86B3-BC64-4A53-81CC-D439E30DE7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745E-B6A9-4342-B0B4-0270E9F58B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8b | Real household spending on health has increased much more rapidly in elderly households than in non-elderly househol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20704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8b | Real household spending on health has increased much more rapidly in elderly households than in non-elderly households</dc:description>
  <dc:language>en-US</dc:language>
  <cp:lastModifiedBy>Jia Yao</cp:lastModifiedBy>
  <dcterms:modified xsi:type="dcterms:W3CDTF">2013-09-23T17:01:39Z</dcterms:modified>
  <cp:revision>260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8b | Real household spending on health has increased much more rapidly in elderly households than in non-elderly households</vt:lpwstr>
  </property>
</Properties>
</file>