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F92-1F78-405C-A940-87F53D7A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203-1ABD-4D0B-9E86-C9C275EF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1AEA-25BD-4E32-A3A2-93795026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76A-BA34-46F7-A289-D89F8ECC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0E4-4A13-4887-862A-7FC1AF27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5CF-71E9-43E3-8092-CA77806B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A88-F72F-4F4E-9000-5D50A907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0BF-C9EE-4A31-B095-ACA8E6A1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C57-A263-472A-A8C6-851D7ECA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F6B-E5A4-4E77-9658-E3037B2F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F7A-01F9-448E-BC60-B0F30E55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1C1-3536-46CD-BA49-B95CCD51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6F2B-A350-4F1F-B3C0-981AE5504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058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9Z</dcterms:modified>
  <cp:revision>31</cp:revision>
  <dc:subject/>
  <dc:title>PowerPoint Presentation</dc:title>
</cp:coreProperties>
</file>