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5D1-2296-4D5E-B30C-E431EF4F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924-E499-4327-AAFA-B0D1F957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C9E-A174-4F4E-98D5-372CCB4F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82D-DE05-4333-A664-D0357D9F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91F-8615-4243-BA0F-96DD11D4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B79-6055-488F-82C2-D692780E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4BE-A4A4-462D-BCAB-58379DF2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A33-BD9A-4513-B184-1A7207BA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963-DEDC-49D7-ACE1-52F5288E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14D-D1AD-4D4A-BF41-783C7F9F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604-87C4-4E03-A97A-BB5902AF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537-95C5-4BDF-B4A2-6089D58D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0EB1-C4DD-4FA6-9242-1FA0D2B32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228600"/>
            <a:ext cx="9029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1:58Z</dcterms:modified>
  <cp:revision>4</cp:revision>
  <dc:subject/>
  <dc:title>PowerPoint Presentation</dc:title>
</cp:coreProperties>
</file>