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C3B6-6CF2-4F2F-B2C3-FBEC5082C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b | Output per Hour and Output per Unit of Input Indexes (1987=100), Health Facilities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9FEC-820A-43F6-B014-1303B7D29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339-031E-4422-A7D5-40E13999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3F0-2F2F-4D8F-8DC8-4ADC3948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751-8DA2-4113-A9AF-87B203E8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E03-3156-4FE5-A1F7-FB76528D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067-47F9-4289-9345-23C7A93D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0B5-BEC5-4DF2-B193-A329B903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424-0FD4-48D5-95D0-3589F323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DD9-0037-4733-AD73-94C99D15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49D-CD9D-45B4-9FE5-3885AE64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7E2-3912-4578-8B30-036AB78D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F56-F343-4FAC-8878-3C204E1B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C96-0311-4FE4-AD80-674DE926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448C-2996-4458-9960-853BF645F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b.  Over 2 decades, health facilities hourly output rose even as productivity per unit of input remained relatively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09480" y="5694480"/>
            <a:ext cx="84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Outpatient = ambulatory health care services; inpatient = hospitals and nursing and residential care facili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b.  Over 2 decades, health facilities hourly output rose even as productivity per unit of input remained relatively flat</dc:description>
  <dc:language>en-US</dc:language>
  <cp:lastModifiedBy>Jia Yao</cp:lastModifiedBy>
  <dcterms:modified xsi:type="dcterms:W3CDTF">2013-09-06T15:00:3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b.  Over 2 decades, health facilities hourly output rose even as productivity per unit of input remained relatively flat</vt:lpwstr>
  </property>
</Properties>
</file>