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130-3C68-44E8-AA5C-D5572988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F847-947C-4BC5-A957-1F5F1A9F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520-05F0-4A47-9551-F9518721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7A6-6665-450C-A074-E3606B70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F00-7A83-4ADF-A35D-D83AB4A5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F01A-F9C0-4C00-A580-4866EE9B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EE06-4CA2-4E17-913F-0A4A27FE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19F-D6B0-49CC-8D75-5BB6EBA9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2D28-01BE-49BC-81C5-5C783C15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193-9381-45A3-AC87-8AC9DD2F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9D46-F799-4A25-906C-5A471D4A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743F-E028-43AC-9610-82ACAEA6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29E3-09C9-4D2D-8C6B-FE2B91876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22360" y="0"/>
            <a:ext cx="629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3Z</dcterms:modified>
  <cp:revision>22</cp:revision>
  <dc:subject/>
  <dc:title>PowerPoint Presentation</dc:title>
</cp:coreProperties>
</file>