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4F1E-4186-47E5-9F1F-AF1C0F5BC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3B | ADULTS AGED 18 OR OLDER REPORTING FAIR OR POOR HEALTH STATUS, BY RACE/ETHNICITY AND FAMILY POVERTY STATUS, 200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39E7-5A1E-4B36-B339-1417DC25B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E91B-A288-49AB-B2D5-E7BFA913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71AD-94D3-4CC6-80B7-843EF804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2334-8C31-417B-BFF4-6D60E0CE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5576-2E3A-4301-8B4C-8ED8D329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96AB-A282-4FF7-B0AA-0F5FD446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ED1B-EF5B-4800-8B19-829174CB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7F6E-5361-4E6B-9F3F-3B5A193A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E8BE-4C23-48EC-B752-2E222679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4786-4513-4C58-8262-D7A88CD8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1B3A-42EF-43B5-83C2-3DC397EF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AB20-8E58-4904-9FC2-B6DE5873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0643-5DC3-484A-B5D7-0985BF5E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ECF7-20AD-4DD9-8095-B7F5B6A1A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3b | In all poverty categories, blacks have worse self-reported health status than whites while health status for Hispanics is be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4479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reporting poor or fair health (200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3b | In all poverty categories, blacks have worse self-reported health status than whites while health status for Hispanics is better</dc:description>
  <dc:language>en-US</dc:language>
  <cp:lastModifiedBy>Jia Yao</cp:lastModifiedBy>
  <dcterms:modified xsi:type="dcterms:W3CDTF">2013-09-06T15:16:59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3b | In all poverty categories, blacks have worse self-reported health status than whites while health status for Hispanics is better</vt:lpwstr>
  </property>
</Properties>
</file>