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CFE6-4452-4933-A621-6C3B628C3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22AA-A9AC-4E33-8A6A-B47DE981F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7AA0-8AE1-40D5-9EDC-E1D56AB6D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EAC9-D1DD-423D-BB44-419812B9D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67CF-CE54-4031-8392-61C3C28C4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39E1-2E16-4814-96A0-C7BBB2BCF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902E-C299-4CE7-A0BA-1215E9E50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DB96-67A6-4004-96DD-CF908F919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23D0-48B9-48BD-8177-366B58276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7118-99FE-4FED-BD4A-49AFF0A4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0246-01DB-4B71-92C4-8D63B653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4A6E-1FA1-4C22-97CC-2D46957C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8957B-80C1-4796-84A1-E850FFCE48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52280" y="52560"/>
            <a:ext cx="8907480" cy="68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23Z</dcterms:modified>
  <cp:revision>37</cp:revision>
  <dc:subject/>
  <dc:title>PowerPoint Presentation</dc:title>
</cp:coreProperties>
</file>