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BF8-6A55-4809-93D6-F060B684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0410-47EC-4F93-8158-B40595BF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47D4-3C64-49AB-9741-C42EFB5A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823E-29B8-4B91-8564-77A0B25E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49B5-AB1C-4E71-A3D0-21CC768E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87CE-CC0E-4003-83F2-D0BED330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DD15-EE60-40A2-9548-29D20578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723-84BA-4E39-9632-110CB668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FD62-2A2A-4C6F-9846-E2F1722B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B90-7BB7-4BAB-BBF3-AD202E76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7B34-15C1-4368-A4EE-434C79A0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DD3-6FE9-4B71-BF26-F30541DB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23A0-333B-48C3-BE31-36E5C8162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90727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9Z</dcterms:modified>
  <cp:revision>20</cp:revision>
  <dc:subject/>
  <dc:title>PowerPoint Presentation</dc:title>
</cp:coreProperties>
</file>