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D6C-7D0D-4852-8E1D-2DC25DED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634E-D5C5-4618-86E1-72D96F4D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BB5-2BA0-4866-A49C-A74703B0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3E0-F2C2-4AD4-87ED-DDC2396C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573-74A7-4F36-9CF7-E9A8FC0D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467-E42A-437B-A692-5FE99B72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1120-7355-4D42-9AA7-C3134BFD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093-8C77-43F1-B1B9-B2E20DFE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F035-A386-47DD-A1C8-014B0F74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CFC-52EE-4B51-A634-3FAD365C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060-B34D-4F8B-90BF-CB9C0BD6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771E-080A-4DAA-BC7C-C3EE85EF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911F-0592-488E-97FC-91A552AAF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228600"/>
            <a:ext cx="9058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6Z</dcterms:modified>
  <cp:revision>35</cp:revision>
  <dc:subject/>
  <dc:title>PowerPoint Presentation</dc:title>
</cp:coreProperties>
</file>