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26B8-DC65-44A8-B516-BEF774D14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6A | LIFE AND WORKING-LIFE EXPECTANCIES FOR MALES AGED TWENTY YEARS, 1900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56C2-AEE6-4603-AEC2-5349DF12A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256F-7679-475A-AA84-53A9D0E9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26A0-002A-4462-8354-4F00E1D6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33C-DC5A-4F4C-A12F-72D9F336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0A9-2F9E-4944-A757-065FEA96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DB4-111B-4B39-8B03-4E719701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55B0-418E-44AA-A59B-E620BE28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C7C9-6EF0-4544-875B-844977BE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CDA-AA33-462C-BC54-031FBB5E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EDE7-AD59-406A-986C-89E636C3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4DA-BBBE-4ECC-8424-60765CFD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626F-70D7-4233-812A-F77E540D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0490-352C-4C02-BF7B-8266F9E8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32C5-3F25-4B67-AE3F-71FFDB6F1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6a | The health sector helped contribute to increasing male life expectancy over the past century, yet working-life expectancy decli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ditional years of life expectancy at age 20, m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6a | The health sector helped contribute to increasing male life expectancy over the past century, yet working-life expectancy declined </dc:description>
  <dc:language>en-US</dc:language>
  <cp:lastModifiedBy>Jia Yao</cp:lastModifiedBy>
  <dcterms:modified xsi:type="dcterms:W3CDTF">2013-09-06T15:04:16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6a | The health sector helped contribute to increasing male life expectancy over the past century, yet working-life expectancy declined </vt:lpwstr>
  </property>
</Properties>
</file>