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58D-03E1-41DA-9431-BA482046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170-08B1-4B0E-A299-907B2D7B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994-2104-4D24-9D61-72BAD169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E40-A197-4E29-9705-A3849DEB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349-9882-4BAD-B66D-DDFA0E3B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82B-A265-4F8F-B6A6-67D8A5DC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673-A742-472A-A539-816DFDFB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E28-4CB4-4A22-87C0-DF8B1374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46E-77F2-42E6-8FB1-7C7C2D06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340-9BA2-46F9-B606-8BF97BEF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AB3-0488-422C-91DC-8458FD19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571-A148-4F07-8976-48F5F777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13A4-7BA7-4D25-9FED-204334683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49400"/>
            <a:ext cx="898848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4Z</dcterms:modified>
  <cp:revision>26</cp:revision>
  <dc:subject/>
  <dc:title>PowerPoint Presentation</dc:title>
</cp:coreProperties>
</file>