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217B-44CA-4931-920C-FF1FDA2334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4B | FEMALE PERCENTAGE OF ALL EMPLOYEES BY HEALTH SUB-SECTOR AND TOTAL CIVILIAN EMPLOYMENT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FD99-88A6-4A07-A707-236A2B6A3A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EB0D-EF4A-4B03-AB8C-9592BC47C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B72D-B8FB-489B-9093-A5D2AC8C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D768-D6B9-4935-9E00-22849BD6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F8CA-0C57-451B-8659-25EA2BA83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47D8-4B34-4C26-842C-9DCE6BAC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2A9D-9594-490D-AFA9-75E5FD78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4996-CD27-4EB8-9856-1E191B89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0B3B-1E50-4845-9614-E82A393F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5B53-9F6C-4161-ADA4-D1DB23B1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3021-98A8-40EF-A101-4393D1C6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8061-4D72-4870-A194-75E9D3E8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F4B0-A2E4-464A-BDE2-9CECD6C4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B5DE-F043-4629-AF36-8DC5262739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4b | Females tend to be concentrated more in healthcare support occupations than healthcare practitioner or technical occup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092240"/>
            <a:ext cx="90169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4b | Females tend to be concentrated more in healthcare support occupations than healthcare practitioner or technical occupations</dc:description>
  <dc:language>en-US</dc:language>
  <cp:lastModifiedBy>Jia Yao</cp:lastModifiedBy>
  <dcterms:modified xsi:type="dcterms:W3CDTF">2013-09-06T15:04:08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4b | Females tend to be concentrated more in healthcare support occupations than healthcare practitioner or technical occupations</vt:lpwstr>
  </property>
</Properties>
</file>