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308C8-5C9A-4F05-8036-78432B9C6A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4A | CORPORATE PROFITS BEFORE AND AFTER TAXES AS PERCENTAGES OF NATIONAL INCOME RELATED TO HEALTH CARE, 1963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BA82B-8DFC-4915-9F32-0D787E3D5E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65D9-154D-47E7-9D62-C3853F6AB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7F3D-0155-4C03-ABBA-8E791D6B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9349-ABD1-47EC-AA1E-2B3326051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9C76-1AE2-4034-85E1-6062BA2C6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F94A-090A-42DB-9CD1-197FB8FD2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524F-F214-4F61-AF65-41C35A3FA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CD45-E66D-4CC4-B56C-5A124563C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62CD-BF9A-4464-AACD-237DF8691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3980-2DAF-4BD5-9C77-6DEE8F7D6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F45E-01F5-44CF-93DC-2DA51293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C904-87D5-4788-82FE-1F82E60C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13E2-6992-4678-8078-5338CD75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99DBA-ADEA-48E8-B3D3-5E7ACF5AD3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.4a | Health services profits have increased substantially since the advent of Medicare and Medicaid, but still are below aver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762120" y="144792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fits as a percentage of industry’s own national in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4a | Health services profits have increased substantially since the advent of Medicare and Medicaid, but still are below average</dc:description>
  <dc:language>en-US</dc:language>
  <cp:lastModifiedBy>Jia Yao</cp:lastModifiedBy>
  <dcterms:modified xsi:type="dcterms:W3CDTF">2013-09-06T14:17:00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4a | Health services profits have increased substantially since the advent of Medicare and Medicaid, but still are below average</vt:lpwstr>
  </property>
</Properties>
</file>