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02CA-5EC0-4882-97D7-1396353CEC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7C | HEALTH CARE EXPENDITURES AS A PERCENT OF STATE AND LOCAL GOVERNMENT EXPENDITURES FOR THE HIGHEST AND LOWEST STATES (EXCLUDING FEDERAL FUNDS)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B44F-4C17-42AC-A7CF-046460C4B2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1873-3077-47E1-B355-3EC417D2B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40B9-75AE-4C4A-A565-B8DEBE43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D7D4-51FC-4DF7-A1B5-D08B012DE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6713-CCC5-4139-860A-8F1DDF611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1994-23CE-4770-A343-9B7B8B0A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C364-6392-46B2-821B-CF699A93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9192-2C94-4B2D-86CC-E7D5082F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C775-204E-467D-8E2B-76EEBF40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905B-570A-499B-8355-B91039CF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C057-FCDB-468D-A100-88A4B3E2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84D2-6005-4C91-8315-2F3A4D98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610B-A9B2-4629-8DD1-57585F12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32D3-1811-4F86-8CA9-18C5E3DA37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7c | If Federal funds are excluded, the Medicaid share of state expenditures is much smaller, but varies by a factor of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512640" y="1092240"/>
            <a:ext cx="8224920" cy="2387520"/>
          </a:xfrm>
          <a:prstGeom prst="rect">
            <a:avLst/>
          </a:prstGeom>
          <a:ln w="0">
            <a:noFill/>
          </a:ln>
        </p:spPr>
      </p:pic>
      <p:pic>
        <p:nvPicPr>
          <p:cNvPr id="50" name="Chart 4" descr=""/>
          <p:cNvPicPr/>
          <p:nvPr/>
        </p:nvPicPr>
        <p:blipFill>
          <a:blip r:embed="rId2"/>
          <a:stretch/>
        </p:blipFill>
        <p:spPr>
          <a:xfrm>
            <a:off x="512640" y="2997360"/>
            <a:ext cx="8301240" cy="3149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286000" y="5486400"/>
            <a:ext cx="586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edicaid percentage of total state/local government expenditures, excluding federal funds (200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563400" y="6213600"/>
            <a:ext cx="821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National Association of State Budget Officers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tate Expenditure Report Fiscal Year 2008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asbo.org/Publications/StateExpenditureReport/tabid/79/Default.aspx (accessed June 15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7c | If Federal funds are excluded, the Medicaid share of state expenditures is much smaller, but varies by a factor of 4</dc:description>
  <dc:language>en-US</dc:language>
  <cp:lastModifiedBy>Jia Yao</cp:lastModifiedBy>
  <dcterms:modified xsi:type="dcterms:W3CDTF">2013-09-06T13:59:48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7c | If Federal funds are excluded, the Medicaid share of state expenditures is much smaller, but varies by a factor of 4</vt:lpwstr>
  </property>
</Properties>
</file>