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B89BC-AEA2-425F-A57B-C1D177E0DAA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04F92-F190-45ED-B9D0-A34958D5B281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3.7b | Percentage of Personal Health Care Expenditures Paid by Medicaid, 20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C8F33-AEEB-49C6-A385-035E88B00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6D897-E31C-4F23-B26C-5F196BD32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89A05-F320-4BD5-8557-8EBCD6818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77DF7-3033-44BD-9AEA-5A3F2A993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66850-D7F5-4511-85AD-CEEA21CAF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8864C-B01C-45D5-B0B1-620662BFC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DCF15-E5EC-4CCB-AB7A-02661A2D9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31F04-0AD9-443F-9C3C-8E07280A7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38AE2-8F5D-4039-9A45-7C97A6C8A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D8B9E-6E6C-4BC3-86CB-E657A2ACA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17789-4576-4F1E-981D-19BC0AA71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225AC-1B62-4AF5-B4EB-DDDB00AA1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D5296-8564-4DFE-8E81-6F96FE3CC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D944F-7933-4DF7-8713-0ABD82808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C2E5B-2D2F-4C64-90B9-836DFC905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9FF9D-52E6-4B85-AFF1-00CC263A1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535DE-BD1E-4CA8-A7DF-D85900642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13800-E025-48E6-ADAE-7F759B162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3019D-3F58-409C-AE6C-65E382557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7DD3A-8A39-4AC6-AB0B-DC7903D29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1C825-725A-42ED-90C5-245AA19A9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C65EF-D46F-48BC-BB8B-690244854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BCF1E-7D62-4310-9BFD-F97226382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E2786-0269-4DEA-A029-5133946CD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E9AAB-EC9A-4980-9DBE-27EBAAB188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7687B-A055-4DD2-9156-6C6D19ADED9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3"/>
                </a:solidFill>
                <a:latin typeface="Arial Narrow"/>
              </a:rPr>
              <a:t>3.7b | Medicaid covers about two fifths of the nation’s long term care spending, but a much smaller share of acute care spending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91" name="Object 3" descr=""/>
          <p:cNvPicPr/>
          <p:nvPr/>
        </p:nvPicPr>
        <p:blipFill>
          <a:blip r:embed="rId1"/>
          <a:stretch/>
        </p:blipFill>
        <p:spPr>
          <a:xfrm>
            <a:off x="254160" y="787320"/>
            <a:ext cx="8559720" cy="6121440"/>
          </a:xfrm>
          <a:prstGeom prst="rect">
            <a:avLst/>
          </a:prstGeom>
          <a:ln w="0">
            <a:noFill/>
          </a:ln>
        </p:spPr>
      </p:pic>
      <p:sp>
        <p:nvSpPr>
          <p:cNvPr id="92" name="TextBox 3"/>
          <p:cNvSpPr/>
          <p:nvPr/>
        </p:nvSpPr>
        <p:spPr>
          <a:xfrm rot="16200000">
            <a:off x="-2305440" y="37324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15T21:37:09Z</dcterms:created>
  <dc:creator>conoverc</dc:creator>
  <dc:description>3.7b | Medicaid covers about two fifths of the nation’s long term care spending, but a much smaller share of acute care spending</dc:description>
  <dc:language>en-US</dc:language>
  <cp:lastModifiedBy>Jia Yao</cp:lastModifiedBy>
  <cp:lastPrinted>2002-05-16T21:44:34Z</cp:lastPrinted>
  <dcterms:modified xsi:type="dcterms:W3CDTF">2013-09-04T21:04:05Z</dcterms:modified>
  <cp:revision>2214</cp:revision>
  <dc:subject/>
  <dc:title>Financing the U.S. Health System: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Financing the U.S. Health System: 1</vt:lpwstr>
  </property>
  <property fmtid="{D5CDD505-2E9C-101B-9397-08002B2CF9AE}" pid="3" name="SlideDescription">
    <vt:lpwstr>3.7b | Medicaid covers about two fifths of the nation’s long term care spending, but a much smaller share of acute care spending</vt:lpwstr>
  </property>
</Properties>
</file>