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B392-133F-4636-ABEF-2F234624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5DBB-3A3C-4453-A4C6-2E4770CF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CECA-22FF-4BED-9679-CA459B0A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7FFC-FAC6-4321-A329-270B523F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14E3-918B-4662-A377-42F86196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274F-9281-407E-8172-07B48BE9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CD6-1778-4E43-B377-0357A590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2B43-3451-4BFF-8B93-A64F1041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E03B-9362-44E4-BD39-7D05CC32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455F-C9CD-41E0-A14B-F122546C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4DBE-E70C-46E3-9B5E-E5CA715D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24F6-A386-40B5-B64B-35D69E56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4836-168D-4C40-B962-0DB48D019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152280"/>
            <a:ext cx="90313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9Z</dcterms:modified>
  <cp:revision>39</cp:revision>
  <dc:subject/>
  <dc:title>PowerPoint Presentation</dc:title>
</cp:coreProperties>
</file>