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8D7-7D6B-4FF3-B4AF-031C27B2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BD5-5CA2-4F17-A643-DEEAEF01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682-1060-408E-9468-46DCD9BF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995-467E-431E-92A0-8C583B11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BB6-B587-41D5-B03E-39EDBD3A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9D9-97F1-4B68-8D84-711B9279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9EF-C140-4E95-8FDA-701A099D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471-162D-4025-BBE4-557FC04A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D1F-C901-489C-9DB1-1CA4DF28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93E-7553-4088-88DC-EF46BD9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A9E-4E2C-4C3F-84D4-833AF6D8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350-C1BA-4AB0-BA83-6D18FA0C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5DEB-C9FC-4C7E-85AA-6E4AF1B4D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0160" y="0"/>
            <a:ext cx="87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49Z</dcterms:modified>
  <cp:revision>31</cp:revision>
  <dc:subject/>
  <dc:title>PowerPoint Presentation</dc:title>
</cp:coreProperties>
</file>