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644F-A737-49E4-899A-429264442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E0F3-7F35-4AEE-9247-4805176A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F3B2-264E-42DD-BB88-44CD951A3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5286-4FB1-4525-8862-2E73FDA30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542E-0C43-4E4C-8CDE-30C2DC1D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6E5C-2C20-4294-8DD4-096C366B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2B5E-84D6-4355-AE80-A52D5BDD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EF1A-0F3A-42F9-98C5-BDE0CB58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BC78-1B99-446F-8B17-E0606108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DAD3-9AE9-41FB-8A57-AAD738C5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8265-2EB3-4CC9-B8F2-56ED79A3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675E-EB79-4009-88A6-83F814A0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CE0A-A1EF-4C3E-A466-FABB9CDF32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5160" y="152280"/>
            <a:ext cx="9078840" cy="659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5:02Z</dcterms:modified>
  <cp:revision>31</cp:revision>
  <dc:subject/>
  <dc:title>PowerPoint Presentation</dc:title>
</cp:coreProperties>
</file>