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2209-DFF9-4680-8CBE-66073FE3A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c | Output per Hour and Output per Unit of Input Indexes (1987=100), Medical Equipment and Pharmaceutical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96E4-548D-4DC1-98F7-FDF92F26D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9E29-8137-41B9-AC16-7827C435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931-405C-4016-97C9-A8E1F87A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D4B-71FE-4C81-8E21-ABC2E143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EE67-3138-43EC-80D1-E6D0C421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074-6DC1-47DD-AE93-3FC075B1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734-ED53-484D-BF22-B2416FA4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F58-5E0C-475F-BFFA-4D94787C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BA4-B669-49C6-83DD-F7B9B50F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F32-CACF-4761-B69D-D7580EEA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275-A0F0-4204-A222-177B0760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1F9-8504-4D58-8A8B-1CBA5D9B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3AD-56B8-4AE5-81B9-BC04B593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5403-8416-414F-BD42-5BFBF6BC9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c.  Productivity has grown much faster in the medical device industry than the pharmaceutical industry, where output per unit of input is fa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48340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c.  Productivity has grown much faster in the medical device industry than the pharmaceutical industry, where output per unit of input is falling</dc:description>
  <dc:language>en-US</dc:language>
  <cp:lastModifiedBy>Jia Yao</cp:lastModifiedBy>
  <dcterms:modified xsi:type="dcterms:W3CDTF">2013-09-06T14:59:1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c.  Productivity has grown much faster in the medical device industry than the pharmaceutical industry, where output per unit of input is falling</vt:lpwstr>
  </property>
</Properties>
</file>