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7D349-FFD9-45BB-ABF8-5A9CA81268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9.4A | INFORMATION CAPITAL STOCK, HEALTH SECTOR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3C66-898A-4C72-98B2-F40EDD50F6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48CC-BCA6-4181-991C-99305937F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500A-E85B-4E2A-828F-6819ECC47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D9FC-5392-4001-AFD1-4853C2CA8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47D0-BB6E-49B4-BAA5-C5FA963C6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F036-FA96-4EFD-A452-A06BB4412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1DDB-BAB1-4951-996E-F370B5912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9F37-9A83-4959-B122-3313D65F9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93F1-520A-4A3B-99EC-7138C8E7B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05A2-A28C-4900-B9EC-16CC3F9F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2C5F-03D9-42F1-83E3-A0BBBDA8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9B5B-B275-4CD1-BA55-42DF4790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BEDF-A815-4CED-8AA3-D52B1021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84AE0-8772-4DC4-8274-53E364400E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4a | Information capital stock in the health services sector has quadrupled during the past  two decad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01520" y="1244520"/>
            <a:ext cx="8636040" cy="52070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09480" y="556272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health services includes ambulatory health care services, hospitals and nursing and residential care facilities. It does not include pharmaceuticals or medical devices. However,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ther office equipment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ludes medical and nonmedical instruments used in the health services subsecto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4a | Information capital stock in the health services sector has quadrupled during the past  two decades </dc:description>
  <dc:language>en-US</dc:language>
  <cp:lastModifiedBy>Jia Yao</cp:lastModifiedBy>
  <dcterms:modified xsi:type="dcterms:W3CDTF">2013-09-06T15:00:40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4a | Information capital stock in the health services sector has quadrupled during the past  two decades </vt:lpwstr>
  </property>
</Properties>
</file>