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6360-0FD0-4612-BAAD-EE24DC766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5A | PER CAPITA DOCTOR VISITS, DENTIST VISITS, ACUTE HOSPITAL DAYS AND PHARMACEUTICAL GRAMS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ED41-03DE-493B-9743-DD44AC238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EF9D-77F9-421B-A938-79944376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0B3A-E91B-41AA-8EA7-751B3461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B8B5-E62B-4A3F-938F-1212FAEC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B788-92A6-456B-BB40-8D2247AD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A72A-F494-4980-BAA4-0256853F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6CAF-8292-4A14-8E91-CE391BB7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F9F9-2682-429D-A422-AB8C28AF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1C6F-77F2-4707-B8C5-945B7290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0290-5CC6-40D6-A4A6-8CE60BD0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CC28-793D-4574-A0CF-880FCAE0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8E4A-626A-401B-8EBD-B1C267E3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517B-83D9-463A-A9A8-BED180F9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379C-89B9-47E3-A23B-C3BF88FBF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5a | Relative to G7, the U.S. generally has lower utilization of acute care services such as doctor and hospital care, but not pharmaceutic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4581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44792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indexes: 100=U.S. rate of use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715320" y="5851440"/>
            <a:ext cx="45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figures for pharmaceuticals are for 200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74280" y="6237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5a | Relative to G7, the U.S. generally has lower utilization of acute care services such as doctor and hospital care, but not pharmaceuticals</dc:description>
  <dc:language>en-US</dc:language>
  <cp:lastModifiedBy>Jia Yao</cp:lastModifiedBy>
  <dcterms:modified xsi:type="dcterms:W3CDTF">2013-09-06T15:40:5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5a | Relative to G7, the U.S. generally has lower utilization of acute care services such as doctor and hospital care, but not pharmaceuticals</vt:lpwstr>
  </property>
</Properties>
</file>