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A087-BBF8-4033-8E04-A97C35A0A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6F1D-96AF-47B8-9E90-BEB4A5A821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b | ADMINISTRATIVE EXPENSES OF PRIVATE HEALTH PLANS </a:t>
            </a:r>
            <a:br>
              <a:rPr sz="1400"/>
            </a:b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AND TRADITIONAL MEDICA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54D-4CF4-4142-A186-1763FB2C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185-F6EC-4553-AF70-3D12EF83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5F1-50CC-4AA5-86A6-1B77D15D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40C-DA46-43A8-9180-9F4443D9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1E61-6A57-4B35-8928-64FB87EF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0E4B-1195-4D7E-87A7-2475F4CF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2114-797C-4A46-889E-42FFD9CC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E536-4F88-44C7-A24A-FB90482E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E4B0-4F2B-432B-A159-E83A1D28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B402-3D92-4C10-B3EB-A19CA8AD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E3BD-B601-4237-ADAB-A6E5F484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648-2B0F-4664-A487-A0FAE121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4E50-50D7-4F8D-A9C4-D1BB47B8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AD5F-23A7-4A6E-A5A7-BAE4E596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867F-B07D-4929-B377-771A6CBD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01C1-670C-45A8-978A-4047EDD8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FB7F-184F-42C8-93B7-35B00E49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800-EFEC-404E-818F-3242B213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16A-0672-4538-8D67-24811964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494-AF18-4544-9AD9-126925AC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2301-C491-4D6A-A2D1-CC1282F0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254-FED1-46F5-9158-01505E26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0D2-DE95-412E-8C61-C5ABA47F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68D-C844-4E6D-A169-191C539C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4CD3-2D63-4F4A-A346-4F68B81B6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317A-3C89-44C9-B713-D69C696C5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b | If private health insurance covered a similar mix of services as Medicare, this alone would cut average administrative costs by half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lue 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b | If private health insurance covered a similar mix of services as Medicare, this alone would cut average administrative costs by half</dc:description>
  <dc:language>en-US</dc:language>
  <cp:lastModifiedBy>Jia Yao</cp:lastModifiedBy>
  <cp:lastPrinted>2002-05-16T21:44:34Z</cp:lastPrinted>
  <dcterms:modified xsi:type="dcterms:W3CDTF">2013-09-04T18:13:18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b | If private health insurance covered a similar mix of services as Medicare, this alone would cut average administrative costs by half</vt:lpwstr>
  </property>
</Properties>
</file>