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3621-9179-461B-A1CD-5DA2FC24EA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3B | PHARMACEUTICAL PRODUCTS AS A SHARE OF U.S. EXPORTS, IMPORTS, AND NET TRADE BALANCE, 199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60B8-961C-4612-9D33-910405BC41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0850-4A7E-449E-A6BD-58AD574E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E4C2-7966-4E5C-A113-3E3BFCA2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360D-A475-4AC0-958F-046847DF6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F49F-4A44-4649-9BAB-EF99A968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7314-09DA-4E13-B059-C9416404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BE99-C2B2-4618-B29D-F7C45448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C580-52E3-4439-9767-1F947656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B4EC-FBDD-49E1-86BB-85FB6D21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16F2-6E93-457F-BF92-4547A1CF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9359-CD38-4399-AC97-8A59A525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8208-3677-441A-AC12-F5D231C6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A269-551C-4A35-ABE0-F602B38C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148E-5E45-4855-8E51-6ADE4C639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3b | The health sector contributes a relatively small share of the U.S. trade imbalance, but it appears to be grow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13520" y="1371600"/>
            <a:ext cx="63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alance of imports over exports as a percentage of U.S. net trade bal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3b | The health sector contributes a relatively small share of the U.S. trade imbalance, but it appears to be growing</dc:description>
  <dc:language>en-US</dc:language>
  <cp:lastModifiedBy>Jia Yao</cp:lastModifiedBy>
  <dcterms:modified xsi:type="dcterms:W3CDTF">2013-09-06T15:34:01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3b | The health sector contributes a relatively small share of the U.S. trade imbalance, but it appears to be growing</vt:lpwstr>
  </property>
</Properties>
</file>