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CCF-5FD6-4F7C-B25C-0E52ED8F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27E-22F3-4A1C-B931-2010D8B7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6A31-6E84-4356-A445-A079F72D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29EB-8B7A-4198-B7FA-D42DE607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66EC-E504-472C-B41E-AE195620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4C5A-D342-41D6-9F04-29B65BBF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989-66D5-4C3C-8AD8-C4F96CEA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5733-0301-42A5-9186-CE6E463E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4889-BDEA-4F32-A98B-CA980F80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9D76-99B6-43E3-93C1-8AAA364F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C17B-017C-422A-9C2C-6B2918DC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6B48-4742-4F10-AEA9-3AFF864B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9F3F-6860-43FA-A509-5E7C7AAB3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1143000"/>
            <a:ext cx="905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5Z</dcterms:modified>
  <cp:revision>31</cp:revision>
  <dc:subject/>
  <dc:title>PowerPoint Presentation</dc:title>
</cp:coreProperties>
</file>