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0245-C7B9-4F5A-99D4-9FA26D87A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1DED-F3D5-499E-B6AF-22B65718F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1A | COMPONENTS OF PERSONAL CONSUMPTION EXPENDITUR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7A3-9909-4D44-8C28-62AAC990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0A4-C3D2-44DB-970C-DADFAA11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D00F-0808-4700-A2B7-6AD517BB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0D2-3534-4CD5-A9E1-93A4A103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DB04-796E-4B71-9B2E-0D56AB15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28AC-5C67-416A-83A1-360BD591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DCF3-5D30-43F2-90E6-5FE02768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816F-35E0-423B-B515-508C6CC5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4C90-633B-4AA3-9AB7-EE7ECD15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38D7-A104-4F62-BED5-F0AB05BF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F507-5291-4B41-A496-6F499AEC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1E71-5205-495C-A495-A7CEA58C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3B0D-E11D-4901-82A1-D10A3954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4731-A715-434B-B014-DDF92669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3C8D-7BEA-4DD9-A1A1-97111C6E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7C3B-20B5-415B-B32C-7BC0CA55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3411-BBD4-4587-A898-FD07C00B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397-CA7D-48A6-B8CA-820EE669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A6A-4159-448C-9B22-2603B063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6601-C731-451D-AF83-86F58325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4C92-C24B-45A6-98ED-AA56E967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9B6-DC9A-4EB9-B57F-554F2310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1B7-E08C-430E-A9CC-169B40D1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F5B-AC2E-4A49-A9FD-58B5D11D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C79F-0B6D-46D9-94F3-0D3B8ED119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01D1-F07E-481C-9952-496DF0B696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1a |</a:t>
            </a: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lth care is the second largest component of personal consumption spending by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712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5289120" y="5638680"/>
            <a:ext cx="32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sonal consumption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$10.1 Trillion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42756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1a | Health care is the second largest component of personal consumption spending by families</dc:description>
  <dc:language>en-US</dc:language>
  <cp:lastModifiedBy>Jia Yao</cp:lastModifiedBy>
  <dcterms:modified xsi:type="dcterms:W3CDTF">2013-09-06T14:06:08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1a | Health care is the second largest component of personal consumption spending by families</vt:lpwstr>
  </property>
</Properties>
</file>