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F170-A38D-43D8-889F-06F14477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09AF-BD2A-41C9-BE80-4090B457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70C1-70CE-4E2D-A90E-2D2B56C4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9D12-E384-431F-A1A2-87A72F62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3D95-E952-40FB-8456-CCDE8E53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0769-D8D6-4703-AA33-417735FB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27E2-DC24-4818-9EF6-A36CD303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2E8E-EE20-4B5B-BBF8-EFC030C9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D2EE-32F7-471B-B8DB-26BC48C6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DE41-A861-4D5E-AE3E-36C15D65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8A70-90B8-489E-8CCD-8609AC94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57A2-8CBC-4BCA-9E0B-9AB5C85F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F8EE-8887-4518-AAEA-CF0E0E91D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162080" y="52560"/>
            <a:ext cx="6819840" cy="67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1Z</dcterms:modified>
  <cp:revision>4</cp:revision>
  <dc:subject/>
  <dc:title>PowerPoint Presentation</dc:title>
</cp:coreProperties>
</file>