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C925A-C071-4925-8DE4-9515408F6C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6b | Trends in Per Capita Income by Geographic Region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31B6B-6D09-4DC8-B869-F17B50454F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F7E8-D230-41C5-9AD3-9BA8A60FB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9EC3-8863-4979-A026-B9B461905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9310-D14D-458C-9E0F-95EC5AEDE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FEE3-2153-4306-87CB-1A8562A6F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8E1F-8B85-444E-B211-7E58FC3C3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BD25-10BB-4483-AE6F-B007D4803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7E2D-6773-48F0-9973-E97F26B29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921C-B6C0-447C-B057-234227596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66B6-25EC-4F11-8728-630B624F5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DF4B-916F-4B70-BC50-EAE87C6E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15CE-9824-4BDC-9D3E-2C82947F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C241-F4A8-463B-A3EE-0C591908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DE14F-10AA-42F3-9F56-D24A778F00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6b | Regional income disparities have narrowed considerably over the past 8 decades, but have widened somewhat since 197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31840" y="1146240"/>
            <a:ext cx="8680320" cy="5479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14300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dex: Per Capita Income (100=U.S. Averag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6b | Regional income disparities have narrowed considerably over the past 8 decades, but have widened somewhat since 1979</dc:description>
  <dc:language>en-US</dc:language>
  <cp:lastModifiedBy>Jia Yao</cp:lastModifiedBy>
  <dcterms:modified xsi:type="dcterms:W3CDTF">2013-09-06T15:13:21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6b | Regional income disparities have narrowed considerably over the past 8 decades, but have widened somewhat since 1979</vt:lpwstr>
  </property>
</Properties>
</file>