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203-5D47-403C-9702-8369DD94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910-11B6-43F1-9992-2D4BBEF9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56F-EFEC-4264-975A-E8F9C2F7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392-BBBA-488B-9B82-04B53FC1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EC9-737D-41F9-AD7C-14EC1345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E4F-8902-4C30-B047-220C1831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15F-4E93-47E4-AACF-D37FD0D4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0F7-1DF0-40A2-AC0D-A9EA3024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55F-CE83-451A-A0C6-798EE9B7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2A5-AB9C-4C7A-9AB5-4A492F6E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4DE-A385-4E60-9CB3-9BC2D52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97C-A03C-4F02-BF63-8E158993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A95C-5DFB-43DA-91A1-60032A7AC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07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8Z</dcterms:modified>
  <cp:revision>28</cp:revision>
  <dc:subject/>
  <dc:title>PowerPoint Presentation</dc:title>
</cp:coreProperties>
</file>