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865-4A56-473F-8B97-29529F1A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613-A5E2-4253-9CFE-A9ADF9B2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44B-5D47-4FBD-9FF5-4A236A2D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D38-4BDD-4928-8554-FAAC0F8F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189-0DC1-4C31-B8FC-2CD87264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0EC-FFB3-44D1-980D-AFD64341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A9F-0DE9-42A8-84E1-4651D868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B18-0CF9-43CE-96A2-C08E2035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538-BAAA-433A-BE03-04D8AC7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F5F-A317-499C-8CEF-E1480F97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1F0-8723-4D3A-A23C-581D3334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114-B383-4E75-B223-6A91AD1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ABE-865F-4532-85EF-289DDD326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79440"/>
            <a:ext cx="9140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4Z</dcterms:modified>
  <cp:revision>31</cp:revision>
  <dc:subject/>
  <dc:title>PowerPoint Presentation</dc:title>
</cp:coreProperties>
</file>