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3420-1599-4387-A3E1-CB5DDF2F8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FC4E-527B-4F3C-A1A3-BFD0C50B9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2 | Components of Health Expenditure Growth, 1966-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F638-9465-488B-A950-63F3F9F7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DE7-52FD-4953-8B02-B80CBA87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AC33-C717-413C-B6A4-390F104F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B7B5-A767-42F0-8B6A-EF48FD98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EFD2-7D47-409A-A65A-BCA245F5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01BA-E9D5-470F-8B6B-76F8D7E4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D7A0-2A7F-4D58-AD62-9DE14579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6126-6E02-49BE-A3FC-C31A1F92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7314-48AA-40D1-8DD9-39A29996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4B1C-4B6C-4ABF-9944-838A78CA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DB35-43B9-4FC1-83D9-F50B7968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366C-9C5B-4814-A80F-D0139FE9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B551-96F4-4053-AA38-462A136C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48C7-132A-4704-A151-0F33D7FA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AA95-E057-4860-B12F-946E5064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1AB4-09EE-47FF-9DA3-850A37A0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3FD8-C8C8-4248-8AD3-CABE59BA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23B-5EB1-488A-B3AF-4DE2AAC2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D3A9-BB0C-4C75-B09D-DD576647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4C35-0C1E-4DC8-AADF-DA36D0D1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0E9-0E09-4853-B966-B9EBB313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91F8-9377-4385-8A3B-E3DA8FCA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DB0-97F7-4154-B108-D665C894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CD12-C81A-4E8E-A360-CF7E80A5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3C70-ECB8-40B7-82A4-435E932ED9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5AAF-F80F-4F32-9243-DCC818ECC1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2 | The role of technology on health spending growth per person is sizable regardless of the time-frame and assumptions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2 | The role of technology on health spending growth per person is sizable regardless of the time-frame and assumptions used</dc:description>
  <dc:language>en-US</dc:language>
  <cp:lastModifiedBy>Jia Yao</cp:lastModifiedBy>
  <dcterms:modified xsi:type="dcterms:W3CDTF">2013-09-23T19:14:1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2 | The role of technology on health spending growth per person is sizable regardless of the time-frame and assumptions used</vt:lpwstr>
  </property>
</Properties>
</file>