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E5F-1D73-4ABA-B108-B32C8903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003-1F4B-4840-B7CD-88392241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0F5-EBFD-4AEC-BDB3-BB80FAFE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E84-060F-41B3-AD06-A537DB8E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248-FE86-40C5-B8B2-EB325CC9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952-CC15-47BC-A47F-B2B837A5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66E-E147-488B-92CC-C9E62B1C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F4C-E710-405F-8570-4571697D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85C-7E32-4FFA-A591-EC21827F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667-742E-4BA7-9DE3-DAB7C6E4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4AF-FA0D-4B66-BB52-734D573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C90-AFAE-4759-BE7D-7F838B0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6E93-F67C-4DD0-8847-980532B3B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5200" y="0"/>
            <a:ext cx="792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4Z</dcterms:modified>
  <cp:revision>37</cp:revision>
  <dc:subject/>
  <dc:title>PowerPoint Presentation</dc:title>
</cp:coreProperties>
</file>