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0719-BF7B-43F0-94FA-C93100F44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5.2 | ANNUAL HEALTH EXPENDITURES AS A PERCENTAGE OF HOUSEHOLD NET WORTH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CA42-2DC6-4453-9A9E-8A7346480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F2E-D392-479D-A2E9-1F1208A2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B5C-3330-44EE-99DC-9B7FC1A1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71DB-63F2-4197-A43B-4989FF55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910-E972-4099-81D7-DD56E89C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5F1-BF8E-48BF-84DE-B312B88E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2DF-CE83-4C2A-AF6B-8FBFE01E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6C5-16BE-4BFC-BBAE-76F29642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34DE-7A0D-4275-9BD9-FF1CFA38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0E3-FF93-4A55-9A86-D43CE6D5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A4D-7475-4A48-81FF-0CEDC3AF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8CF-2AE6-4F10-A15D-DFA07A58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AD9-5647-43E7-8449-D64E5222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8656-8CF9-406A-BE80-ECA3FDA05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2 | For low income families, the cost of having one member in the top 10 percent of health spending would exceed net w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368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ulated spending as a percentage of family net worth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5715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simulated spending estimated assuming 1 family member had health spending in the top 1, 2, 5 or 10% of individuals ranked by expenditu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2 | For low income families, the cost of having one member in the top 10 percent of health spending would exceed net worth</dc:description>
  <dc:language>en-US</dc:language>
  <cp:lastModifiedBy>Jia Yao</cp:lastModifiedBy>
  <dcterms:modified xsi:type="dcterms:W3CDTF">2013-09-06T15:26:03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2 | For low income families, the cost of having one member in the top 10 percent of health spending would exceed net worth</vt:lpwstr>
  </property>
</Properties>
</file>