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0D9-3DC3-40FB-AA99-9E369570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030-2827-4BAD-BA2E-A7B7BC45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2A4-00D8-45C0-9C60-28B83E4D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6BB-9A40-473F-B17B-2ECB2F04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71B-2978-429D-BBE2-EECB022D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172-BB6E-40C2-B8FB-4662CB63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932-C366-4E9C-BF9E-F4EE3124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9BF-9977-4D3A-AC36-69FE1C12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D50-E4E2-456A-B56E-870B3DF3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C85-3AAC-4DB2-9536-FAF66FFB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540-16E6-43E8-A63E-7CB16949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EDD-576C-4494-8BE9-9905A32B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1D6F-7D31-4AB5-8995-F1B7CACB3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680" y="360360"/>
            <a:ext cx="91123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1Z</dcterms:modified>
  <cp:revision>31</cp:revision>
  <dc:subject/>
  <dc:title>PowerPoint Presentation</dc:title>
</cp:coreProperties>
</file>