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B246-F944-4055-9AB4-04388E96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CFC8-A991-48DF-882F-14317D71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367A-EF82-4D49-9F27-0FFAE28B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DF84-BD6F-447F-B4C1-E2601512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A6AA-1530-4215-BEDD-0C5BA39C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A10A-6392-4F35-A14C-C2EBDB39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7430-98FB-4AAD-BBEE-73DF84B7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F154-7B0E-4952-B932-BFCF04A6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2ECD-D299-41D7-A7B6-7FDADD2E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3609-4A21-4356-85AD-E3AC1E0A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DB74-95D3-47B1-B9D5-EFA72F38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D1B2-8C64-4467-9272-EE8D1DA2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DB95-040B-44C9-A94C-A35751BC7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6840" y="1143000"/>
            <a:ext cx="8950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8:09Z</dcterms:modified>
  <cp:revision>22</cp:revision>
  <dc:subject/>
  <dc:title>PowerPoint Presentation</dc:title>
</cp:coreProperties>
</file>