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46F-5694-45D9-A47E-B261E219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9D4-B34F-4CE0-8E00-0BAE892D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B4C-1FE1-440F-9F5E-56B62EA9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F3A-FEE8-4B2B-AD07-7DBA3CF0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B8B-FF86-4D70-A1D1-98A99F5A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FF6-2446-421A-B05F-588638F3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4F7-7B98-4302-8039-6BC4A420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6F2-8882-4FAC-A87F-A0003017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A2A-7192-4AC3-B71D-A58F1620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51E-5385-4074-8E1F-EA17EB5E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B04-A94D-48F2-A237-64900D07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8EB-7680-41D2-80FA-7E4B03E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BED-9EF7-4A74-8286-C9B597BC0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1360"/>
            <a:ext cx="9067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8Z</dcterms:modified>
  <cp:revision>31</cp:revision>
  <dc:subject/>
  <dc:title>PowerPoint Presentation</dc:title>
</cp:coreProperties>
</file>