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9E0B-7D0C-4536-AA0B-BE751957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30D-40FA-45BC-A873-A66840FE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68D-074C-43C9-B6F4-A46D43FE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D57-EB2E-4C98-907A-3354B692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BE4-2255-48B6-8EE6-E1583703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BCD3-12E2-4305-9B4D-6D6E456E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302-3CF1-4041-A664-231091B3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0C0-1902-4C8C-A455-FB46EAAE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FD3-B7FF-40F6-B7CC-93E03DC2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1AF-D314-4169-8DE8-727CA811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497-A066-4AB0-B044-D8D3F8DE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D2B-26C0-464C-B6C5-B5953D33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F729-EC8F-4CF9-A24B-DA9684A54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228600"/>
            <a:ext cx="9061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8Z</dcterms:modified>
  <cp:revision>31</cp:revision>
  <dc:subject/>
  <dc:title>PowerPoint Presentation</dc:title>
</cp:coreProperties>
</file>