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79C-BBEC-442F-9885-8AD1AE2F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D03-0CD3-442C-899E-66C18F03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BB2-DBA5-4E94-B29D-15E5FBD8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5E4-81EC-4BD9-8BEC-FF2E7A7A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A14-6ABF-4B15-9A9A-7202A0D2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999-6507-4853-83AD-5FA822A5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D3C-1030-47F9-8870-892CD3CF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A1B-C26F-41A2-8253-26FAE38B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748-03AF-415D-9479-2018A0E0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727-6E86-4B03-AA14-5A24F0B0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991-2BD2-4EDC-978A-4A4B782F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164-E1C6-47B1-B386-3A32422D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9AD5-8A3F-4F11-8C87-9DF7F2745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20520"/>
            <a:ext cx="73357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0Z</dcterms:modified>
  <cp:revision>37</cp:revision>
  <dc:subject/>
  <dc:title>PowerPoint Presentation</dc:title>
</cp:coreProperties>
</file>