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B710-F2B2-41CE-91AE-DC0D8FA6EA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8B | MEDICAL MALPRACTICE PAYMENTS RELATIVE TO TOTAL NHE AND EXPENDITURES ON PHYSICIAN SERVIC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398B-7CC1-4584-AC71-F642622024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D5DC-DCA9-45EA-9880-35DFD38AA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96D8-0E3C-47A8-8ED5-9A309589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8178-1386-4CC3-9F89-C44475481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EBD8-4F04-417B-8FC5-2C20C809D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0D60-4549-471F-9AC3-16F09C81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2052-3530-4E65-980C-B42860B9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988F-1F2B-4A5C-8634-7D379BA4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0B40-F3A3-48A2-ABA0-2F2F906C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98FC-DB9D-4211-8485-02E85C29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0A88-D4C9-4C64-BD99-2C361C21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6EB3-CF9A-4878-B48E-169D37E2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4923-CA80-46BD-B7DB-16218482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639A-E2D2-4E1F-B2DC-97B69A442F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8b | Medical liability payments as a share of total or physician spending peaked in the 1970’s and have declined through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3520" y="16002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dical Malpractice Payments per $100 of Expendi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8b | Medical liability payments as a share of total or physician spending peaked in the 1970’s and have declined through 2009</dc:description>
  <dc:language>en-US</dc:language>
  <cp:lastModifiedBy>Jia Yao</cp:lastModifiedBy>
  <dcterms:modified xsi:type="dcterms:W3CDTF">2013-09-06T15:41:07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8b | Medical liability payments as a share of total or physician spending peaked in the 1970’s and have declined through 2009</vt:lpwstr>
  </property>
</Properties>
</file>