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DEE-BB9E-4299-8157-D79BD5ED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65D-B237-4ACE-8937-5B8EF619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970-C478-48BD-B34D-039DDA30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EDC-A47D-4482-BDD2-D3A2ED52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06B-D8DF-4BEC-82A5-D1ED0F50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8FB-E8B7-496C-B921-4BD1B19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3A0-C942-4939-9A5C-EA0C1105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AA8-F1D8-4F2A-933C-7368C6F1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144-2CFA-4AA4-BAA2-6E172DE5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A01-707C-40B4-A5A7-252C28F5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CD8-9881-421D-9E5E-E3FCEB80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B67-F2CF-43AD-A60C-02E94DA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B57-56D5-4785-8742-117EFC481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40" y="76320"/>
            <a:ext cx="90644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4Z</dcterms:modified>
  <cp:revision>37</cp:revision>
  <dc:subject/>
  <dc:title>PowerPoint Presentation</dc:title>
</cp:coreProperties>
</file>