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6232-6645-443D-8E09-3D84284C9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3B | HEALTH-RELATED FRINGE BENEFITS AS A PERCENTAGE OF NATIONAL INCOME BY TYPE, 1948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879B-2B65-47A4-BED4-DD39F3563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886-17A3-486C-B953-DA292E48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818E-D890-403D-AB2B-26991785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D0A-73B4-4768-9067-C5DA5D59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DF9-206A-40EC-926F-9002279D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DCF-3046-41A2-A762-06CEE574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6743-3340-42F0-90EA-73CFDA64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56E8-AF9B-40DC-A959-2BC4D4A2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C7E0-D6A0-47B8-9A46-D2E6276D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2BEB-AAF0-4830-B62C-7614EE83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241A-2076-4AA6-BEF0-694C095A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EBFB-2520-4D83-85B2-00E3ECC9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E8F2-200F-4710-9EB3-EC2D2ACC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96ED-02BB-4BC8-8ACD-A2374E9BA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3b | The health services share of owner income is nearly as high today as it was in 1929; the share for all other services has increas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01520" y="1244520"/>
            <a:ext cx="88646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3b | The health services share of owner income is nearly as high today as it was in 1929; the share for all other services has increased </dc:description>
  <dc:language>en-US</dc:language>
  <cp:lastModifiedBy>Jia Yao</cp:lastModifiedBy>
  <dcterms:modified xsi:type="dcterms:W3CDTF">2013-09-06T14:16:58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3b | The health services share of owner income is nearly as high today as it was in 1929; the share for all other services has increased </vt:lpwstr>
  </property>
</Properties>
</file>