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E29-BAEC-419B-8915-77535B5B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3FF-0D30-467C-BE24-19A6E69D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A9F-9D40-4179-AE02-C5AA1479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C9A-EFBC-48B3-BC3D-03E981A4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232-3DA3-4FC3-B637-5C8EC22F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454-C96E-446A-B430-988E1E65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83B-9E44-47B6-948E-904FDBFA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21F-61AA-43E1-8390-47E999B7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96B-0903-4902-9C3A-8DA202E9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F12-E192-4BB2-AF3A-219D3987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2FC-1270-471F-AD43-43C774DA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8B3-10D3-40B9-A7E0-0292239C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67E0-576D-4854-9D2F-C3122EB76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7Z</dcterms:modified>
  <cp:revision>37</cp:revision>
  <dc:subject/>
  <dc:title>PowerPoint Presentation</dc:title>
</cp:coreProperties>
</file>