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A733-5C7C-49AC-9582-AF5F969E4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A | PROPRIETORS' AND RENTAL INCOME AS A PERCENTAGE OF NATIONAL INCOME FOR SELECTED INDUSTRI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7BD7-6031-48AD-9659-B7952D95D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D9A-A5AC-49B8-8D19-F6F9C2E5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C25-0C21-4A82-A72F-41894E7B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69C-66D9-469A-A0C7-F3888EBF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6A8-F00B-48EE-8D09-34E3A087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19C-79AF-47D2-9837-D4BEB8D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512-FCC2-4DDD-93DC-66741567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45F-FB73-4881-A553-63F9C2E5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6E1-62D9-40A7-B580-CB91F63E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BCC-7524-441E-B797-85A9B558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542-4229-4082-8BC6-DE510C62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4BA-9D55-4195-A262-2CDDB34F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351-FD62-470C-92F2-C1F07590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46FF-199B-4935-8456-93E3F0DE0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a | The share of health-related national income accounted for by proprietors’ and rental income has declined dramatically over 5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sector-specific national income to proprietors’ and rent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a | The share of health-related national income accounted for by proprietors’ and rental income has declined dramatically over 5 decades</dc:description>
  <dc:language>en-US</dc:language>
  <cp:lastModifiedBy>Jia Yao</cp:lastModifiedBy>
  <dcterms:modified xsi:type="dcterms:W3CDTF">2013-09-06T14:16:56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a | The share of health-related national income accounted for by proprietors’ and rental income has declined dramatically over 5 decades</vt:lpwstr>
  </property>
</Properties>
</file>