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E46A-8DC3-47B9-B6E8-F223B5745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c | Ratio: Median Chief Executive Officer Compensation Compared to Average U.S. Worker Compensation, 194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2334-8412-4894-B90B-01A8CA09E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284-0868-4504-B462-1B5DBFD5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16A-EF84-464F-86A8-238E5ECB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50D-B184-4F67-B11A-41C52C9A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CBA-6013-4BF3-A4BD-D8E978C4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55F-1CB7-4CDB-9F40-B835A076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8E0-48DF-417C-A24E-6CFF0879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8C5-1719-4672-BF42-673FDFA3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85F-E89A-4CB7-AC69-DB486D15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12A-D763-4662-9478-DE46BE58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41F-7535-4D6F-8A8A-8703347D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C14-72EB-4D49-86E7-8E7838D9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4DE-5894-451E-A3AC-EC372551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B456-2498-41D7-AEEA-0D0D99F12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c | Rising returns to physician education have occurred during a period that CEO compensation also has been rapidly r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99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600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median chief executive officer compensation compared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erage U.S. worker compen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5495760"/>
            <a:ext cx="811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New York Times. The Wide Divide. April 6, 2006. http://www.nytimes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agepages/2006/04/09/business/businessspecial/20060409_PAY_GRAPHI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ml?ref=executivepay (accessed November 12, 201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c | Rising returns to physician education have occurred during a period that CEO compensation also has been rapidly rising</dc:description>
  <dc:language>en-US</dc:language>
  <cp:lastModifiedBy>Jia Yao</cp:lastModifiedBy>
  <dcterms:modified xsi:type="dcterms:W3CDTF">2013-09-06T15:09:0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c | Rising returns to physician education have occurred during a period that CEO compensation also has been rapidly rising</vt:lpwstr>
  </property>
</Properties>
</file>