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2BBD-DEA1-407C-BABF-A534C6619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2 | AVERAGE ANNUAL CHANGES IN HEALTH EXPENDITURES DURING ECONOMIC CONTRACTIONS, 196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0BA6-E5DF-4D7F-9084-F8700FE5A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F8D-DD7A-47F8-A890-D8305C97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170-F684-4C5C-A1D4-AEBA272C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4F7-E59E-4381-80EC-BFF27492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F83-89D6-437B-A2C5-94563FB7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770-8713-47BD-980A-8C662935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10D-04F0-475E-9843-0C9AFCD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4E8-4545-4D5D-9C43-146D7DA1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A4B-9D47-42BE-BA42-FF7037AA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DE4-1636-40F8-9C5E-77222259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EEA-8D16-4ECE-A8A6-906BE5B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F03-A25A-438F-A420-80AC3B8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678-79CC-43D8-8008-3359140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049C-F52D-4016-BEEA-8CD88305B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2 | Medicaid spending occasionally is more counter-cyclical than other health spending, growing relatively faster in down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2 | Medicaid spending occasionally is more counter-cyclical than other health spending, growing relatively faster in downturns</dc:description>
  <dc:language>en-US</dc:language>
  <cp:lastModifiedBy>Jia Yao</cp:lastModifiedBy>
  <dcterms:modified xsi:type="dcterms:W3CDTF">2013-09-06T15:28:08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2 | Medicaid spending occasionally is more counter-cyclical than other health spending, growing relatively faster in downturns</vt:lpwstr>
  </property>
</Properties>
</file>