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4885-FC6E-46A5-A25A-3CCF2E95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A3C8-C7A3-4032-B407-4AA3C3AD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2A2D-1E12-49C8-A957-4AAE9D79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9DC5-BB74-4D61-A15A-A106B5B7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1CFF-B3E6-436D-8E61-CB9042E8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CE47-142B-4B77-BA18-1DCEE903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1426-C253-49C5-861C-D50CEBB5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76BD-E90A-4E68-91A3-14006262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BBF4-A7CC-4BA5-A701-FDB06F1B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E3A2-1296-48B1-95A2-AD6E4697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D61F-659F-4481-B72F-808ACC07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E146-6A0C-4210-AC37-8C50388F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DABA-AAF4-4177-9B28-56F464C99B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42920" y="1066680"/>
            <a:ext cx="88581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4Z</dcterms:modified>
  <cp:revision>39</cp:revision>
  <dc:subject/>
  <dc:title>PowerPoint Presentation</dc:title>
</cp:coreProperties>
</file>