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6EBC-D4F3-4F73-9A96-7A07B37117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1611-E51D-4752-A827-36912502732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1a | NATIONAL HEALTH EXPENDITURES BY TYPE OF EXPENDITURE, 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: Centers for Medicare and Medicaid Services, Office of the Actuary. National Health Expenditure (NHE) Amounts by Type of Expenditure and Source of Funds: Calendar Years 1965-2019 in PROJECTIONS format. Last updated January 29, 2010. Available at: http://www.cms.hhs.gov/NationalHealthExpendData/downloads/nhe65-18.zip (accessed February 3, 2010).  See Center for Health Policy. Table  2.1. U.S. National Health Expenditures by Type of Expenditure: 1929 to 2019. Durham: Duke University, March 14, 20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FDB7-2729-4CAF-9311-D7A6A5247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E84E-9C7C-4329-B476-B2D319CA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34FF-7393-48D2-8F4E-2E649E887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E004-2192-407B-A8AA-20B4144C0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E17D-713F-4D1A-A6B7-88EB73B0C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FAA9-173D-4975-81B8-F000A832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F27E-A02F-44A8-BA30-45DB095C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F3CA-BE10-4FE4-8208-107A0FEA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30D0-0E21-4A9C-80E4-D649DA96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8B61-25C0-49C2-ACB1-6D3E796E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C570-4B81-42B8-9345-940F4344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E277-20FD-4CEB-824E-6B9DB2AC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CA4D-AE81-479D-8357-CBE5F955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A6CA-3FFE-4C4B-B94E-984FAF19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5496-C75C-4110-ABD3-51960F42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1C0A-8EFE-4B89-9AD4-E9A346CF0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6A25-01B6-469C-90B1-8D18DCE6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3DBC-BB46-4A33-9DEF-D443FB76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9009-38DD-47FD-AB0E-ED04CEC7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32D3-16BA-41A0-9928-5FC86B28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F112-60EE-4E2B-B06B-5C0E451C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36B4-EAF9-4B8E-B93B-CE8A8E28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5E63-910D-4310-966E-5309CD03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F367-9E3F-42E2-892A-3568367B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6ECC-42D9-41DD-A595-C86EE836C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2222-DC63-4CC2-A6E5-6C55092598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1a | Five-sixths of national health expenditures (NHE) is devoted to personal health care expenditures (PHCE)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cxnSp>
        <p:nvCxnSpPr>
          <p:cNvPr id="92" name="Straight Arrow Connector 5"/>
          <p:cNvCxnSpPr/>
          <p:nvPr/>
        </p:nvCxnSpPr>
        <p:spPr>
          <a:xfrm flipV="1">
            <a:off x="4572000" y="3428640"/>
            <a:ext cx="457920" cy="991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1a | Five-sixths of national health expenditures (NHE) is devoted to personal health care expenditures (PHCE) </dc:description>
  <dc:language>en-US</dc:language>
  <cp:lastModifiedBy>Jia Yao</cp:lastModifiedBy>
  <cp:lastPrinted>2002-05-16T21:44:34Z</cp:lastPrinted>
  <dcterms:modified xsi:type="dcterms:W3CDTF">2013-09-04T18:13:10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1a | Five-sixths of national health expenditures (NHE) is devoted to personal health care expenditures (PHCE) </vt:lpwstr>
  </property>
</Properties>
</file>