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E87D-2B3D-4CF9-A183-2E8AF4D1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B3DA-321E-4878-B163-E7FC395F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AB23-FD5D-4161-823F-48297926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45B0-BB9C-4E8D-A9F6-17D1E881E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D777-7601-456E-9445-F5AEA241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8CDC-9B3E-4EDA-92FC-A05884E3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2275-5954-44B3-8633-4AFC8DDA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70BF-A32A-4904-8E2C-0B9E7BAA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DFF6-D22B-40CF-9EE6-45372C3A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2BB0-F60F-415F-911A-4CA043F5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FAF9-731A-407F-9C83-E49E866C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9110-4CFC-40B6-AE23-913A416B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F1FF-631D-4A5C-ACD4-CD1F96B9D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85680"/>
            <a:ext cx="91440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8Z</dcterms:modified>
  <cp:revision>22</cp:revision>
  <dc:subject/>
  <dc:title>PowerPoint Presentation</dc:title>
</cp:coreProperties>
</file>