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A748-E7D8-47CD-B348-531D858B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A79-929D-41EF-B424-160876B5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F1E5-B444-4145-AF01-60E7917B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A1E-4ECE-4D43-87F4-26A723FB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17B-CB93-4B4C-B0AD-AEFD0B06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58A2-6A24-4FE3-89FB-AA84F9A6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BFC-1762-4040-8A93-A10D44D4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BF3-CAED-4392-AE18-46460E1F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286-CF91-405E-923A-F1824B6D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260-CAA9-4DA8-834E-001F473C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A22A-1383-4AA9-884E-7C22CD6A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1A2B-B619-46CD-862F-2D7FBE02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9AF2-23D4-424A-88E7-6C04EB620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480" y="380880"/>
            <a:ext cx="9131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6Z</dcterms:modified>
  <cp:revision>39</cp:revision>
  <dc:subject/>
  <dc:title>PowerPoint Presentation</dc:title>
</cp:coreProperties>
</file>