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A1FE-A0F0-416B-B96F-396201E2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F552-CAE2-43E1-BDB5-8B3EA300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19CE-ACD5-46AD-9717-8AECACDE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FA8F-63CA-481D-8B81-6A29F1A4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38E3-E9F4-4D44-81E9-92F0B884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81BC-66B8-4169-9021-D5E28338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5ABE-03DC-4FBC-AB56-8E435BE9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87B1-7A8F-4D52-985F-F4E790FD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D8B0-A9DF-4CA1-86B8-E6F3B09F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287C-7586-49D1-812F-3CF9B61D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2221-C3F1-4C8B-9B4A-B7AC8FF7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581E-E4E9-460E-9EF7-D6D6B0BE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AEB4-3AFF-4041-A675-D6DAD105D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11240"/>
            <a:ext cx="9144000" cy="66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2Z</dcterms:modified>
  <cp:revision>45</cp:revision>
  <dc:subject/>
  <dc:title>PowerPoint Presentation</dc:title>
</cp:coreProperties>
</file>