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1C2-EAC2-436C-B8E5-6F0A2C61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29A7-BA04-4CB4-A5AB-9680795F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9479-42B3-42AC-BD95-46CB207D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820-4428-4631-8035-F2399AD5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67D-1A9E-4D92-83A7-BA2CA0E4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0213-321C-4266-A6CC-0ACABA85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FA2-8694-42BF-B98B-9AC4D97D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C72-D636-4613-B72A-CD65B46F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35B-3C0C-4791-B4BA-FCF0DC6A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3DF-C5BB-4FA3-AF07-5B451A38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E6D-57D7-4298-B8E6-35A909D4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29D-76DD-4C10-BF38-E4D1504B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CB77-389D-48D2-89C1-35DF8EA42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203480"/>
            <a:ext cx="89582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6Z</dcterms:modified>
  <cp:revision>39</cp:revision>
  <dc:subject/>
  <dc:title>PowerPoint Presentation</dc:title>
</cp:coreProperties>
</file>