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FDF-103D-4176-9A64-46B45DE5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0CE-A2FD-4647-A010-FD33C8C7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80D-8B14-493D-BDED-ED1CBC54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24CA-3FCF-4865-B2A2-4AEDE172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779-C61E-4F23-BE8B-7774BE8B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4B7-B6F0-48D2-903D-6D4AEC86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776-4BD1-4B4C-AD3F-0668B228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FC2-6E77-461D-9253-1030DA8F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76C-5CB5-4740-865E-0DB0DC0C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DBD-2389-4863-85C8-3B4D727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9B2-95F8-4B1E-96AB-647E43D4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6A9-741D-4F68-94F8-43A3FD54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1029-BC64-45A6-B746-649375D8C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9Z</dcterms:modified>
  <cp:revision>10</cp:revision>
  <dc:subject/>
  <dc:title>PowerPoint Presentation</dc:title>
</cp:coreProperties>
</file>