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35E6-6042-4E67-A378-AA7589364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B440-A646-4267-B3B9-204B1C0D34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a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836-4294-470B-90F5-76DF2480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122-EB42-46FC-BBDB-5F027732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FEB-EC3F-40F8-A735-5D515CE4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2D8-A7F5-4BD3-A19D-6A356973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FD42-B0D0-4A2D-9DE2-27A2F1F4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D51D-27B9-4824-9E93-A78C3903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9D13-14E4-4FA4-809B-0E0F107A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7516-4702-4CCB-AAA2-D2F9A521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3BC4-ACEC-49DE-82B4-8412F1F1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D19D-F5E3-4E0C-AAE0-FA9174E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F9BB-6B31-4C95-9466-51630A33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9E7C-F444-4A49-963C-392E56D1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8E68-8E3E-4DA3-9FA8-CEE2FD35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B108-24A4-4886-A7F0-A34D5866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254C-1370-4558-B173-4A6D28DA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892D-B0B7-4E52-918D-DF2612AC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D1A1-294B-45CE-8A4B-6C967CB3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8D6-9F9F-42DC-B193-3191D95D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4B5-CAC4-43E3-8B48-1438BFF3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FA7-5F2E-4475-A678-72DFBB17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206-A2EB-47BC-A1EA-C77D0465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CEC-CEE1-43FD-8F92-D065B16C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37D-7B16-4B03-9C98-2BD948C4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512-60E1-43DF-B9BE-836A5BB0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3DC1-16B5-4E74-9011-411FC4C7C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2ADF-B666-4A75-A078-664408384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a | Over six decades, both health and non-health supplements to wages and salaries have grown dramatically relative to worker p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a | Over six decades, both health and non-health supplements to wages and salaries have grown dramatically relative to worker pay</dc:description>
  <dc:language>en-US</dc:language>
  <cp:lastModifiedBy>Jia Yao</cp:lastModifiedBy>
  <cp:lastPrinted>2002-05-16T21:44:34Z</cp:lastPrinted>
  <dcterms:modified xsi:type="dcterms:W3CDTF">2013-09-06T13:49:57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a | Over six decades, both health and non-health supplements to wages and salaries have grown dramatically relative to worker pay</vt:lpwstr>
  </property>
</Properties>
</file>