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D5C8-85BC-40E1-8D56-DD60DC06B5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2A | FEDERAL, STATE, AND LOCAL EXPENDITURES, BY MAJOR PURPOSE, AS PERCENTAGES OF GDP, 1959, 1989 AND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0E1B-26A6-4F0A-9870-B5A0F96AFE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5B8C-2FA0-421F-B060-E13B8F3F0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BEF6-008C-4045-836B-F8FD185F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B2BC-9524-4DE1-B609-D8D4BE5BF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530E-F158-48A1-A06B-C96EA48BD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8C60-65DC-434D-B6A5-679FF886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1E1E-C1C8-4377-AC02-4C404BAD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2530-9A26-4EDF-A344-AF165CDE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FB8A-703B-4D14-AEBC-9FF974B7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6BAD-3223-4529-A510-7FE46A18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0D76-3129-46C9-949D-B7080F05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34E6-E663-4C44-B4D1-CE573B29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C97E-0B85-48FB-91B2-D8312756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98D3-9DC9-4A9A-A7F8-8E70A1D34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2a | Government health spending has been the fastest growing major component of government budgets over the past 50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48340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flipH="1">
            <a:off x="533520" y="6019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 this chart shows the 7 largest functional areas of federal, state and local budgets in 2010, rank-ordered by size in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2a | Government health spending has been the fastest growing major component of government budgets over the past 50 years</dc:description>
  <dc:language>en-US</dc:language>
  <cp:lastModifiedBy>Jia Yao</cp:lastModifiedBy>
  <dcterms:modified xsi:type="dcterms:W3CDTF">2013-09-06T13:59:30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2a | Government health spending has been the fastest growing major component of government budgets over the past 50 years</vt:lpwstr>
  </property>
</Properties>
</file>