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7CC-1251-4880-9033-2BFFCFFA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CD5-52AB-4F7E-BCC4-B75A61D8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BB88-DDAA-4470-B6AE-D9CCA992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02A-8FBE-4521-A173-341698B9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191-DD26-4C9D-A13D-F90A15F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329-AD4A-4B92-A243-61D5D29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6DC-7F80-4E62-9FA5-9034365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34B-03D2-4BB8-ABF2-C35DC2D4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1AD-4F60-4B84-9284-B0804F1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A18-FEFC-4D2F-9711-E3005F1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90D-083A-4378-BE6B-056A34A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123-79D7-43D9-8C01-12A22E3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8388-E00D-4ED1-96B7-BBCE7333B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8Z</dcterms:modified>
  <cp:revision>31</cp:revision>
  <dc:subject/>
  <dc:title>PowerPoint Presentation</dc:title>
</cp:coreProperties>
</file>