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79D4-FA94-473D-9E20-166DE49D0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B66F-2574-453A-ACEC-8100AEDF6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2B | HEALTH SPENDING RELATIVE TO TOTAL SPENDING, HOUSEHOLDS, BUSINESSES AND GOVERN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F3E6-21E7-439E-BAD5-F98D69B0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7BD-F795-41BB-9828-25C1761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7B8-F332-466C-8C65-C5C78DE6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744-EEE6-4E84-9448-6E655BA7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1DBC-6A8B-42B9-B2D3-E734DF99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B3E7-7664-4DDD-9CB9-7B693DE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8497-79F0-495B-A2A0-12B0D948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0D14-6D48-43B2-8E58-9F739910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4C27-338C-4A35-ABD9-02AC663D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2752-2A10-473C-871F-B1621A6A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BED-780A-4B78-8769-384DCC1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AE0-914C-43F8-BA34-4F57E0D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1A2-6B37-44BD-B479-A0C33566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714B-7C9C-4C56-B7FB-91ED0BD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F02D-3AEF-4ECC-875F-C0F5DBD8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1D6-0332-4EEE-8CA5-816B7B7C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CAB-51BC-4AE9-A087-F616E810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A98-6E2C-4481-934A-656937E0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7B7-A529-4DEA-A76C-847FDC5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2DD-D7C6-4F2F-AA09-8CC1A87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99D-FE26-4CCD-96AF-DABFF701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209-EEF9-4B1A-892A-5FB4E22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F69-1F6B-4214-A907-EDCBF99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4B7-0C17-4078-81A6-873EF48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0B33-9BE3-448C-A997-6DAA7B9E7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DB27-E266-4325-B057-F12EF76EB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2b | Business-paid health care has increased modestly relative to wages and salari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406440" y="5587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57200" y="914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: sponsor-paid  health spending to totals shown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79520" y="5562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 the framework of “health sponsors,” business health expenditures include the private employer share of health insurance premiums for workers and dependents, Medicare Part A and workers’ compensation, and industrial in-plant health servi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2b | Business-paid health care has increased modestly relative to wages and salaries  </dc:description>
  <dc:language>en-US</dc:language>
  <cp:lastModifiedBy>Jia Yao</cp:lastModifiedBy>
  <dcterms:modified xsi:type="dcterms:W3CDTF">2013-09-06T14:06:1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2b | Business-paid health care has increased modestly relative to wages and salaries  </vt:lpwstr>
  </property>
</Properties>
</file>