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AFD2-B267-4E6E-9F4F-381026EF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382D-448B-4CB9-A6E8-C484D05F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E754-CAD4-47C1-B8A9-4D881E89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C280-DE3D-4F10-B042-1A81F36B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177E-B820-478D-9788-DE4745E4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AAF2-5A35-4BCA-9FE3-8F691E3F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7D21-0F76-4290-988A-81FD42F2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ADC5-3CE9-4982-92DB-A5804043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18CE-5CCD-4B51-BDAC-50A8D9BA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47D0-97CF-468A-B567-14FDFCE2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DCDB-4746-4543-8152-75214912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7F95-E993-42B3-9E27-4A4972DE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02BE-2D38-4CDE-B613-C0DABDEC6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3320" y="1143000"/>
            <a:ext cx="8937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5Z</dcterms:modified>
  <cp:revision>22</cp:revision>
  <dc:subject/>
  <dc:title>PowerPoint Presentation</dc:title>
</cp:coreProperties>
</file>