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9E43-3F19-4311-8EA1-57C96C3881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4B | PER CAPITA SPENDING ON NONHEALTH GOODS AND SERVICES, ASSUMING "MODEST" ALTERNATIVE EXCESS COST GROWTH RATES IN REAL NHE PER CAPITA, 2009-208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2F51-2EA7-44C1-B0CA-0B9CCFDC70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683C-43CF-4904-B606-81FA48DE8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42C9-F216-4D60-82ED-2A63D88D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9AD5-931A-4BAC-B9A8-152862866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D580-1A8E-4E75-8DF6-A8DB1786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5F91-3F40-4D8C-B372-6B57E5F1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2F7D-0217-4021-BAF1-60EFAEDD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C6EE-F126-4414-8429-DB8A2A72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68DC-A810-4856-B892-AE065DD7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20D0-6370-4731-9D50-63B554CD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90CE-357D-4F1D-A35C-484AC1DA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BF1C-0B8F-4667-9267-7796FF14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5D92-5751-4BB8-874D-8AD4927B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1825-1916-4759-A4FE-E30AE6EA9A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0.4b | Non-health GDP per person could decline within 5 decades if excess cost growth continues at historical 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15920"/>
            <a:ext cx="8331120" cy="5054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9528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n-health GDP per capita (2010 dollars using adjusted CP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1905120" y="3200400"/>
            <a:ext cx="4267080" cy="45720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First year non-health GDP per capita decli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Straight Arrow Connector 7"/>
          <p:cNvCxnSpPr/>
          <p:nvPr/>
        </p:nvCxnSpPr>
        <p:spPr>
          <a:xfrm flipV="1">
            <a:off x="4267080" y="2742840"/>
            <a:ext cx="534240" cy="4579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3" name="Straight Arrow Connector 8"/>
          <p:cNvCxnSpPr/>
          <p:nvPr/>
        </p:nvCxnSpPr>
        <p:spPr>
          <a:xfrm flipV="1">
            <a:off x="4799520" y="2590200"/>
            <a:ext cx="229320" cy="6102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4" name="Straight Arrow Connector 10"/>
          <p:cNvCxnSpPr/>
          <p:nvPr/>
        </p:nvCxnSpPr>
        <p:spPr>
          <a:xfrm flipV="1">
            <a:off x="5105520" y="2209320"/>
            <a:ext cx="1219680" cy="991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5" name="TextBox 9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4b | Non-health GDP per person could decline within 5 decades if excess cost growth continues at historical levels</dc:description>
  <dc:language>en-US</dc:language>
  <cp:lastModifiedBy>Jia Yao</cp:lastModifiedBy>
  <dcterms:modified xsi:type="dcterms:W3CDTF">2013-09-23T19:14:20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4b | Non-health GDP per person could decline within 5 decades if excess cost growth continues at historical levels</vt:lpwstr>
  </property>
</Properties>
</file>