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5FF6-B036-40ED-93B3-754C6A793E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7b | Trends in Health Spending as a Percent of Gross State Product, by Region, 1980-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7E9C-07DE-49F8-ABF1-82BCCABF67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390A-8F7C-4853-91DF-93A7E799A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C69B-6B2F-4C1A-9811-D886AA46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3F0C-8C2B-4164-AA86-963851AC7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5F21-4D84-4E99-A3BC-7DA7C63DA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707F-41E9-407C-8E96-1974321D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A2A4-E2E0-4489-BB00-772965CB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482E-E883-447D-AB5D-856B0E41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A0D7-F4D9-4E14-B968-73B1B321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4ED4-B6F3-463C-A228-A50148AD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9B53-2EB0-4558-8FBF-7E6B5280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6936-8AE4-4FD0-873F-C602CBB1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6555-0C31-428B-908F-6D8D4C95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1455-49E0-457B-905F-A459C37C60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7b | In just in one quarter century, there have been large changes in the relative burden of health spending across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92240"/>
            <a:ext cx="87883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2952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health spending as a percent of gross state product (100=U.S. aver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7b | In just in one quarter century, there have been large changes in the relative burden of health spending across regions</dc:description>
  <dc:language>en-US</dc:language>
  <cp:lastModifiedBy>Jia Yao</cp:lastModifiedBy>
  <dcterms:modified xsi:type="dcterms:W3CDTF">2013-09-06T15:13:27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7b | In just in one quarter century, there have been large changes in the relative burden of health spending across regions</vt:lpwstr>
  </property>
</Properties>
</file>