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C2E-ACF3-449C-B0A9-2F803F8D8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B | AVERAGE ANNUAL GROWTH IN EMPLOYMENT FOR DETAILED COMPONENTS OF HEALTH SECTOR AND TOTAL U.S. EMPLOYMENT, BY DECADE, 1970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21DD-FD0E-4967-B31A-4D1FBB4C3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5E5-8E8A-45CE-8AC2-3442318D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225-FC11-4F31-AFDA-60CAF39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0C5-E652-4F6E-A1EF-2E3D8AA6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B18-6EFC-4C24-A190-9CB1B1E2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BD0-0D3E-4A40-8B9C-7F44AFDE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C6B-A75C-4A7D-B089-3DEC2786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4E8-E515-4948-A36F-074CB466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8C3-7682-4191-A251-8B19D96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093-BC5C-4FD9-96CF-5EA89ED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BD0-4A1A-44C0-8E26-4BFFD0E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437-D176-44FC-9C3F-70A60ABA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455-D394-426A-9480-D246ECE3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B351-8745-4790-B3FB-C783A84D9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0.1b | Employment growth has steadily grown smaller since 1972, with the exception of hospitals, where worker growth rate increased since 200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4731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total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5486400"/>
            <a:ext cx="84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b | Employment growth has steadily grown smaller since 1972, with the exception of hospitals, where worker growth rate increased since 2000.</dc:description>
  <dc:language>en-US</dc:language>
  <cp:lastModifiedBy>Jia Yao</cp:lastModifiedBy>
  <dcterms:modified xsi:type="dcterms:W3CDTF">2013-09-06T15:03:48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b | Employment growth has steadily grown smaller since 1972, with the exception of hospitals, where worker growth rate increased since 2000.</vt:lpwstr>
  </property>
</Properties>
</file>