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880-C977-4B74-A666-BC3362DF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3E1-6426-469C-95B4-7904BDB6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503-ACE4-4F98-A188-6D139C50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55A-B086-4B2B-A3E6-8A3EDDB6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299-93A1-4FE5-8B3D-BDBDC16A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84E-EDFB-4126-838D-8A86E2B6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05A-1AF9-42C4-917A-01B25B5C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E3A-9F06-4E53-92E5-BB29F0C5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23E-A662-4761-9727-AC13C99F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090-8FA3-4697-8667-D62243C9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1B8-C4AF-4EFD-AEC8-019BFC8C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8043-513C-4C50-8576-0BBFF3DF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DB3-DCE6-4952-AFFA-CF1EC6D90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52280"/>
            <a:ext cx="9078840" cy="65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02Z</dcterms:modified>
  <cp:revision>31</cp:revision>
  <dc:subject/>
  <dc:title>PowerPoint Presentation</dc:title>
</cp:coreProperties>
</file>