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66F1-C80E-4B66-A4DD-B0EB7B8B5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8657-477B-4096-AB83-BA12EDD5AE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2a | Percentage Distribution of Total National Health Expenditures, by Type of Health Insurance and Other Sources of Payment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12A9-D13F-4E12-9C9B-CCFA3089C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7233-E486-43BE-8331-BEEFE7B4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D334-92CC-4C64-B77C-EBAEAEF4A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BAC0-F8F2-487F-A8C7-9857BB854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B853-6DAA-4FE2-8B03-B0EEA92A6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C82F-46EA-4D34-90C1-EC008E0E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E2AE-DAD3-4C70-8C80-F8A33557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EED1-9C6C-4A4D-B69F-A64B67E7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168F-5344-4829-8A90-F6926FB4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2978-FDB3-46DC-836D-F0477A27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BF5D-AEAF-4F38-8B12-AB452D61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C24E-0EBC-4405-B9EE-F19C41CF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6AB5-2DF3-4A64-B54A-A35FB4F1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4949-72EA-4D96-A24A-A08351DF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C352-A641-4E04-8918-707D51CD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DC95-D7EC-4647-90B2-CF2C72FE7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05E8-3697-42DD-8570-A43A8EB95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97C5-781C-4DB5-A2D5-42E73478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F5A5-1B14-4060-97CB-3ED42052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4053-BCD8-4105-BEF8-1065D586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28D2-089D-4EDE-8308-4143481C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4749-C8E5-4389-905A-414037EC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554E-5A7E-4ADD-B0A8-25D55086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09CC-424B-4EFF-9C52-FCAA69F4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EA01-49F2-42CC-90E7-9A0253F1AD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E561-3667-4D94-B3E5-AB24AA1B27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3.2a | Private health insurance pays for slightly less spending on personal health care (PHCE) than Medicare and Medicaid comb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6T21:10:21Z</dcterms:created>
  <dc:creator>Jia Yao</dc:creator>
  <dc:description/>
  <dc:language>en-US</dc:language>
  <cp:lastModifiedBy>Jia Yao</cp:lastModifiedBy>
  <dcterms:modified xsi:type="dcterms:W3CDTF">2013-09-06T21:10:52Z</dcterms:modified>
  <cp:revision>1</cp:revision>
  <dc:subject/>
  <dc:title>3.2a | Private health insurance pays for slightly less spending on personal health care (PHCE) than Medicare and Medicaid combined</dc:title>
</cp:coreProperties>
</file>