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159-21D9-4722-BA53-7B20AD53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3C5-6B22-47D5-8ACC-96328954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220-B107-4680-B76A-D2BF9534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31B-4578-49C3-8474-AA97B667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A26-1BE9-4546-BA71-AA776334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4FB-358F-4D5E-8F8B-83D1E02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907-8305-4DCA-BE9A-746734ED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17C-E574-4321-8DCF-5BB72404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CCA-8B25-4253-9ECE-E3720FC5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6BE-5587-4FDA-8A23-F8D7021E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479-B0A8-41C4-92E6-C89D571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A9F-A08A-4253-BE59-2CF0F51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99FC-7F47-4E51-A813-14BFBA3C0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0"/>
            <a:ext cx="9144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7Z</dcterms:modified>
  <cp:revision>37</cp:revision>
  <dc:subject/>
  <dc:title>PowerPoint Presentation</dc:title>
</cp:coreProperties>
</file>