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E88E-5FA4-4E75-BEB7-A4B05A566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2A | ALTERNATIVE MEASURES OF PRICE INFLATION FOR HEART ATTACK TREATMENT, 1983-199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5011-F70B-4762-9245-D355976AB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CD1-06EC-4612-AF22-314B9D7F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824-2308-477B-928E-B3B585D2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730-6AE5-4077-804F-1401EC48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B56-000A-4895-A1AF-B0515A53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BB2-9F6A-4E46-A499-C456CB28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69F0-D9D0-46E9-8832-4FA8960C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159-C38D-495D-90F0-C11923EE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A69-06DC-437B-A636-9958C99C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A831-791E-4781-9BB8-58CF9521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513-70D0-434B-8683-F97F7294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CC1-39E6-4C9A-B798-5799EF2F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183-685A-411A-AB02-F6521B54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E59D-C39C-4969-8FB9-E642C176C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7.2a | The price of heart attack treatment rose by anywhere from under 10 percent to more than 35 percent depending on how prices are measu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7883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1983=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73120" y="57960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, M McClellan, JP Newhouse and D Reml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ricing Heart At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reatments. Medical Care Output and Productiv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ational Bureau of Econo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earch. http://www.nber.org/chapters/c7634.pdf (accessed August 9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2a | The price of heart attack treatment rose by anywhere from under 10 percent to more than 35 percent depending on how prices are measured</dc:description>
  <dc:language>en-US</dc:language>
  <cp:lastModifiedBy>Jia Yao</cp:lastModifiedBy>
  <dcterms:modified xsi:type="dcterms:W3CDTF">2013-09-06T15:31:43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2a | The price of heart attack treatment rose by anywhere from under 10 percent to more than 35 percent depending on how prices are measured</vt:lpwstr>
  </property>
</Properties>
</file>