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B02F-708C-4355-BF7B-2E7731B078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1B | U.S. POVERTY RATE ACCORDING TO VARIOUS DEFINITIONS OF POVERTY, 1985-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9257-A1D4-4558-83D7-3507CCDA60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8FDF-204E-457E-ACD7-38E366F6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85EE-BC8F-4FBE-A707-EDA56E7F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8C75-6167-474F-BDCF-D799CCCEB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6290-E9DC-4D9C-A5AD-C2355FD2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560B-0097-4E80-9947-51B5BCD0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209E-4E5A-4243-B9ED-5E47CED7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C0E9-41A2-4DC2-B4A6-A246D8A3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6719-08D3-4F4B-9CB4-1B51140F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BB28-8AFB-47DB-A28E-25B9B58A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2C10-7493-4C5D-B8FF-36DA5627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35A4-FFD2-4F22-B572-8C939ECD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61E6-DF8A-4A1E-9F43-66D09F3F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02EB-0E37-46AE-BB8B-645AA71BBB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1b | How medical expenses are treated in measuring poverty has a negligible impact on measured trends in poverty 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4074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3716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U.S. population below poverty 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1b | How medical expenses are treated in measuring poverty has a negligible impact on measured trends in poverty rates</dc:description>
  <dc:language>en-US</dc:language>
  <cp:lastModifiedBy>Jia Yao</cp:lastModifiedBy>
  <dcterms:modified xsi:type="dcterms:W3CDTF">2013-09-06T15:16:50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1b | How medical expenses are treated in measuring poverty has a negligible impact on measured trends in poverty rates</vt:lpwstr>
  </property>
</Properties>
</file>