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F66D-4FD6-4A17-8BCD-A618FF9D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D5FD-74BC-4915-A1C8-1B95F94C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6A8A-A746-46AE-95C8-38ED6D1F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0CEA-1BB6-49B1-857D-197EF731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052B-4344-48D8-8220-63926DB0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2365-97A3-4540-B1C3-99FCCF2C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CF96-4EB7-4F00-B82A-7230E539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2CB6-6843-4637-BFC4-31687C29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E124-E625-4DF4-A23B-09357B1B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66D7-76AB-43DA-A76C-F9C7F29C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1976-2582-4ADD-AD97-ABE20126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806E-29C0-4EFE-A8F6-196F675C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3073-FB7D-4CF3-8058-2857CEAC2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320" y="1371600"/>
            <a:ext cx="9099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5Z</dcterms:modified>
  <cp:revision>26</cp:revision>
  <dc:subject/>
  <dc:title>PowerPoint Presentation</dc:title>
</cp:coreProperties>
</file>