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F43-5F00-4CAC-9609-10282A3D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072-2EF9-4BF0-941E-858553E9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AA7-8875-4BAA-8D50-9373DB5B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22C-B4E3-461E-BB8F-3FC1A544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9BF-0F6E-48E4-ACF4-8216721A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3B5-0E3E-461E-A627-6035329C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B43-0146-4AAC-901B-915A96A7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158-9A0D-4BCC-826B-10F20D60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F46-49AF-4DCD-8A4C-A3F0A080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664-87D7-4ED6-BD4F-F2DE00FA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88F-9DE8-44B8-BC4B-897A6DCB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052-F65F-4A30-975A-A9069B94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36FD-1960-44D1-9EEE-69C38A324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152280"/>
            <a:ext cx="90313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9Z</dcterms:modified>
  <cp:revision>39</cp:revision>
  <dc:subject/>
  <dc:title>PowerPoint Presentation</dc:title>
</cp:coreProperties>
</file>