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985B-C9A3-44EE-9CAA-743733FA7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E59-C924-44EC-ABDF-7A4430CD00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b | Percentage Distribution of Health Insurance Coverage, by Type and Age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861-68FA-4E77-A29E-D230A53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8BE-0576-45AF-A54D-79E1A56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149-EC31-4031-AF93-A005A62B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836-59CC-42B6-9569-82BDB9DC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A1A8-BE76-4FED-A332-227CA91C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7E2-E3CC-44A8-994B-5F7CBD2A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D905-1209-4DA3-BBCA-FE2C582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7C82-A861-48F6-8558-4D57355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109-3B5E-4B54-A8C1-169E0A76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21F5-C540-441E-8ABC-20B7FBE7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2ABF-C3FA-432A-BCBB-74166E63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B36-0D07-4D02-AE6F-55C46E4F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EC13-933B-484B-897A-C999458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3BA2-ECBC-42AA-9895-62625E5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A883-10AF-4B7E-A065-F42475E0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034-B971-4BD9-BA04-92A2BAB1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01E-081A-4ACB-B387-778F83DA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812-C442-458A-B550-E700E9A8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DDB-2E48-44B9-BB56-A08ED92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EDB-0335-4EAF-A5BB-DF076349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2AA-E2F0-483A-9224-B3C762F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9D3-035E-4226-AD9D-981D8860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AC8-74AC-400D-8FEC-550AFF1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B56-B23A-4762-ADB8-FAFC40C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ADAB-C495-4317-AF84-E394287F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B3F5-BFCD-4A3F-B67D-40C969B36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2b | Children and the elderly rely much more on public health insurance than adults under age 65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58760" y="70488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457200" y="6172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igures add to more than 100% for each age category due to individuals with more than one form of health insurance cover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2b | Children and the elderly rely much more on public health insurance than adults under age 65</dc:description>
  <dc:language>en-US</dc:language>
  <cp:lastModifiedBy>Jia Yao</cp:lastModifiedBy>
  <cp:lastPrinted>2002-05-16T21:44:34Z</cp:lastPrinted>
  <dcterms:modified xsi:type="dcterms:W3CDTF">2013-09-04T21:03:4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2b | Children and the elderly rely much more on public health insurance than adults under age 65</vt:lpwstr>
  </property>
</Properties>
</file>