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A3DB-75D4-42CE-8697-AC47E3F8C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4 | CHANGES IN PRODUCTION OF HEALTH CARE, GOODS, SERVICES, AND GDP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50F6-5F63-465B-8D9C-A61A4A72E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275-BECE-4995-8115-6C4B6E8E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381-DBE9-4929-839A-CC546EDF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A7C-C542-444D-B567-31ED0E87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1DB-F448-4088-B127-A9FE9875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0BA-2D4E-4CDF-A3D8-4E0FEC59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C91-F7B0-48EA-9FC9-4110D46E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466-0CE0-4DAF-9106-0BDCD71E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351-7B9A-4529-A228-A2D6B810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35D-EE7A-4A8D-8305-495F2A03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EA8-08B5-4D44-9CB0-BDA575D1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D9A-028E-4622-B664-DD2AB9F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4C7-28EB-4D26-8201-6EE7F414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2AE7-E1BB-4EDC-82DD-D6017EBE5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4 | Output in the health sector has increased much more rapidly than in goods-producing industries, service sector or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63604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44792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hained quantity index (1929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4 | Output in the health sector has increased much more rapidly than in goods-producing industries, service sector or GDP</dc:description>
  <dc:language>en-US</dc:language>
  <cp:lastModifiedBy>Jia Yao</cp:lastModifiedBy>
  <dcterms:modified xsi:type="dcterms:W3CDTF">2013-09-06T14:09:56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4 | Output in the health sector has increased much more rapidly than in goods-producing industries, service sector or GDP</vt:lpwstr>
  </property>
</Properties>
</file>