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C04-01DA-470B-88B4-B0270055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6D3-C744-4D88-A89D-ACAFC090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5E9-3174-4A26-BE17-6E706521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1BB-7EED-47BA-B2D8-CE0AA5B2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8C8-3E21-4E5C-891E-449230B9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126-93C1-45F9-B08C-D383FB4F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149-4B26-49CD-A442-612C5E47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7A6-374E-4C73-BA18-167AA16E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30C-07B8-4206-9062-718C91DE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53C-A8D1-4826-9C12-F9E55D27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F14-A8C9-4A85-9B33-3902ABC5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F04-FA0E-4632-B68A-F4EA66CC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FB43-F726-4C82-9E97-8617009ED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202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3Z</dcterms:modified>
  <cp:revision>18</cp:revision>
  <dc:subject/>
  <dc:title>PowerPoint Presentation</dc:title>
</cp:coreProperties>
</file>