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79409-9D02-4D06-9631-D150F76560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9.9B | MAJOR DETERMINANTS OF LIFE EXPECTANCY AT BIRTH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FBE90-EAA8-4D80-8B64-B1E9B01FCA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A1DCB-EAE1-46C0-AAAE-8A6A7C4C4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BD642-E5D5-4D89-A89E-398BBFFAF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023C3-C929-4D24-9106-5024401CB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25D51-9121-4357-AB85-1DF8726D7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0DE02-23BF-4766-B307-1ABF04E37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4902E-B148-40D1-A13D-8CFB49AEB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B8DC6-EE46-4DF3-86BB-ED48D6B1D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F6C32-B9D7-4F04-8954-B0043C94B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36001-4B5F-4B98-8F27-AF47EB36E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32279-C00A-495E-AA17-D1992F832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00362-396A-4645-9800-CFE9B195B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DA58D-B9D4-41D9-803E-2C7880714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A30AD-6522-41AF-BC9E-DFBB283EA5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dx.doi.org/10.1787/240858500130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9.9b | Other determinants of life expectancy at birth are of equal or greater importance than the availability of doctors and nurs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320840"/>
            <a:ext cx="8331120" cy="558792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533520" y="1600200"/>
            <a:ext cx="75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ercent change in life expectancy at birth per 10 percent change in fact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>
            <a:off x="560160" y="5759280"/>
            <a:ext cx="8312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Joumard, I., et al.  (2008), "Health Status Determinants: Lifestyle, Environment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ealth Care Resources and Efficiency", 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OECD Economics Department Working Paper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. 627, OECD Publishing. doi: 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10.1787/24085850013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6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3T16:26:20Z</dcterms:created>
  <dc:creator>Kristy</dc:creator>
  <dc:description>19.9b | Other determinants of life expectancy at birth are of equal or greater importance than the availability of doctors and nurses</dc:description>
  <dc:language>en-US</dc:language>
  <cp:lastModifiedBy>Jia Yao</cp:lastModifiedBy>
  <dcterms:modified xsi:type="dcterms:W3CDTF">2013-09-06T15:41:12Z</dcterms:modified>
  <cp:revision>658</cp:revision>
  <dc:subject/>
  <dc:title>19.1a  Cost per Life Year Gained from Increases in Health Spending in the United States, by Age, 1960-200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19.1a  Cost per Life Year Gained from Increases in Health Spending in the United States, by Age, 1960-2000</vt:lpwstr>
  </property>
  <property fmtid="{D5CDD505-2E9C-101B-9397-08002B2CF9AE}" pid="3" name="SlideDescription">
    <vt:lpwstr>19.9b | Other determinants of life expectancy at birth are of equal or greater importance than the availability of doctors and nurses</vt:lpwstr>
  </property>
</Properties>
</file>