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6F25-8EDE-456F-83CA-EB14BA52E5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3B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385D-1E78-44E4-8611-B1E39BB40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DF0C-EC37-44D7-AD22-2ABA423C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E10-2CF0-4C1B-828D-D7CEECA3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D97-277B-4D90-A2A3-FF7A8078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6324-D89C-4625-B8CF-D38A07F7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DD0-7097-4337-A15E-E2917F60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B845-1F76-4A77-B5AA-EDA3502F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977-3392-47DA-ABDA-57AC6F67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DAD-0961-47FC-B500-0739CA43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B58-66F7-493C-806F-A7BF8445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4C85-EA74-4D46-9EC2-B1041FB6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B9B-4062-4525-99E3-88536147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74A7-6457-4B87-B972-6550EAAD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0DDB-36E8-468A-BF73-72F5BB8D3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3b | As a producing industry, the value added by health services has grown more rapidly than for goods or non-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295280"/>
            <a:ext cx="594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alue added as percentage of private industry output (based on current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3b | As a producing industry, the value added by health services has grown more rapidly than for goods or non-health services</dc:description>
  <dc:language>en-US</dc:language>
  <cp:lastModifiedBy>Jia Yao</cp:lastModifiedBy>
  <dcterms:modified xsi:type="dcterms:W3CDTF">2013-09-06T14:09:54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3b | As a producing industry, the value added by health services has grown more rapidly than for goods or non-health services</vt:lpwstr>
  </property>
</Properties>
</file>