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5C32-CB31-4919-96B5-95B871AF8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5A | PRIVATE HEALTH INSURANCE COVERAGE OF NON-ELDERLY ADULTS AGE 18-64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74B-BB20-4B55-BF8D-C33A13D65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9D1-83CB-457F-9FAD-F9055A82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C58-C630-4570-A636-D10D107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04A-8058-430C-BCC4-990D5029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F30-56E3-4E37-B99E-02613A00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CE3-67B1-4E32-ADB8-4A695C5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A7B-C67E-4A33-ACE7-21AE9D4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1D5-35E2-462F-A6A8-EE9E06D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0F3-F652-485E-B714-1C71DECA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029-7470-4E7A-80F6-43D4AD1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97B-6196-4716-B718-214E29F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99AD-C947-46FB-A75D-0048813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F4E-6B08-40AF-BA47-5807474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6940-8F9A-4D65-895E-207012638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5a | Poor adults under the age of 65 are more than three times as likely to be uninsured all year than to have employer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5a | Poor adults under the age of 65 are more than three times as likely to be uninsured all year than to have employer health coverage</dc:description>
  <dc:language>en-US</dc:language>
  <cp:lastModifiedBy>Jia Yao</cp:lastModifiedBy>
  <dcterms:modified xsi:type="dcterms:W3CDTF">2013-09-06T15:17:03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5a | Poor adults under the age of 65 are more than three times as likely to be uninsured all year than to have employer health coverage</vt:lpwstr>
  </property>
</Properties>
</file>