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266D-B534-4310-89AF-F18685DD7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42FF-C5F1-443D-8618-34422CBEB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B95-0A60-447B-B452-82C461A7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9C7-E312-4540-92BB-C020D9F0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103-B898-495A-A55A-E3DECD0F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372-6913-488F-B89D-580105F6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3601-211D-4783-B1AB-B49D6075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866-D715-41DD-9B2B-3B5D1646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BE3-11F5-4FF9-83BB-3A10E1F9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00D-643C-46B7-8308-7747C431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F57-069C-4996-A089-755D4753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2F4-8977-42BA-935A-991432AA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203-6226-4B36-92C3-5E7601E2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0C9-1CE8-4F5E-BD37-A03937D9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0E3C-EC4F-4F0A-870F-FBF25789E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6b.png"/>
          <p:cNvPicPr/>
          <p:nvPr/>
        </p:nvPicPr>
        <p:blipFill>
          <a:blip r:embed="rId1"/>
          <a:stretch/>
        </p:blipFill>
        <p:spPr>
          <a:xfrm>
            <a:off x="1447920" y="380880"/>
            <a:ext cx="6819840" cy="51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19280" y="43344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c | Percent of adults age 15 and older who are daily smokers, United States,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77360" y="5495760"/>
            <a:ext cx="861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-Specific Prevalence of Cigarette Smok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Smokeless Tobacco Use Among Adults --- United States, 2009.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rtality and Morbid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eekly Repo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ovember 5, 2010 / 59(43);1400-14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dc.gov/mmwr/preview/mmwrhtml/mm5943a2.ht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8:54Z</dcterms:created>
  <dc:creator>Jia Yao</dc:creator>
  <dc:description/>
  <dc:language>en-US</dc:language>
  <cp:lastModifiedBy>Jia Yao</cp:lastModifiedBy>
  <dcterms:modified xsi:type="dcterms:W3CDTF">2013-09-10T20:49:20Z</dcterms:modified>
  <cp:revision>1</cp:revision>
  <dc:subject/>
  <dc:title>PowerPoint Presentation</dc:title>
</cp:coreProperties>
</file>