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BCA-856C-4F34-892C-E3051EE1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B78-7BAF-4C51-BA96-9AF06D6B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1C9-FA08-4D24-8E45-4B50241A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DA0-46D4-4A95-9566-9B6D6C2A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EA5-8DD5-45DE-89F0-BD54DCAA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81F-D6CC-460F-97CF-7AC5991F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0C3-2822-4B49-A6D5-5CADF584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677-819F-4D66-A912-F88A590E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ED7-5466-4860-9EAE-3F876365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CD8-C40A-4DA0-8C5F-877ADB38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8671-7DCA-4F5B-A3D1-9C07C369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86F-ACB2-4C55-B6B1-BC9E04B8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35D9-CB70-4C35-8038-64F399FF4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9Z</dcterms:modified>
  <cp:revision>14</cp:revision>
  <dc:subject/>
  <dc:title>PowerPoint Presentation</dc:title>
</cp:coreProperties>
</file>