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8662-3BF1-42EC-BE2E-B835DE3B9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b | Distribution of Net Burden of Health-Related Expendtures by Family Income Decile, by Type of Payment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9B12-6023-4103-ABB3-4DDAA928B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3B8-20DA-4DED-8F9F-A3565772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DE7-4AD0-4B39-BBBC-76DF0D84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B35-B7EC-4A43-9A64-885AAF11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DC3-78B8-4153-B250-4525ADC5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5F1-B9B6-4CDC-A39E-5322D650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7B8-9F3E-4CE8-B70E-67375155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F05-62A3-4502-AD64-4B9736B4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8F3-21AD-4CDD-B740-3D2B52C8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C87-168E-4177-A655-2A265D2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B8F-3962-4BDC-BED4-70FB611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34F-643B-45CC-98C2-DC2901D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D6A-6050-4A2C-9746-67F99D0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36D6-74FE-4353-AF17-CCA65C6EE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2b | Even for the lowest-income families, health-related taxes account for more than one fifth of the net burden of paying for health  ca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72960" y="1197000"/>
            <a:ext cx="833148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76280" y="535932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12800" y="17413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net burden of health spending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60520" y="579132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b | Even for the lowest-income families, health-related taxes account for more than one fifth of the net burden of paying for health  care.</dc:description>
  <dc:language>en-US</dc:language>
  <cp:lastModifiedBy>Jia Yao</cp:lastModifiedBy>
  <dcterms:modified xsi:type="dcterms:W3CDTF">2013-09-06T15:12:5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b | Even for the lowest-income families, health-related taxes account for more than one fifth of the net burden of paying for health  care.</vt:lpwstr>
  </property>
</Properties>
</file>