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434-18A6-47F5-84B8-5A31A14C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3CC-1F57-4BCF-8A02-E4231A2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D99-7547-4247-9255-8450BA97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160-086D-4F5A-ADD9-F9EF6D85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F58-9A06-4926-9602-92CCD8B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332-524D-4204-9646-E0D3FE6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E4E-7762-440C-9844-19B5D1B1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10F-2E5E-4490-9775-37E266D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651-727A-4671-A053-70015C0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78B1-882F-4048-8637-18701055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E78-93EB-416C-BC9E-A937C14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F564-FDEC-472D-9F73-F21AB00F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50FF-01F3-4010-9517-3D12299E1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0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8Z</dcterms:modified>
  <cp:revision>37</cp:revision>
  <dc:subject/>
  <dc:title>PowerPoint Presentation</dc:title>
</cp:coreProperties>
</file>