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D46F-4490-49C0-ABED-18A033C35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F4A5-25DF-4EA8-90F4-88E663E32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3C84-0EE6-421D-BE68-2164C35FA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0845-CE9D-49B2-AA32-9EF402C03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F571-E0B7-4423-B129-2955D522B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6B98-9DCC-4BAE-8D5E-646E8770D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2A8F-A072-468A-8F70-3693DC61F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5FF2-7802-4EE3-881E-FA83B7F08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7BA9-8402-43E3-A690-90B2B60B9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2ACE-6167-4FCB-A77C-7A966F19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7ED1-2E19-4DD7-87DC-90A3CE66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5020-0503-448A-83CB-D1CDE749A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48714-E964-43D3-8006-CED0F57B82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9080" y="0"/>
            <a:ext cx="9105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0:06Z</dcterms:modified>
  <cp:revision>10</cp:revision>
  <dc:subject/>
  <dc:title>PowerPoint Presentation</dc:title>
</cp:coreProperties>
</file>