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793-F021-4DE4-B94F-C038F870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F29B-10C4-4E04-9BBB-16D8F845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257-A3FB-4F8C-9EFC-9BC940B4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81A-DB7A-4259-B84A-4CBD2E74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EB8-2F55-4F37-8587-AA2F0C51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967-4D4E-4FD7-92DF-CCD9DC63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CB7-49A0-472A-A3DD-76B352DA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D18-29A1-4BA9-8188-38C2F3FD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F6B-6820-4D9E-BC2C-01A326F1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5D2-738A-4A38-8A0B-C4F6E595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A93-A4DC-4E1D-8D57-A6628A64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B40-2854-4EEF-ACA1-93F3C3A9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9B0F-367E-4750-A1B4-753233B70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3Z</dcterms:modified>
  <cp:revision>31</cp:revision>
  <dc:subject/>
  <dc:title>PowerPoint Presentation</dc:title>
</cp:coreProperties>
</file>