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5E9F-149C-4C1E-9588-756F137FE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38F3-3D20-4328-BBBC-5E6251983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D3BD-DDE3-4B99-A98B-5374D508E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5CDE-D215-4690-8C98-C24791778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FB69-46BE-4ED0-B3E0-4C5C4B2EA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AA16-5BD6-4A20-9AE2-B401BB3C0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D50A-8401-4C99-AB2D-F96D4861D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A067-5C07-49C9-90C7-9E31A9305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C89B-7467-43C8-93CA-B3CF36774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A2E3-E876-4164-A680-D286EC6E4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5254-923F-4C3A-B2BA-5DCDD4C5B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D572-A974-4BBE-A3D7-3E1B34C68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15CF1-096B-4FB5-9B63-78F4B5A4B6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58680" y="0"/>
            <a:ext cx="902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2:44Z</dcterms:modified>
  <cp:revision>30</cp:revision>
  <dc:subject/>
  <dc:title>PowerPoint Presentation</dc:title>
</cp:coreProperties>
</file>