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951-494A-46F7-B79B-D46AEEC2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265-9137-4BB7-A818-4CE3C58D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B24-9959-49B9-AEA0-2763E74D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A95-B840-4037-A714-56362B07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6E2-258B-4037-8C0A-97C5A545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FC5-F7ED-44DD-B382-9C33812D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947-A32D-4F95-9851-B95425CC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3F7-9E2F-42D8-8746-CA15856F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174-A80B-4C43-898D-1C954CA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241-2BEE-48D7-93B8-C9D7F90D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5DE-F51C-4C8E-B49C-461CC93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468-7BA5-4DB5-BFFB-1C85AB3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708E-B35C-4EE9-8BC0-41FEEAB51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360" y="152280"/>
            <a:ext cx="9125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2:07Z</dcterms:modified>
  <cp:revision>37</cp:revision>
  <dc:subject/>
  <dc:title>PowerPoint Presentation</dc:title>
</cp:coreProperties>
</file>