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DC7-0A17-4694-B2A6-6EA813690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B | FITTED REGRESSION LINE FOR HEALTH EXPENDITURES PER CAPITA AND GDP PER CAPITA, OECD COUNTRIES WITH SUBNATIONAL COMPONENTS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A5C7-FD94-4A8F-9FE7-40084B949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988-F3BB-490B-8279-D9ADB310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351-DEE2-446F-8694-27023932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E41-1E58-497A-942D-340D6588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D4D-5ABB-41B6-93AA-642A805A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769-FB5D-42C8-8680-79E4AAB8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628-93C7-4BA1-BFB8-C14B08AB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286-53BC-4E3B-A968-721DB3BB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BE7-6F13-4AE9-9AAD-C54620DE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C8D-90B3-4201-B6DC-5499B1A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A15-7903-4584-97D3-C6B4CF0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D22-A1F6-4B33-86FB-4A0183B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A89-0065-4AF2-8B64-B1B248C9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47DF-CC71-4EF7-B09B-39E4C11FD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b | Once sub-national areas are taken into account, U.S. health spending is almost exactly where it is expected to be given U.S. GD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0"/>
          <p:cNvSpPr/>
          <p:nvPr/>
        </p:nvSpPr>
        <p:spPr>
          <a:xfrm>
            <a:off x="674280" y="1676520"/>
            <a:ext cx="67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S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b | Once sub-national areas are taken into account, U.S. health spending is almost exactly where it is expected to be given U.S. GDP</dc:description>
  <dc:language>en-US</dc:language>
  <cp:lastModifiedBy>Jia Yao</cp:lastModifiedBy>
  <dcterms:modified xsi:type="dcterms:W3CDTF">2013-09-06T15:40:5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b | Once sub-national areas are taken into account, U.S. health spending is almost exactly where it is expected to be given U.S. GDP</vt:lpwstr>
  </property>
</Properties>
</file>