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56A9-9C4E-444C-943B-9C00B0D27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B | TRENDS IN PROFITABILITY: RETURN ON ASSETS AMONG FORTUNE 500 PUBLICLY TRADED FIRMS FOR HEALTH-RELATED SERVICES 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64B5-9AB0-4AC2-9E82-12A132FFC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80C6-0A3F-4F55-844B-1A9C9054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023D-3562-48AD-B992-778D4729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D899-7717-41E5-95D3-FC2D00B6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6470-021D-4348-8E6C-EC3762AF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A33-EB7E-4936-AA57-F5A50215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EE7-54CD-4261-B4C9-BF6649C1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F1D-BEEF-4CE6-BE3A-AD28F752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9E21-3C57-40C7-A821-618EF46A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8A1-17D6-4C3F-B082-5425F235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3C7-02FC-4109-BB04-8FE25747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C69-2ED6-4E81-9A0B-39BD6E02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F44F-DB8D-411B-BA58-0FD5D975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F2CB-7728-4CED-9639-103A6D20C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6b | Among health-related services, retail pharmacies generally have the highest return on assets and medical facilities the low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40744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143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assets (ROA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439560" y="5283360"/>
            <a:ext cx="851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labels indicate industry’s ranking on ROA for year shown (rankings not available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9-2011). While the number varies slightly by year and profitability measure, roughly 50 indust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re included in each ran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b | Among health-related services, retail pharmacies generally have the highest return on assets and medical facilities the lowest</dc:description>
  <dc:language>en-US</dc:language>
  <cp:lastModifiedBy>Jia Yao</cp:lastModifiedBy>
  <dcterms:modified xsi:type="dcterms:W3CDTF">2013-09-06T14:17:09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b | Among health-related services, retail pharmacies generally have the highest return on assets and medical facilities the lowest</vt:lpwstr>
  </property>
</Properties>
</file>