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AC60-0F0D-4CA0-A937-BD41A1EB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A965-3457-4906-BCDF-E32BE563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0D00-BDC7-4370-9B91-5497FDA5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9AFD-3C4B-424C-B249-08AFC89A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7439-AFC9-4E9A-B5C1-ADF9512C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3F03-78C1-4C0D-A55F-E40259F9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2F01-06F3-411C-B784-F6B83796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6B1C-98B8-4635-99D1-CBCD3AFE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1490-6464-4C15-BF61-02E8F182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0ADC-03F7-47C0-A1F6-97FFB25C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EE4A-9C8B-435A-A5E7-C08B8F05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0999-00FA-460D-8927-AB2E7BA5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15E7-1D0D-42F7-B493-9B5F8EB72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46320"/>
            <a:ext cx="914400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4Z</dcterms:modified>
  <cp:revision>35</cp:revision>
  <dc:subject/>
  <dc:title>PowerPoint Presentation</dc:title>
</cp:coreProperties>
</file>