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E3CF-DF12-468C-A509-91A4FE9904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6.1B | COMPONENTS OF PERSONAL CONSUMPTION EXPENDITURES, 1929, 1969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EBE3-B39A-4483-8CA1-5DA1BB8BBE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E2FC-4840-423E-9D6A-083C19C08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0EFB-3B16-41F6-9053-EC822EC4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8F81-B01D-46A1-ABAF-EF1ABE82B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D47E-78DA-47BF-963B-DD69B5217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4492-CC4D-4800-8353-92B732D7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99B2-30C0-4367-89BA-D97C0F65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D662-BDE3-489C-9EE3-BAE00963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2F24-504E-4FE5-8201-C2F9636F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1DA9-F8AB-4BCD-A350-1ADC36AA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37BC-5823-4EA9-A5CC-AC0AE3C4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8147-C7B8-455D-9210-500F280C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4282-BE00-4B30-9888-62D67C07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7BDF-82A6-4063-B543-322F46252C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1b | The health share of consumption spending has grown as the portion for food, clothing and shelter has decl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7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43528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762120" y="617220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ajor components of personal consumption expenditures (listed [left to right] by amount in 2010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1b | The health share of consumption spending has grown as the portion for food, clothing and shelter has declined</dc:description>
  <dc:language>en-US</dc:language>
  <cp:lastModifiedBy>Jia Yao</cp:lastModifiedBy>
  <dcterms:modified xsi:type="dcterms:W3CDTF">2013-09-06T14:06:11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1b | The health share of consumption spending has grown as the portion for food, clothing and shelter has declined</vt:lpwstr>
  </property>
</Properties>
</file>