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83B-BFE8-49ED-9D0E-FCC6AB07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E32-AAD5-416D-BDAD-250E2A73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853C-77E7-4AB6-9167-D001381F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DF2-3656-45EB-87F0-A4EEFB29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615-E5F9-4B32-BD51-6F7AC86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37F-660A-4DC1-A992-781F0C6C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A40-238A-4805-9ED3-BBC84A91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16B-616B-45B4-8926-9BE5FC21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5E2-D062-4396-B24C-7E58059E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44D-99F2-40FA-8B43-54A1FA55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C6E-5058-4AC3-9E32-1C96E286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084-2708-4F89-A013-3511B635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D4E0-3783-4B59-9A1B-1925CB906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77320" cy="63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9Z</dcterms:modified>
  <cp:revision>31</cp:revision>
  <dc:subject/>
  <dc:title>PowerPoint Presentation</dc:title>
</cp:coreProperties>
</file>