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952D-4B2C-4C1C-822C-D49E8FDF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E020-8FAF-44E6-85F5-0A7A1E0C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6FEC-E2F1-48EC-8E76-7DC20D32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472B-4AC2-48A2-B2A8-DE46DB0F1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F9DC-F3A3-43B0-874E-0B0A8A62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85A0-4C4C-4E5B-B32A-214CD46E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E812-01CC-4978-A350-49EC553D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EE83-1FC3-445E-9820-BE9F4C59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67B1-A43C-40E2-BB08-C30AB0C4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8338-1C5E-481B-B79B-4A1E4974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F3B8-1BB2-4AC8-BB58-834A0EBA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9CD3-B174-49A0-A8C8-779D63E9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C58D-849F-4C91-BB8D-77C60DB83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4920" y="22320"/>
            <a:ext cx="856296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29Z</dcterms:modified>
  <cp:revision>37</cp:revision>
  <dc:subject/>
  <dc:title>PowerPoint Presentation</dc:title>
</cp:coreProperties>
</file>