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75C3-F9C6-4B32-8B9E-EE3952B50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3B | UNEMPLOYMENT BY SEX, OCCUPATION AND INDUSTRY, 196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5591-C1E1-40B3-9514-8C3319C1EB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D320-BAC4-43A2-BAA4-BB3DC989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348-4750-498C-88C6-849A5BF6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3D85-A77A-4618-9AC8-FFB1FF88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007-D02E-4DFF-AAEC-1AAAD33B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9B8A-4D71-481E-A7B8-739AAB61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BC84-05D7-47B6-A4C1-8D5371FA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278A-245A-4AF4-BC2E-2DC7B9D9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F54D-98BB-4AD0-8CBB-D69DED09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5C3-FE0D-4993-8F52-007704DA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0458-A7D0-40B4-9F17-0CEA0D1D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FBA2-0F50-473D-8A3E-0C2E9F03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FC5E-8AFD-42E3-ABFB-CDAF7B36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DE71-9E01-4AAE-B811-79BA747EE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6.3b | Unemployment rates among females working in health services, but not hospitals, are higher than for females overall; this has not always been tr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978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unemployment rate within industry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3b | Unemployment rates among females working in health services, but not hospitals, are higher than for females overall; this has not always been true</dc:description>
  <dc:language>en-US</dc:language>
  <cp:lastModifiedBy>Jia Yao</cp:lastModifiedBy>
  <dcterms:modified xsi:type="dcterms:W3CDTF">2013-09-06T15:28:52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3b | Unemployment rates among females working in health services, but not hospitals, are higher than for females overall; this has not always been true</vt:lpwstr>
  </property>
</Properties>
</file>