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5947-49FF-43D8-BA94-EF4AB8D28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5A | SELECTED MEASURES OF HEALTH SYSTEM PERFORMANCE, BY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5FE9-C10F-4903-A430-85437AA88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A21-7DA9-44A9-A23E-C3B26161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50C-0B68-4993-83E2-B1F8C57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1AF-6ED7-4381-A22F-6B4E9393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116-5881-4EE1-BADB-9637292C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A68-0DC3-4152-806F-E7D1368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94D-98E5-4284-A075-F6DD8372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9BD-97EC-434B-80E5-F3D1D2A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7545-3EE5-4A05-AA09-27C490E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0CD9-CE71-41FA-9194-006C5C4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385-6D98-434A-B9B0-1AC16B61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4A3-925C-4A1E-A111-02271611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86B-D6B7-4C36-83D2-C6ECFA5B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A53F-76E9-4D28-ADFD-39D52EB8F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5a | There are large differences in health system performance across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38280" y="5638680"/>
            <a:ext cx="817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nited Health Foundatio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’s Health Rankings 2009: 20th Annivers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d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http://www.americashealthrankings.org/2009%5Creport%5CAHR2009%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%20Report.pdf (accessed June 15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13064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: 100=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5a | There are large differences in health system performance across states</dc:description>
  <dc:language>en-US</dc:language>
  <cp:lastModifiedBy>Jia Yao</cp:lastModifiedBy>
  <dcterms:modified xsi:type="dcterms:W3CDTF">2013-09-06T15:41:3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5a | There are large differences in health system performance across states</vt:lpwstr>
  </property>
</Properties>
</file>