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308-5FC1-409E-BC51-667C696D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9A1-5338-41F2-BAC7-8DE16C9D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761-2450-4F1C-848C-D2C360F8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2BF-F84B-4E70-8E3B-97AB0EB7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F1A-E8ED-4018-96E4-71339381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2A3-A4C1-437A-914F-19BF5C3D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A72-DE12-45DC-8857-AAE6C779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580-E1A0-4C71-B122-730C6D1C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73C-C021-4C2A-94F6-F9EC8660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74B-8235-4006-9564-0A8AD71F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36D-8CE4-48AB-88FD-C61A6FF1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709-19B2-4901-989A-E7438272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11B4-9ED2-442A-A163-B10C333D3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1600"/>
            <a:ext cx="91058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8Z</dcterms:modified>
  <cp:revision>30</cp:revision>
  <dc:subject/>
  <dc:title>PowerPoint Presentation</dc:title>
</cp:coreProperties>
</file>