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B70-F236-4E75-BD7F-C1E578128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6A | TRENDS IN PROFITABILITY: RETURN ON REVENUE AMONG FORTUNE 500 PUBLICLY TRADED FIRMS FOR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EALTH-RELATED SERVICES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DUSTRIES, 2005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21C-983D-4573-824B-19E35B449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2BA-6A79-409C-ABCC-540931C9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C27-8BB2-4198-A25A-086F46CA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29E-2D60-475D-B7B3-42EA7C46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371-F3D6-44A2-8352-1F15EAE9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2F3-715D-4CE5-B34E-8DDF0AA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812-F606-4E03-817E-29901C05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C09-D833-466D-A3FF-DF7EDB1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422-645B-456C-B711-EE6EDEBD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FAD-389C-4AF9-8241-9E3FA5D3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AD6-A3B3-43AB-AE90-3F5662F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ED3-904D-4798-9A53-76631A4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C08-AC9B-4B63-A223-F5879D1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30C-EF98-4959-AC20-939ADB183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8.6a | Among health-related services, profit margins generally are highest for health plans and lowest for health care wholesal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27080" y="1092240"/>
            <a:ext cx="8788320" cy="5816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67000" y="114300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 of revenue (return on revenue), Fortune 500 publicly traded 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33520" y="6342120"/>
            <a:ext cx="83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ortune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tune 5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Available at: http://money.cnn.com/magazines/fortune/fortune500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6a | Among health-related services, profit margins generally are highest for health plans and lowest for health care wholesalers</dc:description>
  <dc:language>en-US</dc:language>
  <cp:lastModifiedBy>Jia Yao</cp:lastModifiedBy>
  <dcterms:modified xsi:type="dcterms:W3CDTF">2013-09-06T14:17:07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6a | Among health-related services, profit margins generally are highest for health plans and lowest for health care wholesalers</vt:lpwstr>
  </property>
</Properties>
</file>