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01F-DE74-4CCE-A687-907FE198A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3a | Direct Health Spending as a Percentage of Family Income, by Income Quintile, 1984, 1996 and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F57D-B833-4DF4-A6CF-7AD904079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2DD-5373-4355-AC62-E76E79BB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438-AC51-404B-B344-4EB81D9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460-8F11-418F-B5BA-BC8EF45C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B63-CABF-41D2-9F6D-2DD3C19B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C06-D94B-4025-9E94-163CF0D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BA8-B5A7-4ACA-B8DA-8EB78D3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B9F-9261-46E7-A006-F6BD3C8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FD6-6D27-4FA0-BA70-02B32279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2E81-1AE3-4951-B970-F1D684A4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FB8-EF82-4D01-AF74-DF1609DD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C4F-246A-4034-B868-E27CAA9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5C7-97E5-4CC3-98B7-6336055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67B-F0D7-4216-AD44-F331E9C34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3a | Direct health spending has been declining as a share of family after-tax income for families with the lowest in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85720" y="157644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rect  health spending as a percentage of family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3a | Direct health spending has been declining as a share of family after-tax income for families with the lowest incomes</dc:description>
  <dc:language>en-US</dc:language>
  <cp:lastModifiedBy>Jia Yao</cp:lastModifiedBy>
  <dcterms:modified xsi:type="dcterms:W3CDTF">2013-09-06T15:13:01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3a | Direct health spending has been declining as a share of family after-tax income for families with the lowest incomes</vt:lpwstr>
  </property>
</Properties>
</file>