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17DA-E556-4205-8B23-1AE654D86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b | Direct Health Spending as a Percentage of Family Consumption Expenditures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4201-023F-4A2D-B25C-2B61BFE88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C8C-3F9C-4FA6-A28D-A2DC175C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DFB-54B3-4F69-8AB7-8D976F68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601-DBDC-4336-AD22-632A6DA3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C75-6DE1-4D72-AA5F-CF113CF9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87D-4F22-4632-BF91-4391C996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D01-6DEB-4E9D-9425-39BD0E17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8FF-F81F-4450-A48D-F6A9D591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445-D231-453B-9BF4-48B78844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096-B3F7-42FD-ABA7-DF75619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450-E5E6-412C-96F3-1AFC9C6C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3951-B8F3-40C4-9244-9D568A61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DB3-41A9-4690-9430-C9D1767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C5A3-B205-44EE-9727-80065259D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b |  The burden of health spending is far smaller when compared to consumption rather than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4597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health spending as a percentage of family consumption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0440" y="579132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Direct health spending includes only the family share of premiums paid for private or public health insurance, along with all out-of-pocket spending on medical ser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b |  The burden of health spending is far smaller when compared to consumption rather than spending</dc:description>
  <dc:language>en-US</dc:language>
  <cp:lastModifiedBy>Jia Yao</cp:lastModifiedBy>
  <dcterms:modified xsi:type="dcterms:W3CDTF">2013-09-06T15:13:0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b |  The burden of health spending is far smaller when compared to consumption rather than spending</vt:lpwstr>
  </property>
</Properties>
</file>