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F0E6-6954-495A-AEC1-7F4BFB3AF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3A | MAJOR COMPONENTS OF HOUSEHOLD EXPENDITURES, LOWEST INCOME FAMILIES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FE94-3B0B-43F6-8D47-A515AE5E6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928-A306-46FD-A9A4-8452FB18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9EF-CBC6-48BB-B7A1-D634549E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0E8-1726-4837-B32F-36E046A5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01D-1811-4B79-9C22-D9CB27FD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150-5821-4B5B-9787-C6FCC038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00-843F-4EE6-804F-1BF440F3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552-AEB3-4AC0-9D27-86A92317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091-E6E1-4136-99B2-C08293C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A47-9ACC-4EB6-BE79-980EF544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05D-CA3A-4B5A-AE58-AFD289B7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095-9D1E-4AAE-A187-664333BE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9CC-F374-47C6-BB48-D06785C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FAD-8114-4657-A489-5751E7DF0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3a | Direct health expenditures constitute only 1 in 16 dollars spent by the lowest income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76520" y="6324480"/>
            <a:ext cx="64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Household Expenditures (ranked by size in 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3a | Direct health expenditures constitute only 1 in 16 dollars spent by the lowest income families</dc:description>
  <dc:language>en-US</dc:language>
  <cp:lastModifiedBy>Jia Yao</cp:lastModifiedBy>
  <dcterms:modified xsi:type="dcterms:W3CDTF">2013-09-06T14:06:17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3a | Direct health expenditures constitute only 1 in 16 dollars spent by the lowest income families</vt:lpwstr>
  </property>
</Properties>
</file>