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C142-F523-4E54-836F-6D9421854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3B | PHARMACEUTICAL PRODUCTS AS A SHARE OF U.S. EXPORTS, IMPORTS, AND NET TRADE BALANCE, 199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AD54-9BC7-424E-8336-FF417D7632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D58-DE6B-4378-9E87-CC4A8562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F7F1-2E55-43F5-A549-3CBAFB7D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B2C8-2279-4897-B9CE-8F9E7656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6864-F876-46DD-9E66-DE1F835A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778F-80E7-4A28-9F95-CC9D41C4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A24D-E72F-499E-B81F-EDBC7AF4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AC14-DC09-45D3-BFB7-DCE641FD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21F-786E-489E-AF24-C2B515B3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9C3F-A292-42EE-B6C5-BA2B2C1A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B380-5B09-4583-80F4-A8EAF113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5C78-BD76-4F4C-B214-BFC84392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2BC3-F83F-45A2-A58A-BD3ABF15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A822-58E7-4CC9-A593-AE622DE86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3b | The health sector contributes a relatively small share of the U.S. trade imbalance, but it appears to be grow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13520" y="137160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alance of imports over exports as a percentage of U.S. net trade bal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3b | The health sector contributes a relatively small share of the U.S. trade imbalance, but it appears to be growing</dc:description>
  <dc:language>en-US</dc:language>
  <cp:lastModifiedBy>Jia Yao</cp:lastModifiedBy>
  <dcterms:modified xsi:type="dcterms:W3CDTF">2013-09-06T15:34:01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3b | The health sector contributes a relatively small share of the U.S. trade imbalance, but it appears to be growing</vt:lpwstr>
  </property>
</Properties>
</file>