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E63-F94A-495C-99B0-87C707C4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2D1-7738-43AC-BD8A-4FD8FDF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69E-5328-47A4-87DC-F930657B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803-B25A-4304-BFA4-9F4A526D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9C7-A5FE-4C56-9225-AD421AA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DD1-7514-465E-BBA4-63E44F61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8FD-A6B8-45B6-B6FC-DC5FA5D2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29E-C429-4BC4-8C3E-E09FBDA8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6B7-4CF6-48D4-BA2D-BBEBB67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FC9-4CD5-447C-ABAE-297F97B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1E9-7EC6-4F62-836C-D1138180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E66-2628-40C5-BE22-1C080D15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AAEF-2D9B-411C-AF10-ACC0371B6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187280"/>
            <a:ext cx="892944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9Z</dcterms:modified>
  <cp:revision>22</cp:revision>
  <dc:subject/>
  <dc:title>PowerPoint Presentation</dc:title>
</cp:coreProperties>
</file>