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CF3-D32A-491A-8AB5-A9092048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318-3602-4825-9CEC-44A0181D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277-542E-4D25-949C-DD8D9EAF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0F9-AA12-432E-9FA5-DCFAA1B2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4368-A1F0-4D86-9F4B-3A187097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8DBD-D256-400C-BCA5-17C0B955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3FC-0C7E-42B9-9325-EFB4A822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0F3-6408-429B-8D2F-77A68D78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776-69A4-4AFC-B1C1-7438B6AF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7C1-182F-4E0E-B6BC-F0CD27D1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7993-43A1-4394-8A8B-F58DE93F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01E-673D-429F-8510-8809E4DB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CAED-D552-4E6C-98F2-9741DCB82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57320"/>
            <a:ext cx="91249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3Z</dcterms:modified>
  <cp:revision>31</cp:revision>
  <dc:subject/>
  <dc:title>PowerPoint Presentation</dc:title>
</cp:coreProperties>
</file>