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395C-9614-456C-B0DD-EB54631B0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4b | Per Capita Health Spending, by Major Age Category, 1977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A53D-558A-4459-87F9-DA5DB2B2E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7BC-39C9-48E6-B613-D56485E7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FA3A-1C88-4C31-95DE-42A8A1B3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054-B625-42AC-94D1-9E21B110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9CB-459E-4EB0-AC57-3D87FE3D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332-EB7D-4656-ABDE-F1A7E97C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883-099B-4C21-BBA0-3887044C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04D-CE8C-45CA-A7B7-0AC544EB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948-11F5-4AC4-B67E-1936A438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4D67-20EB-490C-98ED-7A901064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28B-5DF3-4892-83C6-D45C6F8E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5A3-DEDC-43D2-8DAA-4797E0EE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461-F825-48F9-9F24-43E03CDA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9E18-D059-4BAA-80B4-72D494DF6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4b The rate of increase in per capita health spending declined for all age groups between 1977 and 2004, though at varying 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600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growth rate in per capita health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4b The rate of increase in per capita health spending declined for all age groups between 1977 and 2004, though at varying rates</dc:description>
  <dc:language>en-US</dc:language>
  <cp:lastModifiedBy>Jia Yao</cp:lastModifiedBy>
  <dcterms:modified xsi:type="dcterms:W3CDTF">2013-09-06T15:13:12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4b The rate of increase in per capita health spending declined for all age groups between 1977 and 2004, though at varying rates</vt:lpwstr>
  </property>
</Properties>
</file>