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86DC-FB1F-44E2-ADF9-88F8B5B25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B1B7-85C2-4BAB-B246-4F716E0D8F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b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FF3-F3D4-4885-8156-3EC54369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CD4-25AC-4F1D-B9DF-0BC4E39D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74A-1F9E-48F6-8D75-6062D6BD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92F-A2D1-45F8-8B3E-F6240918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CDD1-1C7B-4202-B760-1942BF23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588-F765-4F97-9DB7-E5C15C6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3753-2E24-4E88-A275-FAC71E4A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93B0-CE43-4EAF-B36A-816F2BD9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425C-BE37-4668-8F7D-993BBDD1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D63-630E-4E65-A658-25141DA5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E6BA-E3F0-40EF-B0FF-D28CD09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CD1-FBA1-4050-8DDC-FB52F624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F868-3647-46F4-A3FC-9712281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5105-3820-42C4-BA84-273C9891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DCB0-E0E3-4AAD-B0B5-1F00822A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A4DC-8F81-4CDC-81CF-70301EDB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3974-5F96-4CAB-A7F0-6F4D6C64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665-1EFD-4AAC-A520-84EAA50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A9B-EB28-447D-92AD-6A400B6A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FC4-D746-4A7C-AAA1-72B56466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EC3-261C-4015-9B2B-C498A003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D2D-A532-41CD-BB2D-2EF2AB52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595-9D2F-41D7-85F9-0AAC631A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9A9-C3C6-4F4D-A099-7666B7EB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02E4-A92F-4C10-9D65-6255A53A4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75BE-6D31-4806-8444-6620303ED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b | Among all industries, health care and retail trade have the lowest rates of offering health plans, reflecting their large number of small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840040" y="838080"/>
            <a:ext cx="3463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10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b | Among all industries, health care and retail trade have the lowest rates of offering health plans, reflecting their large number of small firms</dc:description>
  <dc:language>en-US</dc:language>
  <cp:lastModifiedBy>Jia Yao</cp:lastModifiedBy>
  <cp:lastPrinted>2002-05-16T21:44:34Z</cp:lastPrinted>
  <dcterms:modified xsi:type="dcterms:W3CDTF">2013-09-06T13:50:06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b | Among all industries, health care and retail trade have the lowest rates of offering health plans, reflecting their large number of small firms</vt:lpwstr>
  </property>
</Properties>
</file>