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716-77E6-4D1A-8DA6-7319D555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1AE-15B0-47E3-982A-4B209316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FB5-2B63-4EB8-BA8C-DDA2B931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730-95FB-4968-9B8D-310656C0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3BC-F59A-49DD-8D67-52D4C6B9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B58-43B4-495B-90D5-AF980CEE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256-9536-4D93-90BF-8A9A77D6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474-210B-48AC-948D-A8BB06C7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24B-7072-47BF-8261-D8DDD7A6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533-151C-4E22-95DE-5E6038B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B47-7EB1-4D0B-9D8D-9C466D98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648-E5D7-4C2A-AA37-994696ED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B0F-C45A-4FFA-A953-0465E2AC8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7Z</dcterms:modified>
  <cp:revision>31</cp:revision>
  <dc:subject/>
  <dc:title>PowerPoint Presentation</dc:title>
</cp:coreProperties>
</file>