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5C0-54B6-47B1-A191-30AFB97A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0B8-8DAB-4D71-AC03-2F017984A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6.1A | COMPONENTS OF PERSONAL CONSUMPTION EXPENDITUR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DF5-01C4-4CC8-A950-39B30285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E13-A526-4DE1-92C2-578C094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5C4-C62D-4542-A008-6D41624A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329-3564-47DF-A066-35772633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138D-7CF7-4E5E-AB33-FCD1A724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5F7-0B8A-4035-B547-123696F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AFD1-BF18-4AD3-B3D5-215C8216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AB5A-73A6-4A0C-8202-1301D9F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CE65-0A19-4F7E-8B3D-19CACD3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5DD0-8820-4EDA-933C-4D13DE8B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2849-BBC0-48BD-9DFD-04D5D1A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D73-1F4D-4403-A84B-C324DD01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1B7B-EB05-48DE-BB21-933F796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9247-9DF9-44E1-9E84-FB7B9EF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B11F-40A3-40F5-896A-00BBA7DE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C994-37A3-49F2-9298-057C89E3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7C8-013A-49CE-8709-81CF8F67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46F-AEAA-4DCD-909D-3AD895DD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FAE-1894-4120-B73F-DFEE698D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0C0-9EBC-4C54-8B4E-3E029FB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6CC-E005-410B-92CF-64AD6B55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DF1-B4D5-4D68-9A28-6B4E385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D7C-7AB2-4355-A452-8969029F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777-91AB-4137-9561-ACBA8A6A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480-624B-4CD6-A05E-DF788EB6A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F131-CE01-4147-B1D3-5E3A40A8E8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1a |</a:t>
            </a: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lth care is the second largest component of personal consumption spending by fami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289120" y="563868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sonal consumption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$10.1 Trillion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 rot="16200000">
            <a:off x="-2305080" y="342756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1a | Health care is the second largest component of personal consumption spending by families</dc:description>
  <dc:language>en-US</dc:language>
  <cp:lastModifiedBy>Jia Yao</cp:lastModifiedBy>
  <dcterms:modified xsi:type="dcterms:W3CDTF">2013-09-06T14:06:0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1a | Health care is the second largest component of personal consumption spending by families</vt:lpwstr>
  </property>
</Properties>
</file>