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8157-E803-42F1-91BD-35C1CF268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5A6D-0A75-4B31-BD13-9CFC0FF18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20.1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5AB-E6BA-430A-860A-EBACC961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3C15-4AC4-45DD-89BA-556B94BE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0B5-326A-413B-953B-D05A34CC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F46-1D8B-4CAD-8E96-94041CF7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EAF4-70F2-4C07-9640-2E243BF7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E511-D50B-4743-ADB1-EAEBBF38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7E28-027B-494B-9F2C-B34ADCA4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6E39-7E4F-4CE1-AF7A-74503BF6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7FB3-EDB9-40F4-9DAC-239F6530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297F-D655-44BF-8BE6-CF8D16E9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0D37-63F2-4D8E-8095-57C49546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E6B-28B9-475A-BBE3-37BAF97E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4FB1-9026-4BE0-A071-40BA92D9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CA91-0EBE-4038-8C03-AC4EB11A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9995-E74E-4BF1-9828-BB039D6A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5DF8-12E8-4CA0-97C9-FAD684FB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AEC1-3536-45A3-AED4-450EB914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813-E4D4-45F6-9D31-AA10611B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C57-67DD-4640-8885-F58347F3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67C-591A-4F07-A79C-02B1A61E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148-5C16-48ED-B867-AE7CF2EA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DFB-D75C-466C-997B-6788FFC0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59AA-360C-49B3-9CCA-6ECBECA6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E19-0033-411F-9E3E-1A35CD87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FA7D-B6E7-463A-9BDD-4D8095BB36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98D9-43B6-446D-9C2E-39F709734B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1 | At historical growth rates, the amount of health-related benefits per dollar of wages and salaries will quadruple over the next 75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1 | At historical growth rates, the amount of health-related benefits per dollar of wages and salaries will quadruple over the next 75 years</dc:description>
  <dc:language>en-US</dc:language>
  <cp:lastModifiedBy>Jia Yao</cp:lastModifiedBy>
  <dcterms:modified xsi:type="dcterms:W3CDTF">2013-09-23T19:14:0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1 | At historical growth rates, the amount of health-related benefits per dollar of wages and salaries will quadruple over the next 75 years</vt:lpwstr>
  </property>
</Properties>
</file>