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3894-5CCD-463D-8BB9-3E4AEB3B9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1ECA-1784-44B5-9D02-6E5EC2F5BF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3a | HEALTH INSURANCE BENEFITS OFFER RATES AND TAKE-UP RATES, BY SIZE OF FIRM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0F4-7BD4-412C-AE39-210D5E5A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0D1-9084-4278-B010-78597A2F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7F9-5ECD-4DFA-B421-9B223B78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FFC-AF77-4F52-B66F-5D7FABF0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EA34-D7FB-479E-8B7D-036DFB74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F688-D5BA-4B00-84E1-AC850ADF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81C4-6EC0-4959-8236-154FDCD7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3FE0-D2CE-47F2-9476-19869FA8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598-F709-4E1D-BE4F-369D3C86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186-AC28-4D55-8EEC-AD0F93D6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D54A-378E-4DDB-9883-436EC38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4E8-4873-47F2-82D8-71F1E853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C360-BD93-4A1B-B603-0087C16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A258-148D-4DEC-8D6C-0AB679C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4236-3215-45D0-93D2-F2440B7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40E2-F2FF-4DE3-BDB6-620D7905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5068-CD56-4CE1-BA0F-1937EE84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B71-F7C8-47FB-B6CF-AFCB8BF4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52F-A84E-4548-9CC9-CD793A9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940-A79A-411D-96CD-608FE42E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60E-0B00-4714-8FEB-F401065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FE7-4015-42DB-B30F-AFC0A1D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CC1-2561-42F1-9C05-6887EFB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A27-3A83-4A95-ACDA-E1F08E3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AD39-12BA-44FA-A825-B8D020195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42F7-D0C6-41E1-BDCA-A1EC07642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3a | Under two-thirds of small firms offer health plans, but the share of workers eligible and participating in such plans is similar to large firm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9045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-29880" y="5867280"/>
            <a:ext cx="94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Kaiser Family Foundation, The. Health Research &amp; Educational Trust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ealth Benefits 2010 Annual Survey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ptember 2, 2010. http://ehbs.kf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g/?page=abstract&amp;id=1 (accessed November 21,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3a | Under two-thirds of small firms offer health plans, but the share of workers eligible and participating in such plans is similar to large firms</dc:description>
  <dc:language>en-US</dc:language>
  <cp:lastModifiedBy>Jia Yao</cp:lastModifiedBy>
  <cp:lastPrinted>2002-05-16T21:44:34Z</cp:lastPrinted>
  <dcterms:modified xsi:type="dcterms:W3CDTF">2013-09-06T13:50:05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3a | Under two-thirds of small firms offer health plans, but the share of workers eligible and participating in such plans is similar to large firms</vt:lpwstr>
  </property>
</Properties>
</file>