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1215-B7FD-4E98-88D5-0E99FDD6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AA42-E4DB-4F99-A10B-1711EF8F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DCED-56F5-42BC-B1CA-86870B43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A5B0-6E2D-43D5-8BCC-6B8F1EED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8B36-1B2B-4429-B4C6-BC904141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5A3B-2716-41D7-9D01-1EA02295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0938-2AAE-4966-B935-92B62EB2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31E9-7E67-4E44-BAEC-34EC7756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4EF1-DE0B-4C20-8EE1-6C328730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88BA-104B-4A20-BEF5-B888C65F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5DB9-F255-49B8-A414-6F5A1D7E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6BA8-1863-4CBB-A8D1-26042155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76EF-8BA1-484F-8767-F5382B402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5160" y="1676520"/>
            <a:ext cx="90136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6Z</dcterms:modified>
  <cp:revision>45</cp:revision>
  <dc:subject/>
  <dc:title>PowerPoint Presentation</dc:title>
</cp:coreProperties>
</file>