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2466-6F82-4A29-B646-82376937B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4A | PER CAPITA GDP AND HEALTH EXPENDITURES, OECD COUNTRIES, 20 LARGEST OECD COUNTRI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B688-B827-49CE-96DA-9FF53B664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FA4-76CC-4ED3-BB1C-F3FFC7F8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871-02E8-441B-AB6E-FFEB1A6E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1E4-FE78-40D2-B465-60BB9288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AB1-2507-4104-8874-F8F61694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E39-74FB-489E-AD31-66392504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261-F210-40CA-A13C-466ED2BF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75F-3A88-4B4C-AFDE-1E06507E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DD4-A478-455F-88C4-54B06517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922-5EB5-4203-AEAB-13E54B2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D0E-9AEE-43A0-8319-4B6D3C2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AE1-2DC8-4DC1-B43C-EFF7775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959-7655-48F4-9793-5E9CD9A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740-DBEC-4D83-91C7-53F886DF5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4a | The conventional wisdom is that U.S. health spending is far above its expected level given the nation’s per person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320840"/>
            <a:ext cx="886464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22960" y="586728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DP per person (U.S. purchasing power parity, 2004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4a | The conventional wisdom is that U.S. health spending is far above its expected level given the nation’s per person GDP </dc:description>
  <dc:language>en-US</dc:language>
  <cp:lastModifiedBy>Jia Yao</cp:lastModifiedBy>
  <dcterms:modified xsi:type="dcterms:W3CDTF">2013-09-06T15:40:4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4a | The conventional wisdom is that U.S. health spending is far above its expected level given the nation’s per person GDP </vt:lpwstr>
  </property>
</Properties>
</file>