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2130-A9BD-4706-A78E-CA51FB831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8506-15CA-40C0-9857-2E65C4645F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b | HEALTH INSURANCE BENEFITS ENROLLMENT RATES, BY FIRM SIZE: 1999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C04-139B-42D5-9A90-5D155330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845-EA35-43FF-A927-0852B86D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BA2-7B48-47F9-8A60-55E8AC25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677-4C4B-4B96-B029-3CC0879D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DF7D-D7E8-4861-952C-630EDC4B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CF96-0189-4A4B-942E-49EC6AB5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A3C6-BA80-4B97-A121-BF8DC904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DD7E-E6EB-4F0E-B364-70B27072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CCD2-A412-4C20-A4FF-70DAF41D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72F7-E8E4-4DAB-A7B6-79B1CECD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B120-44F5-4CF7-A38C-8CE5B50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211-4101-47A6-AC34-58BEF5BE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0733-A792-48E3-87A6-FF3DC9DA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3B20-4C85-48A6-8A36-C125B881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5526-4B30-48DC-8A17-F6500EE8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18C0-E46D-4A09-8F03-2EECE49B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F3D2-2F7D-4901-9D3A-4D626D17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ABA-CE93-41BB-AC66-D4D42194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09A-4660-4410-976B-15EBBA9E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F5FF-55BF-4F49-BFFC-334069D5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715-5E3E-444F-9AE7-438F63BD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2B5-4E6C-4B90-AD65-BBF471FA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0F1-DC7D-4C0F-AFE6-0BD9CA69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6B3-59F1-4A62-B310-F21FF572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1769-F677-4CEB-BEDC-158D3EFBB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F881-6123-4DB8-98B3-CD167C2B3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b | Over the past decade, the percentage of employees in health benefits plans has declined in nearly all firm-size categor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b | Over the past decade, the percentage of employees in health benefits plans has declined in nearly all firm-size categories</dc:description>
  <dc:language>en-US</dc:language>
  <cp:lastModifiedBy>Jia Yao</cp:lastModifiedBy>
  <cp:lastPrinted>2002-05-16T21:44:34Z</cp:lastPrinted>
  <dcterms:modified xsi:type="dcterms:W3CDTF">2013-09-06T13:50:0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b | Over the past decade, the percentage of employees in health benefits plans has declined in nearly all firm-size categories</vt:lpwstr>
  </property>
</Properties>
</file>