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D6EA-CE4F-42D0-B8BA-8D1F390436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F513-27ED-4652-9DFC-2819EBBF38A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4a | DISTRIBUTION OF PERSONAL HEALTH CARE EXPENDITURES BY MAJOR TYPE OF SERVICE, 1929-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D07B-4CC7-4284-8FD4-76E1D8087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C5FB-BA38-4D37-B482-608E66E5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BA04-2CE0-4F86-B059-A99DF492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7C6B-22F6-47FB-9C57-051645036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1CC0-6235-4F76-ABD2-D83BB214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CEE7-AE84-407B-BA7D-9A7C5E44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06B6-1637-4D70-A341-61F9BBBF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D217-3F59-411D-8ADD-0E8B60C8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BABB-E4B2-49DD-9817-2940AA12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B97D-0378-4CCC-8197-07E39595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183A-98DF-4117-A8E0-16F900B9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3ECB-E7A3-4ECB-9342-2F46313F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9200-948B-4F92-8B15-C11D17CF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48DB-886E-4439-922F-06E1185A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362E-B84F-4A05-BBE0-22C311F5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ACBB-DD11-4ECC-A8DE-94E2B6CB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0752-8BFF-414C-B208-473F8403F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582A-CCBC-46D8-916A-4A9F0A1A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EAAC-B1FB-4651-8096-4FF93981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8A51-89E0-4E7D-A5FF-6F6C65C7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97FB-A1E6-49BA-97A1-8CDE2F01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43BD-5C97-4831-911E-9119A83C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320B-E027-4CC2-B4C0-1E6324E0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AC95-39FC-4685-A8F9-5E6C3D74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180F-FFF4-4104-9830-916C2F3F8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65AA-3898-47C8-9F36-463865126E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4a | Professional services--once accounting for nearly half of all health costs--have returned to being the largest single share of spending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4a | Professional services--once accounting for nearly half of all health costs--have returned to being the largest single share of spending</dc:description>
  <dc:language>en-US</dc:language>
  <cp:lastModifiedBy>Jia Yao</cp:lastModifiedBy>
  <cp:lastPrinted>2002-05-16T21:44:34Z</cp:lastPrinted>
  <dcterms:modified xsi:type="dcterms:W3CDTF">2013-09-04T18:13:21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4a | Professional services--once accounting for nearly half of all health costs--have returned to being the largest single share of spending</vt:lpwstr>
  </property>
</Properties>
</file>