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FF04-D779-4DA9-A19E-3A2D07B76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1B | TOP 29 PHARMACEUTICAL INNOVATIONS BY COUNTRY OF ORIGIN, 1968-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7409-01EC-4BFE-9718-412F69366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2712-FE64-474D-BD0B-4486D1A2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BE6B-4C35-462B-B33E-88117CEF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3CAD-9046-4088-8885-D9051C2E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AA73-6CAB-4C1B-97AD-656B48AF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31C4-48FB-4014-818D-C20C931A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71FE-4C90-440F-B3C3-9350675D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C29-F4FF-4321-AB07-1C0C6A19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04B8-C4E4-41AE-9C8C-9EC0C97F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688E-44DB-45AE-870A-91E313DE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D8CF-ACDA-4D5C-A08E-462C86F7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6601-790A-437F-9AE5-96A2B582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C5D3-CF72-469F-8B55-8EB001AF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F607-B339-4762-98A8-AA70730D2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8.1b | The U.S. also is responsible for more major pharmaceutical innovations than the EU and Switzerland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549440"/>
            <a:ext cx="87883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68160" y="1600200"/>
            <a:ext cx="49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top 29 pharmaceutical innovations, 1968-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4840" y="5203800"/>
            <a:ext cx="84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More than one country shares the credit for some innovations. Population figures are for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41080" y="575928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Whitman G and R Rand. Bending the Productivity Curve: Why America Leads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 in Medical Innovation. Cato Insitut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olicy Analysi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654. November 18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. http://www.cato.org/pubs/pas/pa654.pdf (accessed August 10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1b | The U.S. also is responsible for more major pharmaceutical innovations than the EU and Switzerland combined</dc:description>
  <dc:language>en-US</dc:language>
  <cp:lastModifiedBy>Jia Yao</cp:lastModifiedBy>
  <dcterms:modified xsi:type="dcterms:W3CDTF">2013-09-06T15:33:53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1b | The U.S. also is responsible for more major pharmaceutical innovations than the EU and Switzerland combined</vt:lpwstr>
  </property>
</Properties>
</file>