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750D-9D5F-4BE8-A171-6CD736358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36B8-56BF-454D-8BFC-54FC6A5F48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2a | AVERAGE TAX SUBSIDY AND TAX SUBSIDY AS A PERCENT OF PREMIUMS, BY INCOME CLASS: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A7A-0F09-4067-97DB-DBB6BECD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D7C-A16A-420A-9A2C-FBEE20DA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409-52DF-483B-9643-5AC1119D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E38-F1E1-43F6-BAB0-F26005C6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0FE8-103D-4ADE-A5D8-C7CA2D26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B176-9893-4770-B92B-3606DAB2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2137-EB7E-435E-901E-A3D5BE8C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8E3B-9862-42A8-9CAA-83B354C5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9564-9BF1-42C3-AB78-85082661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98C2-3468-4CCA-9C49-FBEF3AF4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11DC-6537-4A86-B2BA-B398FEE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416-A5DB-4DF0-B13A-D5D02E49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A9BC-AF38-40BD-A289-E89ED00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446C-DD4D-4401-B48C-2F11E519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CB71-C37E-4233-9FB4-E27BC475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60E9-5167-47CF-ABBF-7637B192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AAEE-F050-41E8-AA5B-3EC0A9C4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2DD-7912-4247-9C96-1E0DC21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AF1-925E-4466-BD7B-ECE59FE9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A91-7D60-4B88-963F-4434CF91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AA8-603A-4D12-BF66-5908BCD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9A8-BD47-4FE1-A65D-62B563B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C22-2D4A-44F0-BA21-F88CA8D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DD7-E6C1-4C22-9997-4526962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B1B7-C807-4989-8CC4-213178C61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FE8C-F133-4CCE-8BAF-1ED8CA4D9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2a | Higher income families get a substantially higher subsidy from the employer tax exclusion compared to low income famil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692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14840" y="5867280"/>
            <a:ext cx="96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Burman L, S Khitatrakun and S Goodell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ax Subsidies for Private Health Insuranc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o Benefits and at What Cost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bert Wood Johnson Foundation. 2009 Upda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ceton. July 2009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2a | Higher income families get a substantially higher subsidy from the employer tax exclusion compared to low income families</dc:description>
  <dc:language>en-US</dc:language>
  <cp:lastModifiedBy>Jia Yao</cp:lastModifiedBy>
  <cp:lastPrinted>2002-05-16T21:44:34Z</cp:lastPrinted>
  <dcterms:modified xsi:type="dcterms:W3CDTF">2013-09-06T13:50:01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2a | Higher income families get a substantially higher subsidy from the employer tax exclusion compared to low income families</vt:lpwstr>
  </property>
</Properties>
</file>