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80E3-EEEF-420F-8435-FC71C9F07D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7B | TRENDS IN PROFITABILITY: RETURN ON ASSETS AMONG FORTUNE 500 PUBLICLY TRADED FIRMS FOR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HARMACEUTICALS AND MEDICAL PRODUCTS &amp; EQUIPMENT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DUSTRIES, 2005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4C6C-AD7E-4744-86AF-41C8FB5A97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3888-93D6-4DF3-AF8E-F52716EF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A316-A807-4D56-9E6F-46A0C0EF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1C09-1644-44FE-901E-3C88A1DF8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568B-7D4A-4617-AFC1-42765D72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7C70-1AA6-401A-9D66-3E6F6046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9F3E-3C7A-4B1E-9210-0CC1DECD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FAB6-F315-4AEC-89BD-964080AA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17B9-CC90-45FE-8E6D-FE04DF03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DAA4-F758-4E0B-A478-0B8BB648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925B-63E2-4E53-AE4C-B3364DC9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0D09-FB18-4D4D-8F59-1F914BFD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3622-2AFD-4D27-9F2D-C3B2334C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BD98-17B0-41C5-9347-2FBCF94C96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7b | Returns on assets for pharmaceuticals and medical devices also place them among the top 10 industries in the U.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58720" y="1092240"/>
            <a:ext cx="8407440" cy="5816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55560" y="1143000"/>
            <a:ext cx="64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 of assets (ROA), Fortune 500 publicly traded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47560" y="5295960"/>
            <a:ext cx="8344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A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533520" y="6342120"/>
            <a:ext cx="83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http://money.cnn.com/magazines/fortune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7b | Returns on assets for pharmaceuticals and medical devices also place them among the top 10 industries in the U.S.</dc:description>
  <dc:language>en-US</dc:language>
  <cp:lastModifiedBy>Jia Yao</cp:lastModifiedBy>
  <dcterms:modified xsi:type="dcterms:W3CDTF">2013-09-06T14:17:15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7b | Returns on assets for pharmaceuticals and medical devices also place them among the top 10 industries in the U.S.</vt:lpwstr>
  </property>
</Properties>
</file>