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B81-9675-4E55-A7D6-26A6850B5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3a | Annual Excess Cost  Growth in Per Capita Health Spending, 1975-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C91-FD37-47B7-9591-00CD2C5CB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B62-5EBC-4A3C-A72D-8785B15B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E57-02CC-4FE9-9BE9-FB06C5B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C75-085F-4A2F-A550-68A49735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A4F-100C-4BEA-AAE9-5DC1FAB1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74A-6F83-4CF5-912B-A2A52B0E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588-E91F-4BCA-A362-9DEEC06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676-4212-41DA-9B95-D52E6A9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008-9F82-4A84-9A21-028B7C82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ABB6-B127-4C18-89EF-581CB6B4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7F7-ED6E-41AA-BF86-576A262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331-A31F-4BC4-A467-0E1085C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C68-E3C5-4D09-8E8B-5FDDC87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EC57-122D-4631-87F2-BCD4A7C8B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3a | Measured over long time periods, annualized growth in health costs  in excess of growth in GDP appears to be decli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5597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3080" y="1219320"/>
            <a:ext cx="69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excess cost  growth in per capita health spending, by starting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2236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per capita health spending is adjusted for changes in age and gender. Als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 ending year after 2000 is 2007, not 2005. Thus, 5 year excess growth sta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year 2000 is for 2000-2007; 10 year excess growth starting in year 1995 is f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95-2007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22360" y="5848200"/>
            <a:ext cx="861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Caldis, Todd G. The Long-Term Projection Assumptions for Medicare and Aggrega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tional Health Expenditures. Centers for Medicare and Medicaid Services, Office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uary, National Health Statistics Group, May 12,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3a | Measured over long time periods, annualized growth in health costs  in excess of growth in GDP appears to be declining </dc:description>
  <dc:language>en-US</dc:language>
  <cp:lastModifiedBy>Jia Yao</cp:lastModifiedBy>
  <dcterms:modified xsi:type="dcterms:W3CDTF">2013-09-23T19:14:1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3a | Measured over long time periods, annualized growth in health costs  in excess of growth in GDP appears to be declining </vt:lpwstr>
  </property>
</Properties>
</file>