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F237-77A9-47B7-9074-30B9174C4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3B | MAJOR COMPONENTS OF HOUSEHOLD EXPENDITURES, HIGH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B466-2C54-49DE-9EC6-E371675FB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BD6-4033-4510-99B1-D2D5B011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68D-7B66-4824-B674-6BA6FF4B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CF1-2D20-4D2C-B989-9FF49C65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EF0-25BC-4ED3-8E1C-9B3165B0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1A0-FEF4-45E1-9847-8C5ED768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F7D-A89E-4EDB-BCB1-D361C930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CBA-16FD-464E-B6F6-448D2FC6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742-0561-4AFF-AB58-C9A5C3AB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13CE-4AB1-4FED-A8DA-D648AB17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082-D010-4382-AC03-EE3CAB17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DA4-40F0-4B61-B9B7-C7CA45B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F95-780B-40C7-8456-122ACBC1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E87F-0FE4-4F88-B6B2-7088CA9EC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b | Direct health expenditures constitute less than 1 in 20 dollars spent by the high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97160"/>
            <a:ext cx="855972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b | Direct health expenditures constitute less than 1 in 20 dollars spent by the highest income families</dc:description>
  <dc:language>en-US</dc:language>
  <cp:lastModifiedBy>Jia Yao</cp:lastModifiedBy>
  <dcterms:modified xsi:type="dcterms:W3CDTF">2013-09-06T14:06:19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b | Direct health expenditures constitute less than 1 in 20 dollars spent by the highest income families</vt:lpwstr>
  </property>
</Properties>
</file>