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5955-B902-4110-95F2-F60E40850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B | RATIO OF NURSES TO PRACTICING PHYSICIANS IN SELECTED INDUSTRIALIZED COUNTRIE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516A-923C-4252-824B-B235905B3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F9A-0E40-46EA-830C-55B0F6E4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D7C-616F-4E01-B84B-88B327A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3E3-C72B-4561-80B8-8DEF98EE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D96-FB18-4438-9D8F-D1973412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5C1-CDA6-4E06-B866-9A7EAA6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94F-680A-45C3-8447-EAB19D08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907D-73C6-4871-B446-B3D429E4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1C7-906B-4886-B9CC-2D7BC39C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2D2-AE6A-46FE-9BE7-768BE3E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9C94-F1AA-49A8-BB9E-2A0B9C5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77B-D18D-48F8-B291-579778DF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4CB-FE37-4E66-89D0-06D0EB5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4647-AF0E-4D4D-9FCF-F448CB3F8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6b | The ratio of practicing nurses to doctors in the U.S. is comparable to figures in other G7 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63568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practicing nurses to practicing physician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b | The ratio of practicing nurses to doctors in the U.S. is comparable to figures in other G7 nations</dc:description>
  <dc:language>en-US</dc:language>
  <cp:lastModifiedBy>Jia Yao</cp:lastModifiedBy>
  <dcterms:modified xsi:type="dcterms:W3CDTF">2013-09-06T15:40:59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b | The ratio of practicing nurses to doctors in the U.S. is comparable to figures in other G7 nations</vt:lpwstr>
  </property>
</Properties>
</file>