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A290-673A-41B9-AA35-2CC401CC7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1B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F4F2-CA74-4BD0-BA8A-56EE4FD305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9DE8-B057-4E71-80E6-946E53A9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DBA9-B635-4D85-AF75-BE9FA019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4A8F-C2DA-434B-AB1C-786D37ED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D687-8CCD-4352-A0BE-293DF3A2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DF23-F303-4BD8-A98A-07246FEB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623C-9BE9-47B4-8C28-C207670E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74A8-CEAB-4CFC-8FB5-CE19A787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2175-B994-4F56-BEDF-E714D117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DD6A-9E60-4B86-8ABD-3C4AC8B5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A944-7091-4268-8246-04EFCCBA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FC0B-7833-48BC-8DCB-47A25B8E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6E9A-8663-485C-BCE0-D486684A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9795-1C7D-4E88-888A-915BF4BDC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1b | Between 1966 and 2007, all of the increase in the size of government was attributable to growth in tax-financed health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29528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Government spending as a percentage of GD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flipH="1">
            <a:off x="457200" y="57913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 figures include debt service, but the entire amount appears under non-health spending. If allocated by shares of spending, this would increase government health spending and reduce non-health spend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1b | Between 1966 and 2007, all of the increase in the size of government was attributable to growth in tax-financed health care</dc:description>
  <dc:language>en-US</dc:language>
  <cp:lastModifiedBy>Jia Yao</cp:lastModifiedBy>
  <dcterms:modified xsi:type="dcterms:W3CDTF">2013-09-06T13:59:28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1b | Between 1966 and 2007, all of the increase in the size of government was attributable to growth in tax-financed health care</vt:lpwstr>
  </property>
</Properties>
</file>