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522E-E035-4BDC-A252-906713790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A4B9-DD7B-46D8-A702-08F99C8DD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A2E3-379B-41AF-99FE-DA38832E2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366F-ACEF-4EAD-AF4B-169FAD303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0C82-B081-4BB9-993E-FDD07DEB7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88D5-70AA-4E5E-8DD6-357AE6540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6607-9A23-43B2-8CCF-652F6BE63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19C8-9D84-4B8C-81B1-83DEEC051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DF98-7BCF-45C2-B8EE-F0DF72AFD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6AD2-C58D-492B-AC9F-7D910CFE3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EFDD-990E-42C0-B013-3CC5D8BFA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2441-970B-4E94-AD4E-BADACAE43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C7F95-17B1-41EB-AD13-389C3C359E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249200"/>
            <a:ext cx="9144000" cy="435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4:31Z</dcterms:modified>
  <cp:revision>46</cp:revision>
  <dc:subject/>
  <dc:title>PowerPoint Presentation</dc:title>
</cp:coreProperties>
</file>