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2F2D-8FBE-4AEC-B977-161B6CF32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8355-244E-4ADF-86B5-78F49D138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523E-2B20-45AF-A78D-6718BF74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9D2-82A5-4FA1-9877-4428C84C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B8C-03A9-40B5-B3CA-F68C5C2D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325-D876-460B-9DD5-5E42254E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4BA-6F3D-416C-B012-FBAF7A84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EAD-6CE6-4BD6-971E-DBC0D985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F8B-C741-46BD-98AF-D55499D5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C9D-659B-41F3-9E08-DAB2856B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1FDA-FE54-4225-889E-69EEDD2F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5CA-7972-4A0D-9077-B0D69838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34E-E506-43F7-87C4-47356ECF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4F7-A8AD-413B-82BF-35753917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9AC7-499E-4925-BCF9-002A2DAC9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1_a.png"/>
          <p:cNvPicPr/>
          <p:nvPr/>
        </p:nvPicPr>
        <p:blipFill>
          <a:blip r:embed="rId1"/>
          <a:stretch/>
        </p:blipFill>
        <p:spPr>
          <a:xfrm>
            <a:off x="1219320" y="5716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523880" y="68580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11a--State Health Rankings, 2009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676520" y="582480"/>
            <a:ext cx="57909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5b | State Health Rankings, 2009 (1=Best) (United Health Found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638280" y="57592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/>
  <dc:language>en-US</dc:language>
  <cp:lastModifiedBy>Jia Yao</cp:lastModifiedBy>
  <dcterms:modified xsi:type="dcterms:W3CDTF">2013-09-06T15:41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/>
  </property>
</Properties>
</file>