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C20-AE18-4954-A527-726F75F2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D6C-0326-4057-9E5E-A170AE2C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FDB-4880-4E8E-967F-CAF02382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EA70-F18F-49AF-9409-3F6A9F55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5B3-339A-4F42-96D0-8C19B708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EA2-0AFB-4BD6-BEA7-D1A37ABC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67F-34A2-4A90-B551-17E3B20A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4EC-8CAF-40A9-A768-B4B456CC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7CB-8CAC-471E-83DF-83EBB98A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816-4A51-4381-A362-A7E94A1A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900-62E7-4AAA-AB13-87C968EC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B639-64A6-4FB0-B41B-2DA25A84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F8D9-39B6-412E-B041-D2B9FFC01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560" y="609480"/>
            <a:ext cx="911844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5Z</dcterms:modified>
  <cp:revision>10</cp:revision>
  <dc:subject/>
  <dc:title>PowerPoint Presentation</dc:title>
</cp:coreProperties>
</file>