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C1AF-AE4A-41E9-BBC9-0CEB79221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B |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5733-2EC4-45D3-B66F-E9B325A88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BEB-DD62-4516-AC99-9A8920B6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74F-ACD5-438D-8543-EFF072C2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96B-9E3A-414E-BC55-66E9B62F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B44-3183-44B1-A323-D50F6AC4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A1A9-A573-4055-9261-E055538C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DECB-8EAB-4011-8EE4-C38C6168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E456-E01A-4FC3-943A-7B37CD46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A1EB-12F6-411A-97A9-F3A43055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7EA1-A4FF-4890-9120-9BECD5B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BD6B-91C9-4974-A04A-4521BE2C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DCD5-FD05-49EB-83C3-056DF6D9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421-0D6E-4BAC-A6EB-D91E1A74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B43D-86EE-4E03-9FE5-7BD4EC3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81B1-A9BC-4C36-B3F4-1B513974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C23A-6143-4216-97B9-872177B5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0BAD-4E1E-4450-B7B3-599B1560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75C3-5BF1-42A1-86AD-725CC7A3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673-BC11-4E4D-8BDF-81D3EDB0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C83-D8D3-4914-84A8-209042C3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69DF-4A75-4B95-A78B-9C66BAAA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4C1C-90DC-4A61-A7EC-8C459C50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4CB-597E-4D89-B6CB-F7D906C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192-9F34-49CB-8C56-A551C653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EB9-DC3B-4BD8-AD12-720112E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5F64-3A15-48FD-8072-D8DEF638A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9B1F-4C87-46FF-9E21-8A0E9ADE0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b | Real household spending on health has increased much more rapidly in elderly households than i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207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b | Real household spending on health has increased much more rapidly in elderly households than in non-elderly households</dc:description>
  <dc:language>en-US</dc:language>
  <cp:lastModifiedBy>Jia Yao</cp:lastModifiedBy>
  <dcterms:modified xsi:type="dcterms:W3CDTF">2013-09-23T17:01:39Z</dcterms:modified>
  <cp:revision>26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b | Real household spending on health has increased much more rapidly in elderly households than in non-elderly households</vt:lpwstr>
  </property>
</Properties>
</file>