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D889-2092-494F-9D29-156E3EB579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3A | MAJOR DETERMINANTS OF PREMATURE MORTALITY IN THE UNITED STA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B9F5-6159-400C-9121-7B5BB261DA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0F77-D631-4060-8434-E9AE2C8C3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8B27-FEC8-4E67-9F5D-D93024DD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A76E-0BBE-4632-9C8B-D88531572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DB12-B196-44D2-BA3D-AEF75ED6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B43E-62D2-42A6-9412-D1D2CE0C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17A2-2132-4FB0-8493-7AC26520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FF3E-6FDD-404A-8AA7-F88B7BCE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05A6-B148-4B84-B938-50B87F5C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F370-016C-4AF3-9DE3-7F8E2F56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56AA-651E-4227-8445-F23497A1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62DB-ABC4-493C-AC83-794CAAE0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27D6-95C2-49AF-BDD5-24FBB22B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3C16-4E8C-4D79-AB25-0C3E6DB744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13a | Roughly half of premature mortality relates to behavior/lifestyle; only one-tenth relates to medical 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329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015200" y="2971800"/>
            <a:ext cx="182052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j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termina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em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rt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484920" y="5827680"/>
            <a:ext cx="862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 Department of Health, Education and Welfare. Office of the Surgeon Gener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y People: The Surgeon General’s Report on Health Promotion and Disease Preven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197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3a | Roughly half of premature mortality relates to behavior/lifestyle; only one-tenth relates to medical care</dc:description>
  <dc:language>en-US</dc:language>
  <cp:lastModifiedBy>Jia Yao</cp:lastModifiedBy>
  <dcterms:modified xsi:type="dcterms:W3CDTF">2013-09-06T15:41:22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3a | Roughly half of premature mortality relates to behavior/lifestyle; only one-tenth relates to medical care</vt:lpwstr>
  </property>
</Properties>
</file>