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23DF-FC72-4D96-AF7F-E5CCD8A02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3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7a | Per Capita Income and Health Spending as a Percent of Gross State Product, by State of Residence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39C9-4644-49BC-A728-BD633A51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C8F-0974-446B-98B0-B51280A1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15B-BCD2-4A59-98B5-C9D8E47A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FE4-346F-4B45-BA29-9173065E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6E6-A924-4448-8B19-BB27B904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A7A-FFA0-4765-8745-1424C66D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EBD-8D0A-4F10-A045-6A645E91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A03-A357-4B57-931B-0BFFFE04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79E-B6D5-4D40-95AE-EC8A3520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5E9-9976-4B5E-AB03-ECC04F15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EEA-6A7B-43E8-9699-AA9D1759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49C-5FE9-497A-91CA-1FA7C679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A806-FD95-4DF9-BB4D-18F5BF6C3B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ject 3" descr=""/>
          <p:cNvPicPr/>
          <p:nvPr/>
        </p:nvPicPr>
        <p:blipFill>
          <a:blip r:embed="rId1"/>
          <a:stretch/>
        </p:blipFill>
        <p:spPr>
          <a:xfrm>
            <a:off x="0" y="1473120"/>
            <a:ext cx="8686800" cy="5130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7315200" y="54100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523880" y="38862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514600" y="1981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572000" y="4724280"/>
            <a:ext cx="44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Straight Arrow Connector 24"/>
          <p:cNvCxnSpPr/>
          <p:nvPr/>
        </p:nvCxnSpPr>
        <p:spPr>
          <a:xfrm flipH="1" flipV="1">
            <a:off x="4272840" y="4571280"/>
            <a:ext cx="299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Text Box 10"/>
          <p:cNvSpPr/>
          <p:nvPr/>
        </p:nvSpPr>
        <p:spPr>
          <a:xfrm>
            <a:off x="4572000" y="4267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Straight Arrow Connector 26"/>
          <p:cNvCxnSpPr/>
          <p:nvPr/>
        </p:nvCxnSpPr>
        <p:spPr>
          <a:xfrm flipH="1">
            <a:off x="4304880" y="4343400"/>
            <a:ext cx="2671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Text Box 10"/>
          <p:cNvSpPr/>
          <p:nvPr/>
        </p:nvSpPr>
        <p:spPr>
          <a:xfrm>
            <a:off x="45720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486400" y="3429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143000" y="22860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3"/>
          <p:cNvSpPr/>
          <p:nvPr/>
        </p:nvSpPr>
        <p:spPr>
          <a:xfrm>
            <a:off x="533520" y="15238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health spending as a percent of gross state product, 2004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228600" y="274680"/>
            <a:ext cx="86868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7a | Differences in per capita income alone account for more than one third of differences in health spending burdens across st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733920" y="518148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37"/>
          <p:cNvCxnSpPr/>
          <p:nvPr/>
        </p:nvCxnSpPr>
        <p:spPr>
          <a:xfrm flipV="1">
            <a:off x="3961440" y="4952160"/>
            <a:ext cx="6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Text Box 10"/>
          <p:cNvSpPr/>
          <p:nvPr/>
        </p:nvSpPr>
        <p:spPr>
          <a:xfrm>
            <a:off x="2286000" y="23623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809880" y="28195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/>
  <dc:language>en-US</dc:language>
  <cp:lastModifiedBy>Jia Yao</cp:lastModifiedBy>
  <dcterms:modified xsi:type="dcterms:W3CDTF">2013-09-06T15:13:24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