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995-00E9-4BB0-897C-F1A5A5A8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1BB-ADF8-493A-8FCC-7A3A326B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ABD-CDEA-4D56-B463-1C96D381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963-E42D-45AA-BA05-32845FD4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7C9-447F-4371-BFD2-624B2B9F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A21-458D-4149-84C3-FE308720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190-134F-415F-98C3-2680A0EE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071-9A38-4A34-8F80-384AF0FD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84F-CCB3-4667-A1B0-C30868DC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5E8-0D1E-459A-A188-629584F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904-9279-4FCE-82DF-0A4C3FE8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29C-11B2-4434-8811-2F08349D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8038-F88E-406A-BE11-E7526BAB9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53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4Z</dcterms:modified>
  <cp:revision>40</cp:revision>
  <dc:subject/>
  <dc:title>PowerPoint Presentation</dc:title>
</cp:coreProperties>
</file>