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2B91-3DE1-4DA1-B49E-4B0CB3E96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B | PERCENTAGE OF PRIVATE EMPLOYEES IN SELECTED COMPONENTS OF HEALTH SERVICES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7CAB-DE9A-4662-BE3B-3BB457EB8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D7D-4D30-4647-A0E5-4EA3DC7A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E54A-3F77-4B82-9308-E2D52986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DCD9-5E47-4714-A74F-AA6B9D35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BE2-8878-46A3-AE9F-C80CCA69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F0D-487B-488F-9CA9-9ABEF6EA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C1A-C41F-4401-98D1-63867159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332-5135-4E19-9009-3DE5889C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664-CA49-4B21-A44F-0DC48542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7A7-3D4A-405C-ABDF-9AB53360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8F0D-C37B-4B3E-9E87-BDF71E9C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6A7B-846B-4B4E-8F47-CDFFDDA0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C52-C1E0-4AE3-9E7E-B235E697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A17A-298F-4492-88AF-FC2E1D54F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b | More than half of hospital and health insurance employees work for firms with 500 or more work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939960"/>
            <a:ext cx="8560080" cy="5206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employees within an industry working in firm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b | More than half of hospital and health insurance employees work for firms with 500 or more workers </dc:description>
  <dc:language>en-US</dc:language>
  <cp:lastModifiedBy>Jia Yao</cp:lastModifiedBy>
  <dcterms:modified xsi:type="dcterms:W3CDTF">2013-09-06T15:22:49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b | More than half of hospital and health insurance employees work for firms with 500 or more workers </vt:lpwstr>
  </property>
</Properties>
</file>