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E119-BA3E-4BE5-9AEA-43480475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1DD-A7EB-4784-92C4-952C0DC7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F4D6-2F76-4413-A6AB-C8BB1BD0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BBA-A936-4D38-A4DB-2261905F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195-9135-40D1-88F4-49040C75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A1D-B108-492F-A091-584C1C6F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6E31-ABEF-4E70-A867-E546FBB7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384-0BED-45D6-9560-75FD3744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D04-6F4E-4177-A3CA-B1EC5541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EFD5-04B1-4CEC-A690-116D6FCD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F9A-A8FE-44AB-8D0C-6B31F03B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F7D4-A4E6-483E-B610-C67D3338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857B-B4F9-42DB-9DCA-17AE521AE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2560" y="228600"/>
            <a:ext cx="9038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2Z</dcterms:modified>
  <cp:revision>39</cp:revision>
  <dc:subject/>
  <dc:title>PowerPoint Presentation</dc:title>
</cp:coreProperties>
</file>