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5085-FB4A-45BB-B533-8C7737B61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9F7F-C022-4D8B-8D76-95E2E6D0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2130-0397-455B-BC25-C7F5CD1B0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6E5D-4D4D-4711-9811-AD7B8DB5E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7BA7-CC75-452A-A714-CF2C76DF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0EAF-D580-44EB-BEC0-6CF4BFC1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D189-5055-4AA0-83CF-DA79EEDD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DACD-6204-4C64-BB64-A1E878AA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E9BB-CFFB-47C8-B8A5-3B68AEF5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2B5E-DF0A-470D-A20E-6E5EFB18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0CA6-0F4F-41FF-94C9-BB52606D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25BF-55AD-4B18-94CB-4CBAF9AF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674F-A2E8-4034-AE8D-105AFAFA31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7000" y="304920"/>
            <a:ext cx="9090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2Z</dcterms:modified>
  <cp:revision>37</cp:revision>
  <dc:subject/>
  <dc:title>PowerPoint Presentation</dc:title>
</cp:coreProperties>
</file>