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4F1-73EB-4487-A9CD-88470FCD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851-6838-4144-8B89-FD360B3E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4E5-A914-448A-B28D-0CD37734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6F4-5DD0-42F7-94C8-877083F1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7DA-DE76-42D7-BFDA-CA0B6F97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A29-6B4A-4997-81D6-F458F0F2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953-C469-46C2-BB97-BEADF1B0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75A-C78A-40BE-8A03-CD042A6C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511-AACE-4C53-9E21-022AD059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E36-9C97-433A-B458-3E9550C2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ADE-6161-4F50-A9C2-8AF94B2F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D87D-B093-40FE-9921-3586CFAD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3675-BB01-4CAC-A828-91558DA53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0"/>
            <a:ext cx="8993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7Z</dcterms:modified>
  <cp:revision>8</cp:revision>
  <dc:subject/>
  <dc:title>PowerPoint Presentation</dc:title>
</cp:coreProperties>
</file>