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AB33-BAA4-44BC-953B-BC88D77CD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B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E4C9-7659-4B72-BCBB-7853E277C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1EF-8ABD-47DB-8EDE-F503E50A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2C8-9D58-4176-8F22-EA5B1A16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D52-2252-475E-8E08-32E737EB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992-EA80-402E-B418-640149A1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8BC-8F8D-4EB0-9265-DCD129EE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5CF-D49B-42FD-8B7F-0D83784E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EE8-B826-4297-AE32-B5BEBEDD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231-4A35-4858-8AD9-FF5E965E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031-A907-44CC-A992-42883CDB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958-0FF7-4426-AD90-DC63BA5E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4DB-EFEC-434D-AC3F-BC3EF25B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7BA-0958-4B8D-AC21-6559F4BF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D1A7-92A8-4E6D-9889-BAC598B7C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b | In the G7, U.S. has the highest share of government spending devoted to health , but the lowest public share of total health spe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b | In the G7, U.S. has the highest share of government spending devoted to health , but the lowest public share of total health spending </dc:description>
  <dc:language>en-US</dc:language>
  <cp:lastModifiedBy>Jia Yao</cp:lastModifiedBy>
  <dcterms:modified xsi:type="dcterms:W3CDTF">2013-09-06T14:00:0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b | In the G7, U.S. has the highest share of government spending devoted to health , but the lowest public share of total health spending </vt:lpwstr>
  </property>
</Properties>
</file>