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625B-41D8-4904-8AEF-74AE50D2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0538-6C7B-43B0-9E5B-DF885A61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9BA6-7562-4CEE-A2BE-1E25BF88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33BF-2120-469B-9BFF-B193BDCB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9746-F845-4F76-8C95-4E991024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2947-C99A-4E70-875A-CF4DB702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7342-5C36-4EF8-840C-E7182574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BFFD-B7ED-467B-A706-C85E18EF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3AB1-49E2-4942-B715-7E055272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FA9C-533A-4A8F-8BEC-9CB6B0D8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D09D-7CD0-4DE6-88FC-33F74B2B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CA40-F248-4974-A71C-4BBC06CD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FAA0-61FC-4DF7-BD5C-1656F1204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60200" y="0"/>
            <a:ext cx="882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5Z</dcterms:modified>
  <cp:revision>37</cp:revision>
  <dc:subject/>
  <dc:title>PowerPoint Presentation</dc:title>
</cp:coreProperties>
</file>