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2C7-57C7-4544-BB58-495FBC71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0AE-5702-4109-82D3-A2F0A3A0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852-316E-4745-8587-506B2997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73F-6FD8-44DB-A9C4-7FCF0E0C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F23-62AF-460A-9019-B0A2B1E2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71F-0FF7-49B1-A203-29F3D366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B6C-BB4C-4D5F-81E2-23BD10CB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862-90B0-4AB0-8385-932E3D89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8C6-AB1B-4BF8-805A-1644DCBA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A7D-E923-434A-9F53-F06F5288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506-A75F-4E46-B685-C05A4DBC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2D9-4B45-4EA3-812D-DBE0416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BFAA-457D-4C9D-BCB3-56F81A4CF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228600"/>
            <a:ext cx="900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0Z</dcterms:modified>
  <cp:revision>39</cp:revision>
  <dc:subject/>
  <dc:title>PowerPoint Presentation</dc:title>
</cp:coreProperties>
</file>