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4AA8-9975-4060-ADAC-507AE8A52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B | FEDERAL HEALTH EXPENDITURES WITH TRANSFER ADJUSTMENTS AS A PERCENTAGE OF TOTAL FEDERAL, STATE AND LOCAL HEALTH EXPENDITURES, 1929-20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4FDC-925F-4E1E-B7E0-DC6E0A2E5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4D2-3EA6-404A-AA76-3C2F4A5D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F01-F816-4544-A19F-424CB21B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4BA-9157-4699-A53C-3306E267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C3F-CE3A-440D-91CD-E5393B83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3D4-23D9-4677-8D94-DB9B8E54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FF5-3FA1-4FFC-901C-5FCC6216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717-E1D4-4A6F-9471-655C744B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E4A-2923-406D-8C88-9692D1D0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146-6731-409B-AC0F-45BAA262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EE7-8C31-48DD-AE78-24DDEF77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9BB-2067-4B00-8953-47A065CC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EDC-EC95-4246-ADF2-F692FFC0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0774-7203-4BF8-8879-3B3107024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b | Taking into account Federal transfers to states for health, the Federal share of government health spending exceeds 70 perc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4440" y="1676520"/>
            <a:ext cx="45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ederal percentage of total government health expendi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b | Taking into account Federal transfers to states for health, the Federal share of government health spending exceeds 70 percent </dc:description>
  <dc:language>en-US</dc:language>
  <cp:lastModifiedBy>Jia Yao</cp:lastModifiedBy>
  <dcterms:modified xsi:type="dcterms:W3CDTF">2013-09-06T13:59:32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b | Taking into account Federal transfers to states for health, the Federal share of government health spending exceeds 70 percent </vt:lpwstr>
  </property>
</Properties>
</file>