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C99-351A-4505-9D8C-9E3D672C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F67-1784-4451-8B13-54E6597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BF5-F895-4BC4-9BD2-941D533C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A8E-EF33-4EE3-9BEA-99875FB8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542-DA65-49B4-A4C1-28605D8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548-3F68-41C8-BF5E-2B4EAB66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79E-C5FE-4BB8-910A-D52396B3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B60-E2C8-4851-BEA1-DE10AD7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920-8A05-4D3E-BD52-48BE1410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152-B68B-43E1-8C53-C9B8B9C6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22B-D6DC-4B1C-AF62-BD200E6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43C-4D54-4550-A21E-E299D456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1C1-571A-48E4-95E6-82F9F9FF9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5200" y="0"/>
            <a:ext cx="7924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4Z</dcterms:modified>
  <cp:revision>37</cp:revision>
  <dc:subject/>
  <dc:title>PowerPoint Presentation</dc:title>
</cp:coreProperties>
</file>