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3751-B16C-4878-83D1-557D5B28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18B9-F359-4241-8672-DE9DF48E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4266-FDB0-413A-8BF7-7CCE1045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3937-B961-4F06-A565-B1A10121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F2C0-5AEF-457E-8383-0D228CCE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5EEB-A923-4F00-B8F8-D852B345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B11D-2C73-4480-AEF8-BB80E710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350C-8F74-4642-AE82-1CE11693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C34B-586C-445A-B1E0-0776C94E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167B-1530-4CFD-BCC2-4DD9A7D1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5DE6-6D85-4AE6-A231-7F09DB4D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E060-F862-4045-8AE5-417E891A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3317-AC6A-4262-90FE-4D9BC788D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8600"/>
            <a:ext cx="91425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20Z</dcterms:modified>
  <cp:revision>37</cp:revision>
  <dc:subject/>
  <dc:title>PowerPoint Presentation</dc:title>
</cp:coreProperties>
</file>