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6B9D-CBA1-4482-B654-45B6D4678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C | TRENDS IN PROFITABILITY: RETURN ON EQUITY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A687-8248-41DF-8E95-3D8E16DB0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6B8-36BA-45E4-9538-AE2CE5D6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FD1-8DDE-426E-A134-3AEBA0CC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49E-CF73-441C-9DE2-20C8243B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B765-658C-4A2D-B55B-84AE1535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DBE-C080-43E4-B56F-5D52AA9F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F3AE-125A-4FEA-B1F4-7B8C8E7C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254-99BD-4E9D-92CE-ACEE32F0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6924-3273-430F-8503-3B7E975A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273-5BE3-4B8C-9E6E-D812159D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FCE-85F5-4CB0-B8CC-0B433EAF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E06-84BF-4268-84AE-98A42DD4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CA6-516C-4BE0-B5CC-2FA9C9D7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5E00-3620-4B4A-9520-55CCAC9F9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c | Return on equity generally exceeds 10 percent among health-related services indus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83920" y="114300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equity (RO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486400"/>
            <a:ext cx="8343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E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c | Return on equity generally exceeds 10 percent among health-related services industries</dc:description>
  <dc:language>en-US</dc:language>
  <cp:lastModifiedBy>Jia Yao</cp:lastModifiedBy>
  <dcterms:modified xsi:type="dcterms:W3CDTF">2013-09-06T14:17:11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c | Return on equity generally exceeds 10 percent among health-related services industries</vt:lpwstr>
  </property>
</Properties>
</file>