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A412-BBC2-4933-BE06-A51C9B8F0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7449-4E56-48FE-B7FD-4B45D7461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4a | Inflation-Adjusted Per Capita Expenditures, by Type (chained 2005 dolla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D26-ED28-488C-802C-91395CD6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22F4-7813-4C66-AEFF-B0C20458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88A-764E-4F84-8936-8B832751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E9E-88E8-4EC2-8B2F-AF79D036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1B79-47F1-45CC-A49D-3FB1777B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0209-4AE4-4EDB-83F8-24D29D33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9CB9-E978-431F-8AE7-D79218C5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31E8-D21E-4CE2-80A0-45AA26DD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70A6-FBEB-46E4-83BE-04D23FED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5ED9-9A8D-4929-A44A-8CE62B27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BD75-3632-45B0-821E-3261D2A4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CB7-37FE-493F-B06F-4E55432C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FFC5-23C4-4B83-9C7B-B0D18571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4984-BA0A-4080-A90E-47570537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947F-7E5F-4207-BFD1-F79289B9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713F-E101-4E77-9DC7-932DF3EF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9AC5-52A1-4367-B41F-06DC34F9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B51-17BA-4B59-96BD-C371A5F2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7743-140E-4612-89E0-CEB93985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BAC-17C8-4D5A-A58B-5ECF70C6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27E-4DBC-48A9-A17F-9144CE4F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7B60-1370-4DCE-AAAC-0CB672FB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F32-A411-48DB-94E9-196B4AAD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533-85BF-4496-8FA5-B46A6DD5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19C2-BA5A-405F-B529-3618FF95E9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F361-46AD-41A4-B399-C64D74F7DA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4a | Despite rising health spending and taxes, non-health personal spending per capita more than tripled from 1929 to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4a | Despite rising health spending and taxes, non-health personal spending per capita more than tripled from 1929 to 2009</dc:description>
  <dc:language>en-US</dc:language>
  <cp:lastModifiedBy>Jia Yao</cp:lastModifiedBy>
  <dcterms:modified xsi:type="dcterms:W3CDTF">2013-09-23T19:14:18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4a | Despite rising health spending and taxes, non-health personal spending per capita more than tripled from 1929 to 2009</vt:lpwstr>
  </property>
</Properties>
</file>