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E7B2-65B9-473F-BD80-C2FA5D39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5.1a | Inflation-Adjusted Per Capita Household Net Worth, GDP and Health Spending, 1952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8788-3A9B-4455-B20E-9A21FC9BF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65B-6AC1-4F84-BB53-1A8499EB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4DB-959A-462D-8070-BBB2132C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2E7-1F8C-418E-9533-EBF3E6B2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73B-A2AB-43E1-B291-4C617197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312-A872-48B9-AA3D-7F0E2779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42D-739C-4C28-ACC7-76BDAA66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155-B332-4476-B1C4-B48BA07A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3A5-D1DF-4C0D-8919-E90F6DCB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ED3-C709-46E1-8DCB-027215DA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9A63-09B5-4449-9533-414C5F03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526-EED6-46B3-BDE8-9039458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CA5-9201-4A0A-AF8F-F22DB76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AE3-CB60-48D3-B11F-26E385890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5.1a | Since 1950, inflation-adjusted health spending per capita rose much faster than per capita household net worth or GD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of real amounts per capita, 2005 chained dollars: 1950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4:15:23Z</dcterms:created>
  <dc:creator>Kristy</dc:creator>
  <dc:description>15.1a | Since 1950, inflation-adjusted health spending per capita rose much faster than per capita household net worth or GDP </dc:description>
  <dc:language>en-US</dc:language>
  <cp:lastModifiedBy>Jia Yao</cp:lastModifiedBy>
  <dcterms:modified xsi:type="dcterms:W3CDTF">2013-09-06T15:25:59Z</dcterms:modified>
  <cp:revision>291</cp:revision>
  <dc:subject/>
  <dc:title>15.1 Household Net Worth, GDP and NHE, 1929-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5.1 Household Net Worth, GDP and NHE, 1929-2009</vt:lpwstr>
  </property>
  <property fmtid="{D5CDD505-2E9C-101B-9397-08002B2CF9AE}" pid="3" name="SlideDescription">
    <vt:lpwstr>15.1a | Since 1950, inflation-adjusted health spending per capita rose much faster than per capita household net worth or GDP </vt:lpwstr>
  </property>
</Properties>
</file>