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0313-5F0D-4747-AA9B-BB465933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9A09-C616-4031-B8FF-E7E62435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4109-E8EA-4B5B-8732-4716006B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B30-5EA7-4D8E-A60E-52AB38D3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55BA-BDF7-48C0-AE68-7D816CD0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EB64-B25F-4AE5-BAC1-98CF1FFB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38C0-0F42-433C-A29A-F826D440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2D46-E661-4D96-A1AB-62C9F016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F6BE-4958-434E-966A-29E3A482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A8F3-FDE2-4D14-B537-76DF5693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BA3B-B9CA-45A2-8A4E-9A467700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BB60-9286-4E99-BE21-6CE7C64E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927C-33A5-4647-9EF1-9AFE30CDB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871848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9Z</dcterms:modified>
  <cp:revision>14</cp:revision>
  <dc:subject/>
  <dc:title>PowerPoint Presentation</dc:title>
</cp:coreProperties>
</file>