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2722-AAD5-4E80-BAF7-1D7E70F55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B | PER CAPITA PHARMACEUTICAL R&amp;D EXPENDITURES AMONG TOP 10 OECD NATIONS FUNDING PHARMACEUTICAL R&amp;D, BY COUNTRY, 1980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6F88-0A9C-4B59-8F6C-AC2D8FE3C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B3A-173A-47FA-BBCF-4D5D7425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FCA-61CF-42F0-9648-3DACC663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31D-D636-471A-9D10-D2BDD249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F8A-F5EC-4724-9CEE-57386274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E4F-59D6-4F78-A8FC-15788DEF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CCA-53BB-466E-B348-71C8BC97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3B4-61B3-4DDA-804D-C94E1324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574-CD27-429C-BE6E-DBD5EB1B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108-3B88-479F-A8F8-C6A7D8D2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1F8-0C8A-4376-AED5-14CAE488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AE4-5BF0-4FE2-BC69-635FA36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646-2758-4AB9-BE1B-FD33B38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B4BC-C747-4939-9206-39F5265E3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b | On a per capita basis, U.S. spending on pharmaceutical R &amp; D is exceeded only by Denma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5600" y="152388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pharmaceutical R&amp;D expenditures (U.S. dollars,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b | On a per capita basis, U.S. spending on pharmaceutical R &amp; D is exceeded only by Denmark</dc:description>
  <dc:language>en-US</dc:language>
  <cp:lastModifiedBy>Jia Yao</cp:lastModifiedBy>
  <dcterms:modified xsi:type="dcterms:W3CDTF">2013-09-06T15:33:57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b | On a per capita basis, U.S. spending on pharmaceutical R &amp; D is exceeded only by Denmark</vt:lpwstr>
  </property>
</Properties>
</file>