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8764-8521-4E1D-9A93-83349FA81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A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78D4-A921-4326-A836-8A0D2F81D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837-54DB-48CA-ADB7-900E08AD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B38-E529-48BE-AA89-A1E7EDAA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C47-CD15-41D8-A78C-03F42CAA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A05-8B9F-492B-AA5A-6F8D44C3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6A5-F8DD-4A3A-B523-6976E87D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218-F271-44DA-9E5D-3B4AA824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A21-52F5-46DB-A69F-CBE1B5E0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C62-4472-4E7B-A4A4-C6FA302B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FE2-D1D3-4A14-B1EB-FAD2D527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A26-E3D6-4F1D-B5A6-6435CB14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816-4C06-4434-B000-FBB95702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5E3-55BA-4E95-A712-D7E71F21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84DE-F368-4DDB-AF3B-D3EBE77C3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.3a | Rapid growth in the health care sector has been a major factor in the rising share of total national output purchased for services since 19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a | Rapid growth in the health care sector has been a major factor in the rising share of total national output purchased for services since 1948</dc:description>
  <dc:language>en-US</dc:language>
  <cp:lastModifiedBy>Jia Yao</cp:lastModifiedBy>
  <dcterms:modified xsi:type="dcterms:W3CDTF">2013-09-06T14:09:52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a | Rapid growth in the health care sector has been a major factor in the rising share of total national output purchased for services since 1948</vt:lpwstr>
  </property>
</Properties>
</file>