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C511-53A8-4366-BF81-40DCBDE4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9594-8CDD-46C3-A9CF-4AD0E095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F94F-985E-457B-9E3A-24239FEB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B567-4DA9-4936-8D12-CE694FF8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10A9-6CF7-4CC2-9F5E-84CA0893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03D1-351C-48F4-9A05-29605EE3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4B39-817B-482C-9E43-6577DEB1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7758-446A-4904-8D1A-9BC97105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1321-3750-4B56-9CCB-46EF5A66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9CF4-1B66-43AE-95D6-D636E248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2005-36EA-497A-BB06-ACB4EFE1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0695-2C8A-4DA4-B8FD-74D81BC1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5DD7-C2A0-4B39-88DD-09149CF72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76320" y="1362240"/>
            <a:ext cx="8972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50Z</dcterms:modified>
  <cp:revision>24</cp:revision>
  <dc:subject/>
  <dc:title>PowerPoint Presentation</dc:title>
</cp:coreProperties>
</file>