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65F2-C435-4E03-99E0-C8AF8AF06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8DB6-F150-4C28-8435-D5D0C1A626B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5b | Percentage Distribution of Personal Health Expenditures, by Major Source of Financing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362E-4BDA-4C9A-B43D-415F63DB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F05D-E6E8-447E-95E8-5CF208D8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780-37AF-442A-8A44-0225E93A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FAF7-0E68-4BCC-8BAB-5C72F534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90E1-6E46-4752-9B71-9283500E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A08E-025D-4B97-8F9E-4CDCA520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9BF4-F0D4-4CA2-9A59-1AAB6B64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BBD5-1AE6-43CF-BE91-0822AC00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3580-BF9A-4FAE-A3D9-8A71BD66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4157-AD1B-4682-B0E2-8F45ACF8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C42C-264A-47B8-9B58-11FD86E5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B689-F232-4A1F-BB4A-7813F91C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B40B-AAF1-4C13-A53D-BCB9759C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4AF7-76B7-4336-A28A-C0946905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5CE9-9B72-47E2-ACD2-3BAA0039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7026-BA0D-42BD-980D-299028ED6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5647-304A-428B-AD53-88BE4DC5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B47-76D9-4B4A-BBD2-FBFEEE67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750-DC79-4095-B6B2-C0FAA251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F4D2-457D-4BF8-8038-E09DBEC1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718-6991-47D9-BB43-23F242E0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277-D2A2-4E1F-873C-A42F1978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B1F-3F60-4331-8A96-D8A29979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7B9C-82B2-4139-89C1-03E6F79E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18AE-A013-4D89-BDB7-EE83767CA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F120-A3C9-49E9-90E6-FA60644B0C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5b |The out-of-pocket share of spending has declined much more rapidly for hospital and physician care than other health services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5b |The out-of-pocket share of spending has declined much more rapidly for hospital and physician care than other health services </dc:description>
  <dc:language>en-US</dc:language>
  <cp:lastModifiedBy>Jia Yao</cp:lastModifiedBy>
  <cp:lastPrinted>2002-05-16T21:44:34Z</cp:lastPrinted>
  <dcterms:modified xsi:type="dcterms:W3CDTF">2013-09-04T21:03:57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5b |The out-of-pocket share of spending has declined much more rapidly for hospital and physician care than other health services </vt:lpwstr>
  </property>
</Properties>
</file>