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8C70-618A-48AC-9422-9178C9F2B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5 | Annual Per Capita Health Spending, by Age and Sex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42F4-BFAB-406A-8424-3F3B3DA14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F95-69D7-484E-8B76-2FDEC88F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A96-6A90-455F-AF3F-74A7929F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0E0-D2BD-485B-8491-9505B1AD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A6A-79A1-46A0-A66E-64335716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62B-F57A-4558-8925-0F17AE6B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10A-5CE4-45A6-A8F9-F941865A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777-FD6E-455D-8D99-101BE8FC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F1F-F487-4AFA-AE28-2C0D64CB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EAC-3EC6-4CF8-92D8-6DD38276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C239-7949-42FB-808B-F51737C4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AAC5-EA5F-4D2F-AAA6-A77674B0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E13-FB67-4725-BDF0-98706F94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1E90-457F-4ED7-9464-4D0F7D453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5 Female health spending is higher than for males from childbirth through reproductive years and in early years of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00=annual per capita health spending of males 18-24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5 Female health spending is higher than for males from childbirth through reproductive years and in early years of retirement</dc:description>
  <dc:language>en-US</dc:language>
  <cp:lastModifiedBy>Jia Yao</cp:lastModifiedBy>
  <dcterms:modified xsi:type="dcterms:W3CDTF">2013-09-06T15:13:14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5 Female health spending is higher than for males from childbirth through reproductive years and in early years of retirement</vt:lpwstr>
  </property>
</Properties>
</file>