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F2AB-19D5-447E-993C-62755AFC0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4 | SOCIAL BURDEN OF POOR HEALTH IN AMERICA, 1963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42EA-F01B-4528-A229-6CDBFFA41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FB6-F2DA-4511-BC22-909D9544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A08-41B8-4F4E-920E-257D2F89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3E4-16D5-4216-8EF0-44B074B7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DD4-DB25-4B1F-A5B0-44E413BA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776-806B-442D-9300-2D1C5047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E62-00DB-470F-AA07-8C683BD7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B69-5179-4845-84B9-B77340A0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482-266C-434A-A4B1-BB920E85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56B-590A-4318-956F-CC03EAD1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E78-454D-4946-BACF-B1A8B4BE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6A5-A7FF-492A-9075-FF0CD5FB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358-6ABC-4BCD-A002-0674A752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86E4-9C9C-4E88-A8BD-E0E4E7A75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4a | The economic burden of illness has risen since 1963 even though loss related to premature death and morbidity have decl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1600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conomic Burden of Illnes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571500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losses = national health expenditur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bidity losses = lost earnings due to illnes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rtality losses = lost earnings due to premature death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4a | The economic burden of illness has risen since 1963 even though loss related to premature death and morbidity have declined</dc:description>
  <dc:language>en-US</dc:language>
  <cp:lastModifiedBy>Jia Yao</cp:lastModifiedBy>
  <dcterms:modified xsi:type="dcterms:W3CDTF">2013-09-06T15:31:24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4a | The economic burden of illness has risen since 1963 even though loss related to premature death and morbidity have declined</vt:lpwstr>
  </property>
</Properties>
</file>