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4F7-B2BA-4354-9CB3-A4FD43DB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695-C5A9-4DEE-AF86-38F3E7B9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C6D-1617-4872-B34E-DB391F4C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766-2783-48D5-A599-76C3A56D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275-93B5-4479-B76D-46B906D5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49A-C209-4E79-B13A-7636F30E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9A1-3848-4A01-B59E-3A2324E7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D15-828D-4AC3-AFC8-E699A6F2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B60-FBC9-4F38-B611-55B21217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EE0-4473-4266-B073-0988CE43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64C-6DD0-43D7-8C7A-16DF6611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CAD-86BF-4988-9657-469A7E62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5638-8CF9-459D-A35C-B325065E5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46160"/>
            <a:ext cx="91440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8Z</dcterms:modified>
  <cp:revision>20</cp:revision>
  <dc:subject/>
  <dc:title>PowerPoint Presentation</dc:title>
</cp:coreProperties>
</file>