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DB99-B2C8-4F5D-A306-605CE1927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5.2 | ANNUAL HEALTH EXPENDITURES AS A PERCENTAGE OF HOUSEHOLD NET WORTH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AC42-AB74-4B6A-A909-4C760BDA2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141-2651-41B3-8820-D8778B2A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45D-14F0-4292-B9BC-1717761C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B22-6E98-44E9-B27F-2C1483D8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348-0D62-4400-9434-30065265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307-E2BD-48E6-BC2B-0FB6F6E0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F7E-8106-45D6-9FCF-3736F785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A89-EC44-4851-9C9F-B7731F1D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C32-3825-4C9A-953E-12B3F6B8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0FF-FF38-4460-972B-6C552887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053-1EFD-4818-941E-D23345E1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B30-EE85-4946-A25B-73720DF5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0C8A-98EF-4ABA-8573-59A97667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C088-62FD-449D-A514-0155DCA50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2 | For low income families, the cost of having one member in the top 10 percent of health spending would exceed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523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ulated spending as a percentage of family net worth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5715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simulated spending estimated assuming 1 family member had health spending in the top 1, 2, 5 or 10% of individuals ranked by expenditu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2 | For low income families, the cost of having one member in the top 10 percent of health spending would exceed net worth</dc:description>
  <dc:language>en-US</dc:language>
  <cp:lastModifiedBy>Jia Yao</cp:lastModifiedBy>
  <dcterms:modified xsi:type="dcterms:W3CDTF">2013-09-06T15:26:03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2 | For low income families, the cost of having one member in the top 10 percent of health spending would exceed net worth</vt:lpwstr>
  </property>
</Properties>
</file>