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EE4-404D-473F-947F-4D6A4349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7144-04F5-441A-9FC9-2933B28C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BAE7-65CD-420B-B736-93933C7B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FEAD-CB18-4BF5-9067-B1CB9213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E9B7-586B-44D7-8B38-4C4974E4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D233-1666-4E66-8948-C9C971D0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68A4-200C-4075-9221-1068734D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33D8-D077-4334-A2EB-CFAA5A88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BED7-7AD2-430B-81C5-8E89AAEF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7BCF-3389-40D4-9C61-E3C85621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C101-BE5D-482B-B2AB-2F46F3DF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9336-2BD5-4D36-B7BF-4044D405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DD77-ADD2-4E59-BA43-8259D2467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85680"/>
            <a:ext cx="91440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8Z</dcterms:modified>
  <cp:revision>22</cp:revision>
  <dc:subject/>
  <dc:title>PowerPoint Presentation</dc:title>
</cp:coreProperties>
</file>