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59C0-B372-40E7-9184-85510B23E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C0D9-B029-4C98-8E54-2C8F07ADB2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1a | NATIONAL HEALTH EXPENDITURES BY TYPE OF EXPENDITU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Centers for Medicare and Medicaid Services, Office of the Actuary. National Health Expenditure (NHE) Amounts by Type of Expenditure and Source of Funds: Calendar Years 1965-2019 in PROJECTIONS format. Last updated January 29, 2010. Available at: http://www.cms.hhs.gov/NationalHealthExpendData/downloads/nhe65-18.zip (accessed February 3, 2010).  See Center for Health Policy. Table  2.1. U.S. National Health Expenditures by Type of Expenditure: 1929 to 2019. Durham: Duke University, March 14, 20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CBE-0104-40CF-9EAD-79B00F0D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90B-7E40-46CB-8431-75AFD3CA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4CC-B2D1-4273-B8B3-970A6C54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489-3198-4B5F-BA6D-864EBDD3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F3A3-9058-49B1-812F-3B211D7A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C60A-545C-45ED-8199-54A30811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7464-37BE-4461-8CCC-DA32173B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4EB4-FF2E-4B01-806B-0DB5BC25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FAF9-8C37-4E9A-8B94-1DB9CFAD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E11C-5C07-47F9-B6B2-53D18240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FC2B-E7FF-4018-A32A-469BDC3A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0ED-5202-4733-A7E9-A90877C5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084F-9E84-449C-800A-43700716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CFBB-8FF5-4590-88B1-0643A3BA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222C-1B3A-4484-B6D0-957949BF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63ED-72EE-4F06-8C11-96304C3A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A888-2FB0-4A7B-8A82-6BE72B78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F8A-1583-4CD2-A4D1-8B74ECE9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2D7-FF2F-4816-895B-8630282D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2CB-C878-4013-87F7-80B15024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D153-B12F-459C-A743-DA85F8E1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6AE-A5F2-4F06-A1AC-D91BFAE7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E509-53D7-4B6A-9DE9-4ED87765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8871-D3A1-4F34-ACE3-71BAE4E6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FC05-7786-4F8D-B017-80B1874AD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E2E5-4B48-445F-A10C-8DC42812D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1a | Five-sixths of national health expenditures (NHE) is devoted to personal health care expenditures (PHCE)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cxnSp>
        <p:nvCxnSpPr>
          <p:cNvPr id="92" name="Straight Arrow Connector 5"/>
          <p:cNvCxnSpPr/>
          <p:nvPr/>
        </p:nvCxnSpPr>
        <p:spPr>
          <a:xfrm flipV="1">
            <a:off x="4572000" y="3428640"/>
            <a:ext cx="457920" cy="991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1a | Five-sixths of national health expenditures (NHE) is devoted to personal health care expenditures (PHCE) </dc:description>
  <dc:language>en-US</dc:language>
  <cp:lastModifiedBy>Jia Yao</cp:lastModifiedBy>
  <cp:lastPrinted>2002-05-16T21:44:34Z</cp:lastPrinted>
  <dcterms:modified xsi:type="dcterms:W3CDTF">2013-09-04T18:13:10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1a | Five-sixths of national health expenditures (NHE) is devoted to personal health care expenditures (PHCE) </vt:lpwstr>
  </property>
</Properties>
</file>