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FF8B-BCA3-4CCB-9A15-C6D249DDB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3A | TOTAL WEIGHTED HEALTH EMPLOYMENT AS A PERCENTAGE OF POPUL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3491-EA07-4947-9B09-B46BDF046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282-F1CC-46E9-86A8-9B22B33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541-FE7E-4024-8C3A-D775828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E8D-873E-4CCB-ABD6-CEBE3A17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CE9-E414-4A05-AFF2-7C1F7743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2CE-167B-491F-A828-14443E68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934-C25B-40C5-9A88-F050188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BF6-1BBB-4277-B3B6-E603C0D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857-45C9-49C7-A643-D2F1A7CF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D2B-FE4E-4475-8015-8695C10A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F95-465A-43C0-B137-A8FC935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AB6-13DA-49EC-9707-604F0F9F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105-B89C-4EAA-A363-4065FCD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C1D3-7C60-4356-8B5A-02B5441DA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3a | The opportunity cost of medical workers is only slightly higher in the U.S. relative to the rest of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2952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eighted health employment as percentage of total in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4952880"/>
            <a:ext cx="85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figures are calculated by multiplying the number of general practitioners, specialists and all other doctors times their respective weight and adding this to the total number of non-physician health sector employees. The weights were calculated as the average ratio of compensation for doctors relative to nurses for 9 countries (6 shown plus the  3 more with the highest level of health spending per capita: Netherlands, Norway and Switzerland).  The ratios were: 1.8 for GPs, 2.8 for specialists and 3.0 for all other M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3a | The opportunity cost of medical workers is only slightly higher in the U.S. relative to the rest of the G7</dc:description>
  <dc:language>en-US</dc:language>
  <cp:lastModifiedBy>Jia Yao</cp:lastModifiedBy>
  <dcterms:modified xsi:type="dcterms:W3CDTF">2013-09-06T15:03:57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3a | The opportunity cost of medical workers is only slightly higher in the U.S. relative to the rest of the G7</vt:lpwstr>
  </property>
</Properties>
</file>