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3C74-414D-4979-9701-E0346CECEE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1.4A | RATIO OF PHYSICIAN COMPENSATION TO GDP PER CAPITA, GENERALISTS AND SPECIALISTS, U.S. AND OECD, 200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1DED-BFBD-4DC4-9733-6E0E8C96E7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B710-872D-4F96-A02D-712B3408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A544-2E9D-4786-BF49-4D4735EC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88B4-A957-4AC3-AFF0-8DBE08A50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E75A-6F76-4775-B5DC-0FB1554C8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8159-69B4-4293-9E81-84B80B53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A54F-93E2-44B4-8661-D81C0CAA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E407-7317-496E-BC99-729243ED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27A4-AAAE-46D5-9A6C-EBFBC361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2AD9-7BDA-4FA3-8889-75B20871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8BE3-0062-45CF-8806-3725D3A0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B5E8-6537-42B9-9CA1-F0A46FD5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B4BC-F654-40BC-B97D-1B968CBC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4540-814C-4797-8FA0-FAE8895A8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1.4a | Physicians and nurses are paid relatively more in the U.S. than in other OECD countries, but the largest pay differential is for specialis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10640" y="1371600"/>
            <a:ext cx="652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io of annual compensation to own country GDP per capita (20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641160" y="622764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4a | Physicians and nurses are paid relatively more in the U.S. than in other OECD countries, but the largest pay differential is for specialists </dc:description>
  <dc:language>en-US</dc:language>
  <cp:lastModifiedBy>Jia Yao</cp:lastModifiedBy>
  <dcterms:modified xsi:type="dcterms:W3CDTF">2013-09-06T15:08:49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4a | Physicians and nurses are paid relatively more in the U.S. than in other OECD countries, but the largest pay differential is for specialists </vt:lpwstr>
  </property>
</Properties>
</file>