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83EB-79A9-4701-9C70-DC2091072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0700-C7B9-44CD-A61C-064B670AD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136C-25C9-4B83-AC2A-E10F1C5D7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55C0-E713-440C-BF9A-3506E3FD6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BB98-AA97-4B97-90F1-603D9E0C2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478D-3BAF-4A37-A947-9BE366B36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44DC-5AF3-4492-AFD1-42FD33DA1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7651-46C7-47D4-8F9D-99BE98A6D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B3A8-0082-413F-8E6D-75F19A4F2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5EA9-38EE-4886-BF70-1C0CEE47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F89C-A97B-4285-8C6D-F9ADFABC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B816-2B03-4812-B343-88FD9938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3CB34-D047-413B-B613-68EF080838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9200" y="152280"/>
            <a:ext cx="898560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8:16Z</dcterms:modified>
  <cp:revision>37</cp:revision>
  <dc:subject/>
  <dc:title>PowerPoint Presentation</dc:title>
</cp:coreProperties>
</file>