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69ED-29DD-496A-85CD-9290EFF3D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A833-371D-47AB-B428-36A3D8E78F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b | DISTRIBUTION OF PERSONAL HEALTH CARE EXPENDITURES BY SELECTED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53B-0C9E-4900-A621-F0BEEA74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ECFF-5EE9-4ECF-9FD1-CD22DDDA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05E-5156-415E-9E7E-9417642E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641-8937-4593-97FC-24008B96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4F0-E359-4D67-9709-3B06AD27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031D-AA98-4696-99A1-99C210C1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8364-E1F8-4E29-B167-0D69C2CD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A595-7786-4192-B9C5-3E623F89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1DA-2475-47ED-A83A-00795304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1911-5204-4086-8EF8-1350569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BB2B-A80B-4934-BF83-50DF862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B363-E1D3-415F-AA28-BFA2F9AB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1659-0184-4299-9AC7-3A32AE36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B72E-8686-49BD-AD2D-CEAED0E1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D584-FBBD-4220-97F4-5BB24053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614D-56B0-4E20-AE0F-1DB6064C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E089-69F9-43B8-A386-FDAD2DA8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D8B-394A-4D6F-B7ED-0FF88A72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280-CA23-483F-B538-343A8A8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CA1-1BD2-44C1-8B3D-B438073C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A6B-5214-49CB-B6B3-2704CF2B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5C3-8BEC-43DF-A975-3767B5B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2E8-B4C5-4C4B-84C3-8A7F66F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2FE-DEE3-48BB-9048-25F134DD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E7B9-AB04-4B63-874A-1578D6AEC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F50D-4E49-4E93-82ED-EF425E036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b | While the share of PCHE accounted for by dental services has declined steadily, trends for other components are more mixed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b | While the share of PCHE accounted for by dental services has declined steadily, trends for other components are more mixed </dc:description>
  <dc:language>en-US</dc:language>
  <cp:lastModifiedBy>Jia Yao</cp:lastModifiedBy>
  <cp:lastPrinted>2002-05-16T21:44:34Z</cp:lastPrinted>
  <dcterms:modified xsi:type="dcterms:W3CDTF">2013-09-04T18:13:23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b | While the share of PCHE accounted for by dental services has declined steadily, trends for other components are more mixed </vt:lpwstr>
  </property>
</Properties>
</file>