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6C8-D22A-4154-926C-27C64D25E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A | COST OF MEDICAL TORT SYSTEM RELATIVE TO NATIONAL HEALTH EXPENDITUR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E582-CE63-47E1-8035-5B1C1CE3B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109-4D3C-4757-B33C-A84D1552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BDE-F1C7-4614-9CC2-62325BA1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E77-7788-47A6-B368-54222EB4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CF6-12E0-4EB3-9B7B-4C502CE4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7E0-94BB-4092-8856-CD8CEF7A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466-8C36-4143-AEDA-690E0797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A70-0165-4750-99B0-4BE733A3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323-421C-4AD7-B996-D8951E5E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B59-1AC8-4ACD-9BF9-A7CFABBD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96E-F746-413F-9FAB-76422796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0CA-C8DB-4577-84DE-8938ED5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B4D-2479-4549-AD0B-D8599826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4B37-9858-418A-BAB0-B738AE72D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a | The direct and indirect costs of the medical tort system amount to about 6 dollars for every 100 dollars of health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cost per $100 of national health expenditure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85360" y="5759280"/>
            <a:ext cx="84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over CJ with EP Zeit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Services Regulation Working Paper No. MTS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shealthpolicygateway.files.wordpress.com/2009/06/mts1-medicaltort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 (accessed August 3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a | The direct and indirect costs of the medical tort system amount to about 6 dollars for every 100 dollars of health spending</dc:description>
  <dc:language>en-US</dc:language>
  <cp:lastModifiedBy>Jia Yao</cp:lastModifiedBy>
  <dcterms:modified xsi:type="dcterms:W3CDTF">2013-09-06T15:41:0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a | The direct and indirect costs of the medical tort system amount to about 6 dollars for every 100 dollars of health spending</vt:lpwstr>
  </property>
</Properties>
</file>