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AE0-D1EB-46BE-B94B-6B393746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28D-A9A6-45F7-AD51-A5DADEED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60B-0722-4E56-B493-49BC5712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B89-38C8-4B81-91DF-9D3B55D7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D941-895F-4637-86EC-3D67CB3D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F6A-E9AB-434D-8CC3-9A4051C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736-2AB7-4B9A-A8BB-0E0BD107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8F2-C025-4AD6-9DAE-BBA4844D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EA0-BD1D-45F7-AAD3-8AD9F6C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442-8463-42DF-81FC-3ACE49D9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391-8ED2-4F95-A6D9-0B39173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E4C-A24F-4F20-AC34-BC0FECC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062-409E-450D-B271-EE78B444F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7920"/>
            <a:ext cx="9002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2Z</dcterms:modified>
  <cp:revision>18</cp:revision>
  <dc:subject/>
  <dc:title>PowerPoint Presentation</dc:title>
</cp:coreProperties>
</file>