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8096-4A3A-4FCB-915A-C5D82F7FD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8.1a | Wage and Salary Supplements, by Type, as a Percentage of National Income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02C1-538D-4458-8A6F-D24A84208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B98-70B0-4956-86C2-96B5C50E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3F6-F93D-446D-9F81-181A4768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31D-693C-46B8-8106-2FF1D39E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D2C-7A8E-4F3F-B970-81F7879D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306-D69E-428D-A72C-53F63E80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1BDD-54A2-49F6-963A-4970CC8F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ECD-D377-47E1-A7E4-4E70E676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BD89-147B-43EF-B6D2-5B9A0EDA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BC92-A991-4E2C-88F0-734640B4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81EF-65EB-4002-A299-D6C291EE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14C-938A-4EDB-B2EC-F16FADA0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ADC-7043-4E24-AC0E-F8D83849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0443-870F-4513-AFE7-23549B3F8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1a. Despite rapid growth in health-related supplements, employee compensation as a share of national income has declined since 19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14200" y="957240"/>
            <a:ext cx="856008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9560" y="5943600"/>
            <a:ext cx="842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ote: Health-related supplements include employer contributions to health-related social insurance  (Medicare Part A, workers’ compensation, temporary disability insurance) and private group health insuranc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1a. Despite rapid growth in health-related supplements, employee compensation as a share of national income has declined since 1980</dc:description>
  <dc:language>en-US</dc:language>
  <cp:lastModifiedBy>Jia Yao</cp:lastModifiedBy>
  <dcterms:modified xsi:type="dcterms:W3CDTF">2013-09-06T14:16:48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1a. Despite rapid growth in health-related supplements, employee compensation as a share of national income has declined since 1980</vt:lpwstr>
  </property>
</Properties>
</file>