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3A7A-4848-41EC-823A-10DD61F50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76EA-906E-46FA-8E9F-186C826EA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895-F0E4-4E3A-8633-2691DADF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358-31AC-434D-AF33-AD27E585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804-E4A7-4008-9122-B97127E9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F09-6207-4AE1-B78B-A549CF2A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E0C-2043-4C43-8BC5-C09CEFD7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DA7-895D-43BD-8D61-0ABBEAB6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7A8-4B79-41B0-A417-9FAAF8AE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8A3-0727-46C5-9D61-3D5F988D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439-A755-4E86-85FD-02159EBE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524-3519-426F-AB36-B0189532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7CA-6F88-49D6-A6C3-9A8C38B9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54C-F981-4B47-9DAF-EC820D28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547E-7519-429F-8752-D69544B63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b | In willingness-to-pay terms, the social burden of illness has declined since 1963 even though medical spending has incre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cial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willingness-to-pay value of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b | In willingness-to-pay terms, the social burden of illness has declined since 1963 even though medical spending has increased</dc:description>
  <dc:language>en-US</dc:language>
  <cp:lastModifiedBy>Jia Yao</cp:lastModifiedBy>
  <dcterms:modified xsi:type="dcterms:W3CDTF">2013-09-06T15:31:45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b | In willingness-to-pay terms, the social burden of illness has declined since 1963 even though medical spending has increased</vt:lpwstr>
  </property>
</Properties>
</file>