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8AC-9F59-43AF-A4B1-331F06B70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B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4CCA-8FFD-4B7B-A07C-CC86D570A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A14-4505-48E4-B895-59EBFE50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06D-9D5B-49A3-ADCE-8E8F4BCD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995-7E32-4F80-B95E-A0F846AA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F8C-2C1A-48B7-AC75-69871080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081-90CF-4997-BBF6-C58D8D04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614-7055-4559-A925-2E2FAE48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B8B6-5C51-4AED-B472-C269A482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F7B-E0C2-4688-A042-358D597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5F5-597E-4D60-A099-7882D1EE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42F-8F39-4E3A-953E-201DD85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7F7-368F-401B-8CA8-51EF413B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2E8-AADD-49BE-BFAD-ADDDA425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19D2-B88A-4E69-9F9D-6BE0C46B0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440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b | Gross operating surpluses—a very crude measure of profitability—are higher in ambulatory care than in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ross operating surplus (GOS)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39560" y="5410080"/>
            <a:ext cx="83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gross operating surplus (GOS) is the share of industry national income remaining after deducting compensation of employees and indirect business taxes (e.g., privilege licenses).  GOS is somewhat larger than pre-tax corporate profits since it includes net interest payments and adjustments for capital consumption and inventory valu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b | Gross operating surpluses—a very crude measure of profitability—are higher in ambulatory care than in health facilities</dc:description>
  <dc:language>en-US</dc:language>
  <cp:lastModifiedBy>Jia Yao</cp:lastModifiedBy>
  <dcterms:modified xsi:type="dcterms:W3CDTF">2013-09-06T14:17:0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b | Gross operating surpluses—a very crude measure of profitability—are higher in ambulatory care than in health facilities</vt:lpwstr>
  </property>
</Properties>
</file>