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504-9086-4E94-9E9B-D623201F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44D-593D-432C-ABE7-47CADA30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0E22-B0BA-4E5E-A17E-3E94D8C6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320-F6AB-44B5-853A-926FEE68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968-CFA1-4DCC-87DB-80533A2C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939-A162-455C-BD10-841D1CF5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3CF-5488-48F8-85DB-DFF015BF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9B1-572D-4AC0-8A09-CA05C55C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6DB-D6C9-416C-89B7-0CBEFD61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FA0-D212-455D-8FD9-E7D070ED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B1A-8820-4AE7-AB33-6114F88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506-9B27-4CBF-8E80-48615436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DFD5-8932-40E6-9B55-3AA603C32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41360"/>
            <a:ext cx="9067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8Z</dcterms:modified>
  <cp:revision>31</cp:revision>
  <dc:subject/>
  <dc:title>PowerPoint Presentation</dc:title>
</cp:coreProperties>
</file>