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6A1-BC86-41B9-A5B5-729BD1A8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B8B-D9E6-4252-9CF2-70559556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5E2-4F02-41D6-9213-0DCC5E3E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DBE6-4C18-4DCF-810F-77E21307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5CC-7E87-41ED-9C47-0F799FB7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C0C-A8E8-439E-861D-EE31B7A8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07F-F8E1-43F8-AE45-31CB713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3AD-DCF9-4F4D-A2A9-2387AC8F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3AE-30CA-4912-BFA0-F29DB84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405-115E-40FD-9142-45049EA9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2F6-81B2-4B8A-A441-865C46B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539-AC8E-4241-870F-BFC9C51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6AA-2C1A-4DC4-98DB-66ADD562B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1000" y="1066680"/>
            <a:ext cx="898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8Z</dcterms:modified>
  <cp:revision>40</cp:revision>
  <dc:subject/>
  <dc:title>PowerPoint Presentation</dc:title>
</cp:coreProperties>
</file>