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29C-1E49-4DC2-9106-4E4727A7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03C-4918-49B4-9E14-1C01C93A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B46-66E5-448C-ADC8-02D70181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2BE-C62F-4251-8B1D-517C1FC6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7AA-D700-41B9-91F9-2DDB2FF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37E-34E1-4BCA-B663-350C6BE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4982-2C34-4DF9-AACF-51427000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414-5813-4B21-93E5-D4BA1BF4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1E7-2AAD-46A9-A616-D83AE53C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8862-8F17-4B7E-9563-C5464C3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AF2-CA26-494C-8D0E-B8A725D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674-A477-4E79-B6E7-B46735A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7679-66C3-4CA2-9943-72782BFAE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228600"/>
            <a:ext cx="9007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1Z</dcterms:modified>
  <cp:revision>39</cp:revision>
  <dc:subject/>
  <dc:title>PowerPoint Presentation</dc:title>
</cp:coreProperties>
</file>