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94E8-27F9-4E33-9B23-3333BB62D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DD33-7993-4E72-94F9-38A4C6956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F433-6EE1-4BBA-8B70-8A8174412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29A4-AA60-422B-8A96-5C8CE51F9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79DE-D583-4A68-BFBE-28609BEA8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3662-9BC9-4D44-9614-D9158D9AD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26CC-7DBB-4030-9070-18574FA3D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1554-9794-464F-95D6-A4ABCBFF0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6E54-F14E-4C23-B836-2E9F5AFEF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C3B1-5BA9-4805-8353-4B70E24BB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2678-0A7E-46AD-B875-B1D52A447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3957-D1E5-467B-9F7C-CC027141E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F05F0-448B-4ACA-AB4F-6BDBA1166B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12680"/>
            <a:ext cx="9144000" cy="66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6:49:36Z</dcterms:modified>
  <cp:revision>6</cp:revision>
  <dc:subject/>
  <dc:title>PowerPoint Presentation</dc:title>
</cp:coreProperties>
</file>