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A98-1B98-41B5-A70C-746C81BE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FA4-550E-46AA-B7F6-DAC57964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5FD-7455-43D8-BB0C-1AE378BB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7D5-6F2C-480F-A9A4-CF395FA9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646-A051-4B67-B392-3D618DD2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69C-5288-4ED5-B5B8-4C393A1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2DF-6684-4C54-B062-3709D1E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BCE-9D05-4123-9504-7FF5063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37A-9E0A-4F7B-A3D5-62A9B5A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9E9-ED82-4230-BE5C-1F2FE393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043-3AAC-40F8-B2F4-3DE39CC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1BD-4866-4258-9D00-DC5322F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EF5D-4BDE-43A7-A85B-491C720AD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14400" y="20520"/>
            <a:ext cx="73357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0Z</dcterms:modified>
  <cp:revision>37</cp:revision>
  <dc:subject/>
  <dc:title>PowerPoint Presentation</dc:title>
</cp:coreProperties>
</file>