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AFD-0C10-48B3-9006-AEB2A32E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101-7EAD-474A-8ADF-4A780087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1DB-7A35-47B2-A133-BCC4E3D7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0546-4797-44C1-8EA4-7DFBE613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B6F-A8D8-42DF-8D29-2C1F3468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1DA-A465-446A-A45A-8810507C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1EE-377D-4B70-BD88-1F22222D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38D-41C2-48FC-A230-8933DE8A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BBF-E88A-4EF5-B3EC-AAECB42D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AD4-4483-4F92-842E-918D180B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37F-0529-4A9D-BE55-EEAF6DE8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9E6-0470-448C-A3D6-B49E2825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71F5-84F4-4890-908B-6D0FEA16A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680" y="76320"/>
            <a:ext cx="91346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6Z</dcterms:modified>
  <cp:revision>30</cp:revision>
  <dc:subject/>
  <dc:title>PowerPoint Presentation</dc:title>
</cp:coreProperties>
</file>