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E11C-2B5A-471A-8E00-5CDE317D9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3a | Real Hourly Output and Real Hourly Compensation, Private Sector and Ambulatory Health Services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1601-2DEC-4DA9-B79D-75626207C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D0D-D4CE-4D8E-A453-735F4252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28E-2E02-45DA-806A-F0E762B8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1D2-2682-4C4A-9573-DC243F24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35C-CBD0-4A29-9B1E-3B61675B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35C-134B-4F3B-875C-D193B7D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B15-F1C7-4690-9868-F4F25F4B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45A-EC2C-4FEB-A9ED-F57D9E6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2C4-63D8-4424-8E95-8F2D77E2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6F0-D628-4752-B530-32B53188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EF3-3C9F-4CBB-94E3-ED5BDCE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F3C-34F3-46BA-8C83-1FB37BE3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F76-BDE1-4FA9-B47B-07A3E58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2B79-40CF-4AE9-8135-36CD1D9D7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3a | In terms of worker purchasing power, real hourly compensation in ambulatory health care matches changes in hourly output over the long ha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932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exes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3a | In terms of worker purchasing power, real hourly compensation in ambulatory health care matches changes in hourly output over the long haul </dc:description>
  <dc:language>en-US</dc:language>
  <cp:lastModifiedBy>Jia Yao</cp:lastModifiedBy>
  <dcterms:modified xsi:type="dcterms:W3CDTF">2013-09-06T15:08:4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3a | In terms of worker purchasing power, real hourly compensation in ambulatory health care matches changes in hourly output over the long haul </vt:lpwstr>
  </property>
</Properties>
</file>