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4E2-F4DE-49C7-813F-79C0F42D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577-9E9B-491D-B60F-7067BAED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023-E629-487B-9A3D-9792231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394-C8DA-4735-B87D-7E872554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FD0-9133-4988-9C07-478265E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6AA-DB77-48EC-9C39-EC80E128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930-862C-4874-8651-7CECC5BA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24F-9D95-4910-B14E-E8032E37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D9E-C0D2-4B44-8E24-5878A12C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B51-6575-4C70-9067-4E59BA0E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2B5-5F3A-4D64-9557-7E4FAF11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6C2-A3CA-4364-BB2A-2E907369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367-B1B4-4D87-9C43-AE594449B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1Z</dcterms:modified>
  <cp:revision>39</cp:revision>
  <dc:subject/>
  <dc:title>PowerPoint Presentation</dc:title>
</cp:coreProperties>
</file>