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ACDC4-4219-4CAD-AF3B-E5E8141C8B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2.2a | Net Burden of Health-Related Expendtures by Family Income Decile, 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1518D-4F77-4E07-9091-47AC2E87F2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A7BC-2B0C-4478-8C04-12246F209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CCDD-25A5-4C51-8A7D-10CF7272F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D042-B57A-4E17-80C9-D8CE77378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69B1-2BD2-4E2B-A900-5FB91299B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B3A5-9033-4D40-9923-5B4049B65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949B-6B01-46DF-ABA3-7982067DE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9954-9EC0-4742-9271-3E85FDC88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CBB0-5E34-461C-BBAA-B19311E2E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71BB-0DA0-4E59-A580-C79AE5C66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7AB4-5695-4887-B16E-583C3316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4593-BBA6-4DB8-9302-7044E643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5809-6060-4A41-A008-467239A1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F4BDB-E9A0-4594-9714-4BD736E303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2.2a | The net burden of health-related expenditures is about 2-1/2 times as large for very low income families compared to very high income famili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331120" cy="51307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1386000" y="417816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come decile (1=10 percent of households with lowest incom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62120" y="137160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pending as percentage of family income (200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484200" y="4579920"/>
            <a:ext cx="82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The family burden of health expenditures includes out-of-pocket spending; premium payments for group and nongroup health insurance (including the employer share) and Medicare Parts B and D; and health-related taxes, including payroll taxes for Medicare Part A and the family’s share of other taxes used to pay for publicly-financed health care.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484200" y="5815080"/>
            <a:ext cx="843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: Selden TM. 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Using Adjusted MEPS Data to Study Incidence of Health Care Finance.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gency for Healthcare Research and Quality. http://www.ahrq.gov/about/annualconf09/selden/selden.ppt (accessed July 16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9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2a | The net burden of health-related expenditures is about 2-1/2 times as large for very low income families compared to very high income families.</dc:description>
  <dc:language>en-US</dc:language>
  <cp:lastModifiedBy>Jia Yao</cp:lastModifiedBy>
  <dcterms:modified xsi:type="dcterms:W3CDTF">2013-09-06T15:12:55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2a | The net burden of health-related expenditures is about 2-1/2 times as large for very low income families compared to very high income families.</vt:lpwstr>
  </property>
</Properties>
</file>