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F65F-73DD-4BD3-8721-D3396D530F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4A | HEALTH INSURANCE COVERAGE, NON-ELDERLY ADULTS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0582-6C08-4950-816C-39AF3E673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B36-56A9-4588-A056-7464E07A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4526-55C5-4727-A2A3-E8AD3647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365-5080-486D-8E60-0003A19C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63C-620A-47A8-94A1-E88864C9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E38A-0C35-48B3-807A-90723A4D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6323-514D-460C-AE7E-7AFC134C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134-89C4-4D5A-AA58-0A81F2E2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A02-0940-4425-AF24-3CFA870E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4562-EBB8-4B1D-B26D-70A8F257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C7A-94F6-4434-AA44-202C39EE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5FE-BAC1-41BE-B68B-3308F4E0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8464-A626-413F-84E6-54AF63C5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7781-58B4-446A-AF1E-1FA273187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4a | Most non-elderly rely on private health insurance coverage, typically through an employer health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177840" y="863640"/>
            <a:ext cx="8559720" cy="589284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590400" y="1219320"/>
            <a:ext cx="76201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4a | Most non-elderly rely on private health insurance coverage, typically through an employer health plan</dc:description>
  <dc:language>en-US</dc:language>
  <cp:lastModifiedBy>Jia Yao</cp:lastModifiedBy>
  <dcterms:modified xsi:type="dcterms:W3CDTF">2013-09-06T14:06:2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4a | Most non-elderly rely on private health insurance coverage, typically through an employer health plan</vt:lpwstr>
  </property>
</Properties>
</file>