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38DB-9C94-4F13-96E6-C330448D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1012-A32C-4542-B2E7-F7028B43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C017-ED9F-4F65-A28A-21651595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BF85-77D7-4FE3-A786-43DA740C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4022-CF67-4B28-8437-567DD62A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0F11-3A3E-42BE-819A-F3C0F3AE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CF5B-EC6F-45B7-B6E4-B0E76A03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8C80-0A00-4442-A6FE-69644AC5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B63B-9A4D-4C23-A92F-39FAB4B5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3D2E-A784-4954-94D6-303431DC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2293-8CC6-4392-A564-CCBB475D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D7CB-5863-4C9D-BFAD-E6C47D6E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6AB3-4E6A-432C-8E36-2330D8C16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326880"/>
            <a:ext cx="906480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9Z</dcterms:modified>
  <cp:revision>20</cp:revision>
  <dc:subject/>
  <dc:title>PowerPoint Presentation</dc:title>
</cp:coreProperties>
</file>