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920E-C237-4B39-B148-89048A981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b | ANNUAL COMPENSATION IN HEALTH SERVICE INDUSTRY BY SUB-SECTOR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3EC8-D4A2-45A1-9B89-FC0DBB02E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60C-5E81-4375-901F-3A20864D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E5D-036E-4B32-A7B5-D977F0A2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374-DDCB-44E8-944D-EB646AC8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139-0127-46E7-B7F7-653F68A9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BF94-F5E3-4FEE-B81E-45D93743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15F-4C1E-4999-9582-C5FFD342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53C-E9A0-49DE-9D1E-3BC48F66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FA1-E4FE-429A-8820-22C8504D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54E-518F-40CB-9157-0FA1F7F2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192-8BE4-4CAC-92D1-78D94082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BE0-1FA1-4858-B3F6-693D75B8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CFC-3D78-45ED-9459-056E77D8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B5E6-40C6-484B-A659-11213E75E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2b | Average annual compensation is much lower in long term care facilities such as nursing homes than elsewhere in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922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371600"/>
            <a:ext cx="688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nnual compensation per full-time-equivalent worker (2008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b | Average annual compensation is much lower in long term care facilities such as nursing homes than elsewhere in health care</dc:description>
  <dc:language>en-US</dc:language>
  <cp:lastModifiedBy>Jia Yao</cp:lastModifiedBy>
  <dcterms:modified xsi:type="dcterms:W3CDTF">2013-09-06T15:08:38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b | Average annual compensation is much lower in long term care facilities such as nursing homes than elsewhere in health care</vt:lpwstr>
  </property>
</Properties>
</file>