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174-70E5-4226-A28E-D293D63F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c | Net Burden of Health-Related Health Spending as a Percentage of Family Income, 1989 and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FCF-925B-4358-8B39-A8BBC95E7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F56-2111-4494-9C81-E457627F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5B4-7C71-403C-A292-3C7905E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84A-CF2B-4032-9DAD-00F83C62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065-76AD-4481-A246-2F4D68AB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A3C-E510-4AB5-ADCD-DA42146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F59-0D7D-4983-9DF4-C37AD01A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4F0-B605-4660-92D6-CCDA1F1D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D4C-FCFB-4CF6-9CE1-913E91CB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BFB-A8E1-490C-9255-C532A7CA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91C-A7B9-4FF0-818A-D26A59A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6D3-D009-4C08-A7CD-0045C66A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3EC-F55C-40F8-9645-B0B4240A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5395-DD5C-4C25-B6BD-B9536B1BA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c | The total net burden of health-related expenditures has roughly doubled at both ends of the income dis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3911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762120" y="13716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burden of health spending as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62120" y="54100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net burden of health spending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c | The total net burden of health-related expenditures has roughly doubled at both ends of the income distribution</dc:description>
  <dc:language>en-US</dc:language>
  <cp:lastModifiedBy>Jia Yao</cp:lastModifiedBy>
  <dcterms:modified xsi:type="dcterms:W3CDTF">2013-09-06T15:13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c | The total net burden of health-related expenditures has roughly doubled at both ends of the income distribution</vt:lpwstr>
  </property>
</Properties>
</file>