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0FD-5CD0-4341-AECB-8792E8ED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73B-4DB9-4920-8724-37A9BAA8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47E-D539-403E-B1BF-470F54D3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5FD-4BF1-4317-AAFB-35FCB2F8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DB2-2C84-4C26-B735-1584A3B3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855-4BD4-4EAA-BA4D-EEEE2D18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D39-BB7F-451F-BCFD-4CE03A58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FEC-E089-459E-AD72-D76F314A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0CD-5CFF-4C8A-AA3D-CA6C60E2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01E-3AD7-43CC-AA26-0B9F5610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DAB-DBE4-4223-94BC-0C88B4B8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7C3-38B8-4A7F-A962-5CAA7B21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86C0-C190-4247-9E1F-B2B8F53D9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1474920"/>
            <a:ext cx="90262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5Z</dcterms:modified>
  <cp:revision>35</cp:revision>
  <dc:subject/>
  <dc:title>PowerPoint Presentation</dc:title>
</cp:coreProperties>
</file>