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2B5F-A881-46A0-B7A8-E4CDACA2E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E9C7-C0CB-4215-A0A2-2CEED7961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2E7A-D35D-4DDE-B8B0-8A4AE5AF1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EC32-5EB6-43E6-9A24-32CFB9BC5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1C2F-DFD7-4E3B-AC11-AA3887729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F128-582A-46ED-A14B-5BC6D13C1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DF15-3F7B-4790-BF2D-03CF92168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C807-5F42-4059-8D5B-30488C649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0631-3465-4A99-8C04-DDDF1DEA5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FC1A-846F-4A5B-9CC5-1BFED429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C51A-B003-422E-AF08-3E14DB77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EF86-3592-41EC-9A92-12615CA5D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8A9CB-23F3-4FFB-BB4C-BFB0E4BB3D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264960"/>
            <a:ext cx="8934480" cy="62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07Z</dcterms:modified>
  <cp:revision>39</cp:revision>
  <dc:subject/>
  <dc:title>PowerPoint Presentation</dc:title>
</cp:coreProperties>
</file>