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383D-FCD4-408B-BF83-351DB165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BB76-F659-49FE-8EEC-1E557229A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9a | General Government Expenditures as a Percentage of GDP, 1993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70B-85E5-4340-AF7C-566EDC38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09D-5D5D-467F-8918-3389F13F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FDC-6E12-4D42-BF07-1684337B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05E-67CC-456A-BDE8-D0B2515A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1E15-868A-4EAF-9F64-7FF38460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42C7-0B18-4DB0-B1B2-4B449942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66B9-C0BB-4E45-8712-BEFB36E6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6733-6BF6-469A-8D97-1EAFA5D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E7F8-C335-4D4F-BD3B-DC14982C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15BA-DA53-4813-ADFE-4AC9E54D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250B-20FB-459E-9489-2B28A579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9EC-DD6E-42B7-AFC2-890848A0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7C00-FAE6-42F6-9B91-E351F2B9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7EC1-A100-4E0E-A1C5-81EA33D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0927-D1A2-4904-B203-3BE3AA7F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D0C2-233C-4BE6-A6EC-E31F894E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5C3F-5DDB-4647-8876-D4164216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609-558F-4F56-8244-D0F85EC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E2A-0355-46C5-9CA8-F6970022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EC1-7CBD-4ECD-8353-19676098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8A5-99F0-4E20-8E5C-3C500CD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642-F981-4730-BFA2-D1EDC94C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AC3-8576-433F-95D5-0EE4644B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25D4-2771-45A3-8521-5480B2F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A535-4DCB-4A72-BF67-AFA231F3B4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6561-B363-4E8B-806B-7DA5C7246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9a | U.S. has a lower burden of government relative to its major G7 competi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380880" y="1924200"/>
            <a:ext cx="8377200" cy="4933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2209680" y="57913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eneral government spending (all levels) as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9a | U.S. has a lower burden of government relative to its major G7 competitors </dc:description>
  <dc:language>en-US</dc:language>
  <cp:lastModifiedBy>Jia Yao</cp:lastModifiedBy>
  <dcterms:modified xsi:type="dcterms:W3CDTF">2013-09-23T19:14:4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9a | U.S. has a lower burden of government relative to its major G7 competitors </vt:lpwstr>
  </property>
</Properties>
</file>