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66D-4220-4240-8C71-7206FE26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A33-DA83-4953-9AF8-AFDBEC92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F49-C218-4698-BD8C-EB4D3F87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231-8B2F-4CF3-87F5-FE9AA1CE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3A5-5B58-4634-9153-310BDC77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9CD-8D2F-4277-AAAD-C24CED96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217-DFC9-41CC-81EE-FA48BA89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D37-469B-42B0-9F95-BCBDD282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33D-487E-402C-8347-7F51E9DB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AC1-146E-454D-A316-733DBD97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BD5-6542-448E-A112-C7B53093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790-B601-40A7-B68E-1D10DB7A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A5EB-2BF5-42C5-841F-C05B29A1E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0Z</dcterms:modified>
  <cp:revision>6</cp:revision>
  <dc:subject/>
  <dc:title>PowerPoint Presentation</dc:title>
</cp:coreProperties>
</file>