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2EB6-05ED-4D8E-BDE7-4AB3E1A69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5A | PER CAPITA DOCTOR VISITS, DENTIST VISITS, ACUTE HOSPITAL DAYS AND PHARMACEUTICAL GRAMS IN G7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6EA0-B4D0-47F3-9BDC-58EA35AA5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122-411F-4FD6-BA1C-9032A660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4E6-4487-42A2-9987-7F0648F0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186-70DD-459B-96FE-69469BAD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88F-959A-4B5C-BA20-114D1076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627-E40E-439F-BACC-E27C6F0E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6BD-D222-4D8A-8338-86E8DF93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6C9-AF7A-4204-B478-F568B979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694-BA2C-44C3-B2BF-120CCC2C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E20-3E13-4CF3-AD5C-996E4E7F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039-C219-4913-AE0E-57BB4E85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824-2C29-4E58-8C2B-76744EE9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3B2-B451-4989-B480-8DC4F664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E7D0-C2D2-4FE8-8410-CCFFECC48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5a | Relative to G7, the U.S. generally has lower utilization of acute care services such as doctor and hospital care, but not pharmaceut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4581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4479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indexes: 100=U.S. rate of use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15320" y="5851440"/>
            <a:ext cx="45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igures for pharmaceuticals are fo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5a | Relative to G7, the U.S. generally has lower utilization of acute care services such as doctor and hospital care, but not pharmaceuticals</dc:description>
  <dc:language>en-US</dc:language>
  <cp:lastModifiedBy>Jia Yao</cp:lastModifiedBy>
  <dcterms:modified xsi:type="dcterms:W3CDTF">2013-09-06T15:40:5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5a | Relative to G7, the U.S. generally has lower utilization of acute care services such as doctor and hospital care, but not pharmaceuticals</vt:lpwstr>
  </property>
</Properties>
</file>