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1338-F33C-4943-99B1-62347BDF46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3B | ADULTS AGED 18 OR OLDER REPORTING FAIR OR POOR HEALTH STATUS, BY RACE/ETHNICITY AND FAMILY POVERTY STATUS, 200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2968-FCE6-4E44-85E1-F40E85729F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FD95-3881-499A-BF37-9D74883C2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77BB-2A7D-4669-8D9D-7BCD5C66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2D38-44CB-4AAE-AF31-90EDD6006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8706-6AAC-4AE0-9FC5-482B93C7B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A31B-791F-4D8C-B371-23C8F28F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4D11-484E-4163-89A8-4842EEA3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9E4B-DF04-471C-AB6D-4FB2BFDD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C65A-2D27-48C4-A773-6369EF5A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9EFF-906D-442E-8BBE-BAEC4555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47A7-CF55-4EAE-BD95-D49582B0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88F1-3B77-4DBE-8CD9-D23DAC91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D872-9AC2-439C-B682-554FB2BD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019C-E544-4E97-ACA2-5E152110A1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3b | In all poverty categories, blacks have worse self-reported health status than whites while health status for Hispanics is bet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4479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individuals reporting poor or fair health (200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3b | In all poverty categories, blacks have worse self-reported health status than whites while health status for Hispanics is better</dc:description>
  <dc:language>en-US</dc:language>
  <cp:lastModifiedBy>Jia Yao</cp:lastModifiedBy>
  <dcterms:modified xsi:type="dcterms:W3CDTF">2013-09-06T15:16:59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3b | In all poverty categories, blacks have worse self-reported health status than whites while health status for Hispanics is better</vt:lpwstr>
  </property>
</Properties>
</file>