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7928-2A3F-4E03-850A-77E5655BE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1 | NET PRESENT VALUE OF LIFETIME EARNINGS AND STOCK OF HEALTH FOR AMERICAN NEWBORNS, BY SEX AND RACE/ETHNICITY, 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6711-98A5-4357-AC5B-CA63B9C25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EE1-29D1-46D7-B899-BF0F756D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EC4-B010-41CA-95E7-18FFC8DB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929-153C-4A3A-A2FF-635BEFB1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8EA-4753-4FEA-BA05-AFB34CD1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2AD3-3305-43C4-94FA-E8FC1F06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4348-ACA8-410B-ABDD-2BF2A67C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38EF-0B76-4D0E-8783-C568817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4DD-1389-474C-9811-7D1163BD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A63-3EC7-4607-8282-45AA355F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05A-918D-46A9-A577-D089ACF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763-04CC-41B5-8D5D-61EBA424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7D3-DC77-407F-8A86-FE37D016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8DB3-044A-440D-87E7-815AF9106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1 | The average American’s stock of health is several multiples of their lifetime earn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using 3 percent discount rate (millions of 2005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1 | The average American’s stock of health is several multiples of their lifetime earnings</dc:description>
  <dc:language>en-US</dc:language>
  <cp:lastModifiedBy>Jia Yao</cp:lastModifiedBy>
  <dcterms:modified xsi:type="dcterms:W3CDTF">2013-09-06T15:31:18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1 | The average American’s stock of health is several multiples of their lifetime earnings</vt:lpwstr>
  </property>
</Properties>
</file>