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D6D-923A-4935-B67F-7C3E4C69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F27-CCB2-489D-8034-11EB8039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444-F2A7-4092-9E94-DF50EEC9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B9BA-456D-4587-800F-BB5B1C1F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B15-BA40-45C9-AB45-182A695D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E05-CAFA-465E-ACA0-A0DB4D94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37D-0949-40C2-80FA-AF45EB7D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E8D-9602-49B2-9885-17BCD526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76B-6345-4321-9F5D-0EAA1C2E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18E1-141B-4A97-8431-B0FEC6E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597-4DCD-4477-B21F-88D2B8AA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9B7-5838-45CE-8510-711897C2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CBDC-A5BE-4D16-9C59-FFBE3CC3B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9400"/>
            <a:ext cx="899136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1:18Z</dcterms:modified>
  <cp:revision>6</cp:revision>
  <dc:subject/>
  <dc:title>PowerPoint Presentation</dc:title>
</cp:coreProperties>
</file>