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0D7-1232-4206-874B-A5860814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CB9-836C-4674-8225-8E11E530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88E-1510-46C0-98A4-A8AC3D81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81C-D8D3-4DB9-B63D-07158131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1A7-EFB1-490E-981F-542ADE10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7FB-6F2C-40DB-AFB7-F283C16B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86B-03EA-4ECF-9F24-2B3023CD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414-D67B-4A47-912B-21C437E3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41E-64C0-4B98-A7E1-2BA0AD84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92E-6FB3-441D-94DD-7F71A22C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445-6C83-46DF-99C9-7DBE48BF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7E9-D170-47D2-8ABE-24C49782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AC72-381C-4572-885F-C30A22DBB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840" y="1143000"/>
            <a:ext cx="895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9Z</dcterms:modified>
  <cp:revision>22</cp:revision>
  <dc:subject/>
  <dc:title>PowerPoint Presentation</dc:title>
</cp:coreProperties>
</file>