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1CF-8245-4177-9539-1ED21361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2C9-A68A-4EAB-A9EA-432821F8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8FF-45AD-483B-88F3-258F028F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3A5-C66B-4106-A1BC-0C5D17D5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616-3275-4BD5-A594-A88F306F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4B0-3414-4C78-923B-5FDB24CE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95D-B01D-45E0-AB44-7577BDA5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810-F3A8-4B85-9CCF-D21540F5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F9D-9141-4B9B-9CED-1D26877D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816-D7CE-454D-9CBD-DEE2274B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F6D-5A6B-4C60-91EA-5251AD55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730-E784-4FE9-9DDC-336FE465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D64D-4DB1-445C-9AF2-35C1BD471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3Z</dcterms:modified>
  <cp:revision>6</cp:revision>
  <dc:subject/>
  <dc:title>PowerPoint Presentation</dc:title>
</cp:coreProperties>
</file>