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88C5-193C-4018-AF49-A99ABBC71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EB60-A77F-4486-B8C4-3E277148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D5DC-3778-43EC-B27E-7BA49083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8EFC-8BBE-43DE-9FB1-44E419EC0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C572-74D0-4B38-888C-44ED2E26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E4BE-1087-4A01-ABD6-A98B1FD6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CE9C-995F-400B-8A3D-DF6C07A6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3912-CE97-4FC5-9E0E-F22216AC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E0C0-FE75-473C-B023-A335AC56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E59E-344B-4E57-ACE9-109D38B4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5ED8-0BCC-4312-ACB3-E0A52AB2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79F8-9B2A-44D2-B52E-25164030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90FA-0A22-4A3D-93D1-E26D77D6F1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240" y="380880"/>
            <a:ext cx="90835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4Z</dcterms:modified>
  <cp:revision>28</cp:revision>
  <dc:subject/>
  <dc:title>PowerPoint Presentation</dc:title>
</cp:coreProperties>
</file>