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7092-EF45-4D74-82E9-8C0B1980D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36A0-943C-40B6-9172-EEB89DE8B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7E08-9DD7-4BD1-AC36-633ACEEFE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AC6E-F484-41A7-A14B-95C413B92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F00C-3E32-4A20-A369-C997EF327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6BAD-280B-4DF5-B7E5-D2AC7DA14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E3C1-1AC2-4FC7-848D-EDACB7BD9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B7E5-EDA5-4402-A760-1D39BCF0D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6D44-2BA0-4E59-9CA4-7CA67FFB9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EC63-D384-42A9-8109-0195EB6FB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0A60-02D9-4DCA-B1DD-B382DFD2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5270-7D42-4CB8-8097-FF443E58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20CD9-2892-4413-BE6F-709B374A4B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57240" y="228600"/>
            <a:ext cx="90295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41:58Z</dcterms:modified>
  <cp:revision>4</cp:revision>
  <dc:subject/>
  <dc:title>PowerPoint Presentation</dc:title>
</cp:coreProperties>
</file>