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99E2-1C0A-491A-916E-16FC699DE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8B | MEDICAL MALPRACTICE PAYMENTS RELATIVE TO TOTAL NHE AND EXPENDITURES ON PHYSICIAN SERVI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7334-350A-4AA0-A937-1A3FDB219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89F1-EA3C-4AA0-8883-9117B0FE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E84-1B4E-4121-8372-5747B717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57A-2F5B-47FD-815E-50C791C4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6E0-E548-40A1-AC36-007D6A35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5A24-4ACD-436C-821C-020A4CB6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17E-37F1-432E-A5FC-EC2124D8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79DD-9C52-4B68-A90B-6CA127A8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939-436B-4A19-8CC7-8CCEB1D3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3670-0052-46B7-9E1A-50B50639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0DC-EC9B-4D4C-A0E9-80792D38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131-56D2-4696-A5CF-48BB316F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246E-17D2-41B8-A9F4-801FB2D5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7EFC-4C0B-4663-BA90-7701FC413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8b | Medical liability payments as a share of total or physician spending peaked in the 1970’s and have declined through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cal Malpractice Payments per $100 of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8b | Medical liability payments as a share of total or physician spending peaked in the 1970’s and have declined through 2009</dc:description>
  <dc:language>en-US</dc:language>
  <cp:lastModifiedBy>Jia Yao</cp:lastModifiedBy>
  <dcterms:modified xsi:type="dcterms:W3CDTF">2013-09-06T15:41:0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8b | Medical liability payments as a share of total or physician spending peaked in the 1970’s and have declined through 2009</vt:lpwstr>
  </property>
</Properties>
</file>