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C649-B936-4A52-B549-A2D2BC57D7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2A | YEARS OF POTENTIAL LIFE LOST BEFORE AGE 70 PER 100,000 POPULATION VS. HEALTH SPENDING PER PERSON IN SELECTED INDUSTRIALIZED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E979-4937-415E-B7AE-8DA8EEDB3D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FEFC-FCC6-4A64-A7E9-1751B52D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A579-1A1F-46AF-847E-42A039F8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4685-28BE-41D1-9DC2-E03BFBDA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3C7F-4FB9-471C-BB95-951F385D4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2231-B841-4134-B4C9-C4FCEF6B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FE8C-F053-4E68-B807-CDA1D99C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E8F2-36BD-4D5B-90D8-16A4C4ED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7A73-F7CF-4277-B4C6-7EEEF0F8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2CBA-1EF2-4EBA-8622-46FA03F2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177E-7A6D-4B8E-AE1E-C3511C5E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EBBA-9B8D-4989-BE0C-496A8B16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555F-2324-4855-A825-F9F27F3B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B59E-5829-4CE7-A02C-90181352D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2a | Years lost due to premature death are much higher in the U.S. than most other industrialized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01520" y="1549440"/>
            <a:ext cx="88646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914400" y="5780160"/>
            <a:ext cx="69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spending per person (U.S. purchasing power parity, 2006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2a | Years lost due to premature death are much higher in the U.S. than most other industrialized nations</dc:description>
  <dc:language>en-US</dc:language>
  <cp:lastModifiedBy>Jia Yao</cp:lastModifiedBy>
  <dcterms:modified xsi:type="dcterms:W3CDTF">2013-09-06T15:40:38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2a | Years lost due to premature death are much higher in the U.S. than most other industrialized nations</vt:lpwstr>
  </property>
</Properties>
</file>