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F9F-2F94-4C51-93F6-5A2FAFDA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7E48-680A-42F4-A9CB-E0BE786B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0A5-572C-46D0-B668-575312A7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2DA-3570-43D8-AA14-0A80EBEA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7E61-985A-4C6D-9AC7-85AB912F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712A-88A1-444A-88C7-A3ADB9C7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2D7-2786-4BD0-BC36-59FA0644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975-E97C-4E8D-B838-973DA601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5B1-A751-442B-9128-60440412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3E8-E057-4AF7-BF68-89763827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30A-B36C-41D7-89B1-9A0C87C7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F2A7-FB85-4727-B230-05340524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B929-3672-4991-AFD0-EA51076D4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54200" y="0"/>
            <a:ext cx="76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6Z</dcterms:modified>
  <cp:revision>20</cp:revision>
  <dc:subject/>
  <dc:title>PowerPoint Presentation</dc:title>
</cp:coreProperties>
</file>