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DAAA-2166-446E-9660-BD70DFD9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7DAE-7E5D-4D6E-A4DE-8BA21E55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79DF-1711-4FB6-9041-F51CB1CD7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56ED-E6FC-492B-9C67-7CEF61E0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911C-A430-4BDD-B8C5-7946856E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86EC-E6AE-4A5B-A8F0-C0153645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D727-6763-4E69-9A20-345F430B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55C9-91DC-4B82-8FAD-3C64F1E0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D85A-5D82-4A08-88D6-42EFC023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C0BC-BC6D-43E8-A6C4-CCFE847D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710D-0D50-4B4A-A026-C1ABF39C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EB82-471F-42EF-850E-D075595C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77FD-A84C-4C71-96EF-AC4D94D8B5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519200" y="0"/>
            <a:ext cx="610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3Z</dcterms:modified>
  <cp:revision>20</cp:revision>
  <dc:subject/>
  <dc:title>PowerPoint Presentation</dc:title>
</cp:coreProperties>
</file>