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0CA2-A0A0-4869-8311-FD013A03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767-2015-4C81-99F8-52397475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DBA-4D85-455A-A3C6-A3099B47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DD5-9C02-4855-8C24-49EDF67F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00F-B5E8-48D9-8C81-EBD6A29F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E68-3F2A-41E9-903E-B0BEE481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A01-4657-4177-A50D-29349294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63C-A398-446E-9327-83F0D76C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E4E-2B47-4951-92DA-59E14449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954F-7372-40D1-86EE-23B0F5E4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272-FB83-4868-91D1-6F09E81A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8C4-BFCA-4735-8A4F-95A87D98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C930-1CA3-49B6-B37F-20B21C45F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3360" y="1295280"/>
            <a:ext cx="9017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7Z</dcterms:modified>
  <cp:revision>39</cp:revision>
  <dc:subject/>
  <dc:title>PowerPoint Presentation</dc:title>
</cp:coreProperties>
</file>