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B27A-05A7-423C-8173-5299FD75D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663C-E224-4CA9-9726-FF82AFBF3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B | RATIO OF HEALTH SPENDING PER CAPITA FOR ELDERLY RELATIVE TO NON-ELDERLY IN SELECTED INDUSTRIALIZED COUNTRIES, 1960, 1984, AND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FDF-93B9-4CCE-898F-443750B1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605-AD66-45C1-8E2E-5A00465F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795-1F4F-44C1-BF53-CDE4FD84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5BB-2247-454B-BD54-AE5AD0E4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1EAE-DED3-4EAD-A415-531D387D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08D5-41F4-4C3D-BFEB-13EDB65F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8D77-D87D-4A80-95E8-F0900010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07FB-9355-43C5-8600-34B13256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722F-496F-467E-BF61-9F8F1893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657D-55DE-4F4E-88A7-9C942AD2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FADD-BBF1-41FB-86EF-201DFBB4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468-FE34-45FF-9FDF-09E36E07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C889-4983-4447-BB60-7A0BD9F0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E682-26C9-4524-8606-760693C3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C751-3A64-42FC-884E-6BA85635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7412-5929-46B6-A148-D3A7BF40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9225-BF5B-4CC9-9410-6326C057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D14-AE1B-4FEE-9697-11FDDD05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B89-9D26-4C95-A03E-FD91368B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08B-319C-44E8-BA33-54752EE7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A85-80B3-457A-8F26-0E2FE9CA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90AD-95DF-44B6-8CAF-9D2C2BAD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9D5-E427-411B-873E-977D4EDE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837-EC66-40A4-8440-64344050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E51A-4DE7-4C53-B42F-6A051292CC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1FBA-8DFB-404A-9A0B-49881E5E87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b | The ratio of annual health spending for elderly relative to non-elderly is similar in U.S. and other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" y="602784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b | The ratio of annual health spending for elderly relative to non-elderly is similar in U.S. and other countries</dc:description>
  <dc:language>en-US</dc:language>
  <cp:lastModifiedBy>Jia Yao</cp:lastModifiedBy>
  <dcterms:modified xsi:type="dcterms:W3CDTF">2013-09-06T14:06:4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b | The ratio of annual health spending for elderly relative to non-elderly is similar in U.S. and other countries</vt:lpwstr>
  </property>
</Properties>
</file>