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E64C-21A2-4C5A-A1A8-5F2CCDFD4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4A | MALE OBESITY RATE, FEMALE OBESITY RATE AND ADULT SMOKING RATE, G7 COUN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26CF-C8A3-4860-93F7-998C7CF1A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598-B627-450F-931B-3FD03280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C33-AB16-49ED-B610-A0A443D3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6D8B-AEEF-4C6A-A521-E1D1E988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622-8DA6-4BA8-BFA5-95D5D1BA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EC0-13EF-46A0-8FEF-496C4A39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574-6641-4A84-889E-85FDED3B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9D9-A649-4199-80FC-93CB0999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6FF-A4D6-4EF0-B106-DE01B144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DA5-F077-4366-81B7-DFA3FC8E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F8E-5956-4BE3-A369-D89CD90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210D-4FB9-4319-905C-64ECD3E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4E7-B0DD-490C-8F6B-A7A3D9C7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5086-6E88-4E96-A93F-869FE95D0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4a | The U.S. has far higher obesity rates but much lower smoking rates than its major G7 compet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14479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Adults Age 15 and O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311840" y="586728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 = measured obesity rate.  SR = self-reported obesity r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4a | The U.S. has far higher obesity rates but much lower smoking rates than its major G7 competitors</dc:description>
  <dc:language>en-US</dc:language>
  <cp:lastModifiedBy>Jia Yao</cp:lastModifiedBy>
  <dcterms:modified xsi:type="dcterms:W3CDTF">2013-09-06T15:41:2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4a | The U.S. has far higher obesity rates but much lower smoking rates than its major G7 competitors</vt:lpwstr>
  </property>
</Properties>
</file>