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77A-D7E5-4131-9FF0-A50D1FD3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559-EBEF-41E1-8B4F-F50CE163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F5E-AB68-4083-B9A4-67490CB6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617-7DA5-4D3E-A54F-F86CBCA3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BA3-E1A0-4323-BF60-61DC9416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577-6886-45F0-8700-0E7FCE1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BE7-05C0-46CA-85F8-25D2318E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B58-5EBE-444D-AAD5-BAC1FF2D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CB6-8408-4558-BF8E-499C7F94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03E-E231-4CFC-83CD-F5BDCC6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A53-7785-4428-AB8D-F8B69AD6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615-ACCE-4EB4-A042-6A7AF0F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EBB7-1C02-4C64-A610-4E55ACA1E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295280"/>
            <a:ext cx="8925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9Z</dcterms:modified>
  <cp:revision>39</cp:revision>
  <dc:subject/>
  <dc:title>PowerPoint Presentation</dc:title>
</cp:coreProperties>
</file>