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9A8-E164-459E-B353-F73CEC7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FC3-0CF7-4AF1-AE1E-AFA5661D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E81-5C1C-44FF-BAC3-A1020EDA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9AD-951D-4BA0-AC7B-9CF953C9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956-8396-4DE0-B06A-9745FA2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63E-C5B6-4112-A3FF-FBA5A0DB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686-4E38-4890-87B2-000D284A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7A9-C18B-43A8-8F69-7FB283D6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84C-B24E-4828-92DB-61489DC4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BA5B-700E-471F-9880-154314A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A3F-B58E-4E03-B593-584372C9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138-B83D-4C10-A190-4D98642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311E-2460-482D-A073-788F6334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0374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8:58:10Z</dcterms:created>
  <dc:creator>7Copy</dc:creator>
  <dc:description/>
  <dc:language>en-US</dc:language>
  <cp:lastModifiedBy>Jia Yao</cp:lastModifiedBy>
  <dcterms:modified xsi:type="dcterms:W3CDTF">2013-09-03T18:46:54Z</dcterms:modified>
  <cp:revision>4</cp:revision>
  <dc:subject/>
  <dc:title>1.1a | In constant dollars, national health spending increased more than 60-fold over the past 8 decades, real GDP grew far less in this period</dc:title>
</cp:coreProperties>
</file>