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A254-AC28-4FE3-9409-0788A0044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7E6D-1A2C-4647-9B4D-9354F076F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18F3-9B49-4541-84AC-8F903F456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D281-E9AC-4903-9D7C-8F304FDF7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2FCC-5BF0-4BDB-B605-5F2FC6FCE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4B3A-AFC0-4DD5-A2C3-990E904F3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61EB-529A-45DA-8408-E333D1B06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D897-89EA-413A-A447-E294645F0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2D7E-4BF0-4234-A34D-B1A0A1152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68CB-FB3D-4657-ACBF-607EA761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15E7-4001-4E13-A292-04594C67A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019E-C636-43C1-97AD-F890CB7AF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2E7B6-FB4D-4741-8552-B092F95280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03320"/>
            <a:ext cx="9144000" cy="66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06Z</dcterms:modified>
  <cp:revision>18</cp:revision>
  <dc:subject/>
  <dc:title>PowerPoint Presentation</dc:title>
</cp:coreProperties>
</file>