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08DF-2E85-456D-80F5-B8AAC535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B5BF-9EC9-41A9-9079-D8F5DDF8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7A60-08B5-4004-828C-F7613C592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7DA5-6EAE-4323-821E-DD1DFB3E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C8F9-3238-4440-A0BA-1CF4F0B1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635C-7C9C-4EBB-B734-0902B422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527D-5071-489A-AF39-92B0260E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C003-F26D-4DEF-980A-DCD7090A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937F-8098-4BC0-975F-CB0E8CD2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0EDA-AE40-4BA7-AF8B-0BD1840F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2172-CB5D-42B3-8305-AC6B93FC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716F-0AE0-455D-B0EC-2B56D393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1CE9-07A3-4C0C-8640-6137068A3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044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4Z</dcterms:modified>
  <cp:revision>8</cp:revision>
  <dc:subject/>
  <dc:title>PowerPoint Presentation</dc:title>
</cp:coreProperties>
</file>