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A0A5-BE51-48E4-A508-BD09AAE478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2.1B | TRENDS IN CONCENTRATION OF MEDICAL EXPENDITURES, 1928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3730-FDE9-49B9-B939-A2824A793C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F72B-4973-40DA-A4BF-827D1D11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5FE7-1335-4F23-90AF-5D71A05F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07E6-C603-402E-BF00-9AF3DA470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BB78-5D11-4398-A441-28F8CB58C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75D4-D324-4D1C-BF29-80E0A486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7ADC-826E-4E4B-9E7B-13C0C645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D5F7-4CDC-4B3B-95A3-02148C69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16B8-7CE3-4786-9C48-B474DEEC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7F12-3C6B-4B17-9A25-504E800B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C112-1F8A-4337-B6B4-4186A4F6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D543-59D6-4DC7-8D59-3889668D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EC18-3335-45E7-8455-9D688522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6B2D-508F-497E-8286-E6BC7F7954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1b | The concentration of health spending has been quite stable over decades, but there is some indication it has declined recen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549440"/>
            <a:ext cx="90169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3600" y="1523880"/>
            <a:ext cx="56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total annual health spending accounted for by gro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1b | The concentration of health spending has been quite stable over decades, but there is some indication it has declined recently</dc:description>
  <dc:language>en-US</dc:language>
  <cp:lastModifiedBy>Jia Yao</cp:lastModifiedBy>
  <dcterms:modified xsi:type="dcterms:W3CDTF">2013-09-06T15:12:52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1b | The concentration of health spending has been quite stable over decades, but there is some indication it has declined recently</vt:lpwstr>
  </property>
</Properties>
</file>