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815-D3AE-4579-8DA8-2096BABE8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7D0-82FD-4A30-BBF0-57A59E2F9C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7a | Distribution of Elderly and Disabled Enrollees and Expenditures under Medicaid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1F83-8F19-45B9-A08B-488F567C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47C-1645-48A3-BDA5-81E3B9E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A1F0-F71A-49B8-BA6C-62DC1805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655-FE40-43E4-95EF-2FD2396A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D9AE-552E-43B7-AAB7-B17352BB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F809-E639-4A6B-92B7-ABB3FA22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8A7-91C3-4FD2-A736-00DBD6D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C5AF-02DD-42E0-BBFE-120DE49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7DDC-207B-46B1-997C-5DAC1269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4455-F704-4769-AF0B-D73EE3B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17ED-6AA9-495B-ABB5-3F296F0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B6A-FE00-40B9-B833-C0FF66A6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7875-9B6D-40D5-99CB-E2E9A081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B421-C450-4B1D-AA8D-C39AAED2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F41-7C9E-41C5-8458-99A973D1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A71-F715-4DB1-A87B-487389D5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B50C-6012-4043-986A-45565478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58C-93B8-44E9-B6A0-4740B14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1BC-63C5-4E2B-822A-B47BB128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38F-AE90-450F-9EB3-BAE0C2AC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B99-5ED9-49EB-967E-E0E9C4E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C0A-0848-4CFF-A343-58D3D537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309-BCD7-49B6-96E3-128C2779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197-4725-47D4-850C-C68334E7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413-86B3-40AB-B27E-84B26502A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D78E-33BC-4535-80EF-8C033A07D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7a | The elderly and disabled constitute one quarter of Medicaid enrollees, but more than three quarters of Medicaid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09480" y="5867280"/>
            <a:ext cx="815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Kaiser Commission on Medicaid and the Uninsured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edicaid: A Primer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y Information on Our Nation’s Health Coverage Program for Low-Income People. June 2010. http://www.kff.org/medicaid/upload/7334-04.pdf (accessed October 13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7a | The elderly and disabled constitute one quarter of Medicaid enrollees, but more than three quarters of Medicaid spending</dc:description>
  <dc:language>en-US</dc:language>
  <cp:lastModifiedBy>Jia Yao</cp:lastModifiedBy>
  <cp:lastPrinted>2002-05-16T21:44:34Z</cp:lastPrinted>
  <dcterms:modified xsi:type="dcterms:W3CDTF">2013-09-04T21:04:03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7a | The elderly and disabled constitute one quarter of Medicaid enrollees, but more than three quarters of Medicaid spending</vt:lpwstr>
  </property>
</Properties>
</file>