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D75-3A76-4B12-B0E7-76221CA8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9EA-EA80-4D09-B041-BAFED7AD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8F5-22A0-4205-82D1-DED82FAF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963F-B1E1-46F9-BA42-3DC3BDE3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B3D-DA8F-4986-9283-BBD35DF9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6B7-B275-4197-8E6E-0A1E487D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D1B2-E1C6-4DEE-BDBC-38160933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9CC-3723-458E-821D-84B907B2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9A0-FB2A-46B2-8883-8A30E679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CFB-03E9-40F5-899B-5E04F8FC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A62-DAD3-4B60-AD17-B521F65A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863-225C-43BB-967E-46294CC5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8443-40FF-4FDC-96CC-DAD3EE1DD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98440" y="0"/>
            <a:ext cx="674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8Z</dcterms:modified>
  <cp:revision>36</cp:revision>
  <dc:subject/>
  <dc:title>PowerPoint Presentation</dc:title>
</cp:coreProperties>
</file>