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2888-B861-4941-91E9-184B894AE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3a | Total Rates of Reimbursement for Noncapitated Medicare per Enroll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artmouthatlas.org/downloads/reports/Spending_Brief_022709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AF3F-D388-463B-B5E2-39C581D31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54A-2CB4-4F27-8538-E3DA1F01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873-278E-4448-974F-CC9AA00B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281-767E-4A85-953D-AB91D6A5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5D6-C363-4455-8781-39F6D1B5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179-415A-4030-A5A5-23F7B299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2F2-2077-49F0-98C0-2BC79B4B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ACC-49C1-41DA-A297-3373193F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853-E345-4A1D-8EC3-D9656CEE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928-0D05-4CC2-B27D-5F9B047F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8BC-1F61-455B-906E-3B9A9535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CCF-9CEF-4BE0-80F0-4B105BA5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612-5C8B-4963-8598-B1264058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DD97-D7F1-443E-8F9A-ABF94C2B3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3a | Medicare reimbursements per enrollee vary substantially across hospital market areas in the U.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772400" y="1371600"/>
            <a:ext cx="11430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6560" y="5791320"/>
            <a:ext cx="81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isher E, D Goodman, J Skinner and K Bronn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Care Spending, Qua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nd Outcome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rtmouth Institute for Health Policy and Clinical Pract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over NH. February 27,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1680" y="1143000"/>
            <a:ext cx="830880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6858000" y="1168560"/>
            <a:ext cx="1828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3a | Medicare reimbursements per enrollee vary substantially across hospital market areas in the U.S.</dc:description>
  <dc:language>en-US</dc:language>
  <cp:lastModifiedBy>Jia Yao</cp:lastModifiedBy>
  <dcterms:modified xsi:type="dcterms:W3CDTF">2013-09-06T15:40:43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3a | Medicare reimbursements per enrollee vary substantially across hospital market areas in the U.S.</vt:lpwstr>
  </property>
</Properties>
</file>