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DC0-07E5-4852-91FF-565ECCE6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39B-6F86-4A9F-8FEF-9976197E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1E5-B8B2-4AED-870E-08A843FB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C35-9483-4371-A759-A6C21274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0A3-E54A-4C0F-90C8-CF05E9EE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04B-500D-42A5-A3AD-F874FAF8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4BB-91AC-42AB-AFE9-C117EF69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D13-51C0-433C-A825-9E5EC33C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724-F45A-4D01-9466-DF8A1E32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F0B-0424-4CDD-BD3B-1CAC162C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A46-38FA-4BDC-8BFC-29A7E8B3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2F1-848D-48B6-9327-0B74BD24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D004-E8B2-48B1-8A9A-F2A2A1A06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0360" y="85680"/>
            <a:ext cx="905364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3Z</dcterms:modified>
  <cp:revision>35</cp:revision>
  <dc:subject/>
  <dc:title>PowerPoint Presentation</dc:title>
</cp:coreProperties>
</file>