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3C8F-4F1A-4E81-A39E-1850780C5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EE65-511E-4CF3-A785-D1C157F938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b | Alternative Measures of the Government Role in Financing Health Care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855-516B-4789-8EA3-9A18B6E9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E85-55C7-45C4-8478-67BAF38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469-AF34-4955-AEB3-7C436841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02D-54AD-4A50-8741-96EA7264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2510-8FEA-4CDA-8B71-F1D45AB8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9BC0-7008-43DC-9183-C20A0640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B0E4-796F-4671-A1AA-864A0C39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7A32-378F-4BD9-9B65-3E5DC624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E723-638F-4516-877F-4768BCF7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AA6D-B3B1-43FE-8E54-49D5A4D7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8ABA-16C6-4C16-BD7E-8A847AAB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A4C-B87B-409E-BA3B-EBCA17EB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FCA7-3D91-4260-BA4A-8373824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E648-1D71-4A1E-BE35-7A78189C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207D-67ED-4630-BE48-1D6EE3A6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6A72-9349-4D1C-819B-228304C9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2A00-4B6D-4D66-A84A-38E6CE78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0F5-22FA-43C9-911F-6D72D731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57C7-3887-48FD-955A-3B0D1292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BAA8-279B-48CF-ADAC-8C73C07A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293-058A-4976-A780-90FCD193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C11-59A9-4AC5-B824-8CC806FC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26B-4591-4F23-B076-4FE6E038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3B7-99AD-4664-A119-8C928F64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3EA-03CF-4696-AE56-832F55AC7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BF9F-5102-4B29-AE27-81A18477B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b | Failure to account for health-related tax subsidies substantially understates the government share of national health spending (NH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712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b | Failure to account for health-related tax subsidies substantially understates the government share of national health spending (NHE) </dc:description>
  <dc:language>en-US</dc:language>
  <cp:lastModifiedBy>Jia Yao</cp:lastModifiedBy>
  <cp:lastPrinted>2002-05-16T21:44:34Z</cp:lastPrinted>
  <dcterms:modified xsi:type="dcterms:W3CDTF">2013-09-04T21:03:5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b | Failure to account for health-related tax subsidies substantially understates the government share of national health spending (NHE) </vt:lpwstr>
  </property>
</Properties>
</file>