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1E57-809B-4226-BAB4-FC1829EA7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b | Trends in Per Capita Income by Geographic Region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2F9C-4D73-4E76-98B0-6D5B975F4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FB0-BDDF-45FD-A27D-B3401E72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8CB-8B1B-4B54-9320-5FCC2968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362-2A65-4970-AA0D-84E812AD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250-A757-48E6-BC90-F74101B7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C22-B06A-4FC6-8758-08E2B03A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644-6CCC-405B-9023-3B5AE99A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710-3631-4E09-90E4-9D38A643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5A4-2465-4EA2-8A6B-CFDF076E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6AA-D57E-4BCD-8D3A-AC611A3D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6DE-905D-4662-B4C6-43B7D7E0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5ED-E6B2-4A91-8385-C0883427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93E-F076-4199-95CF-320FD705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F0F8-EF0D-412E-AB46-A925E357E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b | Regional income disparities have narrowed considerably over the past 8 decades, but have widened somewhat since 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31840" y="1146240"/>
            <a:ext cx="8680320" cy="547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Incom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b | Regional income disparities have narrowed considerably over the past 8 decades, but have widened somewhat since 1979</dc:description>
  <dc:language>en-US</dc:language>
  <cp:lastModifiedBy>Jia Yao</cp:lastModifiedBy>
  <dcterms:modified xsi:type="dcterms:W3CDTF">2013-09-06T15:13:2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b | Regional income disparities have narrowed considerably over the past 8 decades, but have widened somewhat since 1979</vt:lpwstr>
  </property>
</Properties>
</file>