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F550-CF95-45CC-8936-3B49487D0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9B54-1B78-4EAE-A14D-A945CA7F3B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4a | HEALTH INSURANCE BENEFITS OFFER RATES, BY SIZE OF FIRM, 1999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689-2469-49E7-A42E-852D9C7D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338C-D1AC-4156-91B2-D132142E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BD9-F22A-490D-8AC8-1B9BFD04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747-72F8-4019-A70C-26CB5350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1991-9DBA-4481-9D0B-52DF0D5C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EC38-D54B-42DE-B8CB-AF0A12FA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CEC0-194D-479C-8259-18B13CFD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AE61-1984-4DB2-A108-7FDC41F1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D1C-A74A-4FF0-9B59-C0D68859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98B3-1904-4F11-A0D6-1075D5C3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E0BA-DE61-425C-9DEB-B858F5AF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675-A7CD-48B1-ABEB-817CA4CA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01D6-D6BF-466B-9E71-011579CE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00FB-B181-4068-B610-DC09BFD0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071D-80ED-4F67-A03E-860EF3EE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0D66-9069-49CC-845A-3118C40F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48E6-121A-41F1-BCA3-07B300D2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329-3214-4062-BAAF-332FDF1C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2A12-10E1-415E-950D-C8CAD367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AF0-E9B4-4B95-B0DB-89BD058F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277-25D4-480A-8555-043FB8EE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928-21BE-4291-8078-715F97AE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D8E-D280-4F59-A22A-4F9F6EBE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F61-14D3-4106-A8D0-8527EACA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509-8B3D-4588-B2E1-5925EB749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DD0A-4876-48D3-9D20-AEEF907E0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4a | The percentage of the very smallest firms offering health benefits has been below 60 percent for more than a decad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49400" y="787320"/>
            <a:ext cx="90453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4a | The percentage of the very smallest firms offering health benefits has been below 60 percent for more than a decade</dc:description>
  <dc:language>en-US</dc:language>
  <cp:lastModifiedBy>Jia Yao</cp:lastModifiedBy>
  <cp:lastPrinted>2002-05-16T21:44:34Z</cp:lastPrinted>
  <dcterms:modified xsi:type="dcterms:W3CDTF">2013-09-06T13:50:08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4a | The percentage of the very smallest firms offering health benefits has been below 60 percent for more than a decade</vt:lpwstr>
  </property>
</Properties>
</file>