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1B6-D09E-4002-8E26-08BAE41D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C5B-F8D0-4279-9C6A-74A1613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2B6-6C06-4B71-B963-C602D7D3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FDB-8E0E-4078-B1D1-42E7FF2E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D19-3F5E-4AC2-9267-F6B4DBE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619-54F2-482D-B96E-F2FCDD3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C9E-92B5-4B0E-A86D-DACF1D34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3E8-03F0-4041-B1E4-6A7DBC32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38C-FD6D-4187-B1D1-1D5B1FF5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2BD-C5D5-4972-852F-70BC35A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8D0-864C-42FC-AA14-09DCF803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780-14F2-441D-A66D-67E14DA9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9C2B-77F5-4DD1-9B92-BFB4748C6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1143000"/>
            <a:ext cx="905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5Z</dcterms:modified>
  <cp:revision>31</cp:revision>
  <dc:subject/>
  <dc:title>PowerPoint Presentation</dc:title>
</cp:coreProperties>
</file>