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9AD0-574B-42F4-8DB4-AFB2D07F0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A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19DE-AFB9-4585-B1BE-BFCD57305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3D6-B265-466C-A0D1-B1D08CB2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3248-A265-467F-8930-3F0D4A93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16E-99B2-488C-9BAD-1CF8EAC8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8DD-1D1E-4F1D-953A-CC9D5576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2F6-82F0-40B6-BA15-B3A431AC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657-3258-4312-AB88-B8030B25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D5E-54CD-4DF6-9406-8C412709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5AA-8825-4946-BA2F-201E409B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BF1-6336-4925-807B-C8C8CC92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AD2-38C1-4D07-AF78-E173509F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776-5AA0-4386-B00A-A8CE8E41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1FA-A105-4E0F-AA57-EAD278BC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63F0-1AF7-4779-B35E-626A0BCE6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9.1a |  Even after accounting for the resources spent to add a year of healthy life, U.S. health spending appears to provide good value for 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5600" y="1600200"/>
            <a:ext cx="48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, 1987-2000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1720" y="5759280"/>
            <a:ext cx="85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Health Report Card for the N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HE Presentation. June 6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. http://healtheconomics.us/conference/2006/plenaries/powerpoint/cutlermadi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 (accessed August 1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a |  Even after accounting for the resources spent to add a year of healthy life, U.S. health spending appears to provide good value for money</dc:description>
  <dc:language>en-US</dc:language>
  <cp:lastModifiedBy>Jia Yao</cp:lastModifiedBy>
  <dcterms:modified xsi:type="dcterms:W3CDTF">2013-09-06T15:40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a |  Even after accounting for the resources spent to add a year of healthy life, U.S. health spending appears to provide good value for money</vt:lpwstr>
  </property>
</Properties>
</file>