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0981-EBC4-4CF9-8B80-D11111E9E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2 | AVERAGE ANNUAL CHANGES IN HEALTH EXPENDITURES DURING ECONOMIC CONTRACTIONS, 196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AF4-F1C7-4703-9AAB-3E21EB628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87F-E1BA-49CC-BD11-02FCA18D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9974-3239-4250-BCCC-5AC439D9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217-E64F-4781-94FF-16ED98E5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8F9-7AD8-48EF-B40D-C10BD849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C0F-A304-423E-9EDF-3DEA441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2D9-370E-4C06-B4EE-44C5E6EB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EA4-7F9F-4FDB-AE3E-ABC96933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A92-7DE2-4013-BD55-00F942DB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9F3-D77A-43FE-97B6-5E546C9C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5E8-E9C1-46FD-8DAA-64C7B7F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90B-D3F6-420A-8E60-4D13995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58D-CD8B-4FC8-B471-B61A6B71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31D8-39C1-429D-961E-0F1DBE56E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2 | Medicaid spending occasionally is more counter-cyclical than other health spending, growing relatively faster in down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14300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2 | Medicaid spending occasionally is more counter-cyclical than other health spending, growing relatively faster in downturns</dc:description>
  <dc:language>en-US</dc:language>
  <cp:lastModifiedBy>Jia Yao</cp:lastModifiedBy>
  <dcterms:modified xsi:type="dcterms:W3CDTF">2013-09-06T15:28:08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2 | Medicaid spending occasionally is more counter-cyclical than other health spending, growing relatively faster in downturns</vt:lpwstr>
  </property>
</Properties>
</file>