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388-69CA-46B2-A419-F8B52AC5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AB9-ACC6-42C3-A9BA-E22B313B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B03-4DD3-4325-A9EE-0FBC17ED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15F-4953-4A1C-8D82-5B84DA20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43A-AE7B-4DB7-87A5-E52385C8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049-727C-41FD-AA87-96359369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6FE-727C-4DD7-B2A9-B358E6BD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08E-634B-4D20-B1DA-1CE6D7A0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4E6-85B7-4825-8D0F-79C46CA6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ACBD-641B-488C-A666-578BE86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7EE-FEDA-42EC-A205-58F3014E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036-E463-445B-A226-64445240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2686-FC9A-4F7A-9FB8-5B6328A29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00Z</dcterms:modified>
  <cp:revision>18</cp:revision>
  <dc:subject/>
  <dc:title>PowerPoint Presentation</dc:title>
</cp:coreProperties>
</file>