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5C04-2E95-4D0D-907A-4D88E5781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EABF-BC6B-44FD-B851-4A3195F1C5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2 | U.S. TOTAL REAL PERSONAL HEALTH CARE EXPENDITURES PER CAPITA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22E-5167-4306-94C3-3FD00EB7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E99-937F-4CD9-ABF7-281866DD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A59-CC98-4FA4-8137-34FBE672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0B3-1108-4763-981C-B459EC18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CDBD-BEC4-4D14-879A-375BD644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ED01-CD38-4DDD-80E2-BC46954B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DB58-4177-4D5F-B4EE-C7C16B93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B5B4-B6EE-4109-8F63-18F4B838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08BA-CEFC-4441-8EB3-FEACC7BA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9861-737D-462C-83C0-C9A8E957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1E09-7A2F-45FD-BF96-4E1D9D4C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59C-7EB9-415E-98C9-BAB83BD0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F371-23BA-406B-A329-B6FBE19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3E4F-0540-41BC-B3CA-767B022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0380-2154-480B-A829-32863488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DB92-E918-40C3-B269-782297BF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7C0-4535-4735-921E-5B94A6C2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177-F03C-4AA6-96B9-4D550962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8CE-27D2-472E-BF02-A0B4DDDD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7D9-84FC-479A-8C06-5580C3F3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F40-772E-4BAB-8E59-2E35500F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F8D-37E5-4CEB-BBB1-24FABC73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C13-2357-48BA-A28C-3EDB9FF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9F7-BC09-4809-AD86-455BF4CE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8FD0-A871-4C3E-9B4A-5596B3EA3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02DE-8B04-4B04-B436-3D95F1670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2 | The rate of growth in PHCE per capita much is slower when adjusted for the effect of rising health prices or general inf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2 | The rate of growth in PHCE per capita much is slower when adjusted for the effect of rising health prices or general inflation</dc:description>
  <dc:language>en-US</dc:language>
  <cp:lastModifiedBy>Jia Yao</cp:lastModifiedBy>
  <cp:lastPrinted>2002-05-16T21:44:34Z</cp:lastPrinted>
  <dcterms:modified xsi:type="dcterms:W3CDTF">2013-09-04T18:13:14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2 | The rate of growth in PHCE per capita much is slower when adjusted for the effect of rising health prices or general inflation</vt:lpwstr>
  </property>
</Properties>
</file>