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63D-2039-48C2-B4F5-5C8451D9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833C-CF60-413B-A0A7-F5D833E1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2CD-346F-49F3-8AE0-BA03B810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EE8-B51B-4475-B1C1-08C79AFB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493-5BFC-4817-BF2A-91E03C2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FD0-EF5B-41B7-B5FE-E4D6CF8E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AA5-19A9-4254-9038-1516CAD8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41E-5A9D-497D-9749-F4446BB1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29A-9557-4D55-BB62-93867AB3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CB1-7F42-4DC9-85B8-30F9FCA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1A1-3DDA-4DD3-ABAE-57641E14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27B-0315-45B0-A676-7B84D17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F0EA-1D5A-425E-8104-ECB006C1B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5440"/>
            <a:ext cx="9115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6Z</dcterms:modified>
  <cp:revision>14</cp:revision>
  <dc:subject/>
  <dc:title>PowerPoint Presentation</dc:title>
</cp:coreProperties>
</file>