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226-1E75-46F2-B7CB-F253EA27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010-D67E-4CE0-8085-D02C2601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25C-94F5-48B1-97A2-DBA5FCBE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3CB-DC03-4443-A198-B8AFAD37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BFF-470C-41B6-82C4-4F8CB0F7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84F-8FED-4979-9EF3-BCBBDA20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B15-AB5F-480E-9393-6EA1A162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48B-A9BA-4590-9D61-CFA5EF2B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46D-2C71-402E-8AC4-A0ABACBA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EA2-62FE-48E5-B7B8-91B04524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5F5-A9B6-4498-AA1D-48A5421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2F1-A8EA-420B-9136-4AF9CF9D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7D5F-EB8A-4F91-83C7-C9A94E7EF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4240" y="990720"/>
            <a:ext cx="897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9Z</dcterms:modified>
  <cp:revision>43</cp:revision>
  <dc:subject/>
  <dc:title>PowerPoint Presentation</dc:title>
</cp:coreProperties>
</file>