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7FD-F34D-4C72-AF0A-072C71E6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26C-4908-4A6A-906A-29DC3EB3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BC42-40F2-4234-9E6F-BB5DD63D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25B-56D9-4BDD-A3EE-47D8D90D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B62-77A5-43F9-A4B0-C5C723C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85F-3B71-4FB0-AFDD-C11B8C78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6F5-4685-4ED5-94FA-CAC1EEF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8ED-DB91-4B26-BDEC-03EC9B1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BB3-22F7-4613-82B1-02908159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B34-179A-4160-9381-F7891F93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62C-526C-4B27-838D-BDD60D12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384-A75C-4D86-BAC9-F42C8859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7CC-D765-4AEB-910E-16A6C5D67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5Z</dcterms:modified>
  <cp:revision>6</cp:revision>
  <dc:subject/>
  <dc:title>PowerPoint Presentation</dc:title>
</cp:coreProperties>
</file>