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8800-FEB2-4745-9A07-D8D3C0C8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5C95-A90B-4BFF-B901-3AB582436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b | Publicly Financed Share of Personal Health Expenditures for Children, Adults and the Elderly, 1965, 1977, 1987, 1996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095-318D-4EA0-A9EA-E711AAA9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1C4-07C2-4EFF-BD76-A9E5C7EA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F1A-76FD-402F-A492-6FB0DDDC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4EA-490C-4727-9329-7A9BD02A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10EE-ADC7-4A17-AA02-7938B581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F233-6C72-41B9-AB60-05F3DCE7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65AB-CD19-4794-807E-C5A7406D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AB6D-F6F2-484A-840B-92F40734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3D2C-1679-4294-9B21-9FCB9721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86C0-BDE6-42C7-9A8A-9DD03C09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EC60-D94D-439F-B473-8C524C2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2A9-2E7B-44FA-AA1B-E8152119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6F26-52D8-447B-948D-A1855308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A2D6-2C41-40A8-AD16-6A3885C1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A0B5-B86A-41BE-8806-9F00DF5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CE97-2359-4D6C-A2A3-45782CB0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69C0-63C0-4E96-B657-2A620E44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151-E16F-4377-99B4-5E29DA0A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D77-8858-4D58-96DB-5FF69884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FFE-79B6-4E07-B33E-07FA17C0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295-10A0-4200-BC75-6D88C678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45E-9FC0-4A79-A69A-4B09874A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722-2521-4B01-B512-482ECA19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434-307F-4D45-877A-48B3481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990-FD65-4CEB-9D3C-7A701BF86E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24A6-2862-42E1-8943-E37D3AFBA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b | The elderly depend most heavily on publicly-provided health care, which covers about two thirds of their medical co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57200" y="556272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public insurance includes Medicare.  Since a portion of Medicare spending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id through voluntary premium payments, the entire amount should not be view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taxpayer-financed spending even though Medicare is categorized as a Federal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nding in the standard National Health Expenditure Accounts framewor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b | The elderly depend most heavily on publicly-provided health care, which covers about two thirds of their medical costs </dc:description>
  <dc:language>en-US</dc:language>
  <cp:lastModifiedBy>Jia Yao</cp:lastModifiedBy>
  <dcterms:modified xsi:type="dcterms:W3CDTF">2013-09-06T14:06:23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b | The elderly depend most heavily on publicly-provided health care, which covers about two thirds of their medical costs </vt:lpwstr>
  </property>
</Properties>
</file>