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1CE8-4C96-4768-A4C5-B5F68B363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B | AVERAGE ANNUAL WORK HOURS FOR ALL CIVILIAN WORKERS, ALL PRIVATE INDUSTRY WORKERS, AND SELECTED COMPONENTS OF THE HEALTH SECTOR, 1987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9EBB-467A-4E19-BB6C-69F853145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594-A0B6-4A90-A46C-6724C32A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8ADB-1C78-4C94-8D44-F9AC5B4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6DB-CF08-4F34-B74A-92AFAB87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179-C791-4E65-85B8-57EB2A0B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603-9BD1-48D1-B197-61D6AE46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D1E-BD6B-4DBE-A6B5-65199A22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D64-8B16-4142-8E90-5E86EE52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28B-5071-482A-AC10-7A89BA25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D5B-B572-4ACA-A004-2776907F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BF1-253B-429D-8983-C9508A7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029-D520-4709-A8FA-CB70F987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DBC-CA38-4F47-8983-77384227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3920-24EE-4B17-A72B-4E54676C7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b | Annual hours per worker have declined in long term care facilities during the past decade, but have generally risen in hospi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8580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work hours per employ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b | Annual hours per worker have declined in long term care facilities during the past decade, but have generally risen in hospitals</dc:description>
  <dc:language>en-US</dc:language>
  <cp:lastModifiedBy>Jia Yao</cp:lastModifiedBy>
  <dcterms:modified xsi:type="dcterms:W3CDTF">2013-09-06T15:04:14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b | Annual hours per worker have declined in long term care facilities during the past decade, but have generally risen in hospitals</vt:lpwstr>
  </property>
</Properties>
</file>