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3D71-1B4B-4B2A-A079-496A31ED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AC0E-251C-4EE2-BDA6-815AC481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D25-7341-4831-AB87-DB999996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05F6-9B6B-4BA3-AE18-B8F8FE70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67E4-0732-4220-B7E3-50389E82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2CE1-9531-4BEB-993C-9598CE28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B5D9-3C9B-40BC-AAD6-F863A082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C5C-A8E6-406E-8363-858BE069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B2DC-4820-4517-B0C4-B4E242C8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144-3880-47F9-88D8-D49230BA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B17-C4D0-41B2-81D7-B5A3EB19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313-862E-414A-B889-66FF29EB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2F04-9FB3-491B-B4C8-047DFAB6C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5000"/>
            <a:ext cx="911844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55Z</dcterms:modified>
  <cp:revision>14</cp:revision>
  <dc:subject/>
  <dc:title>PowerPoint Presentation</dc:title>
</cp:coreProperties>
</file>