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8FC0-A885-47FC-9EE9-2B89946A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2524-D682-4D5D-AF79-2B2F7DD1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940C-66DC-4762-B004-4B33F604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53FC-0384-4D9C-A7E6-813405AE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A23E-0BA9-4715-8DDB-2A96A392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E3EB-4EE7-4A95-BAD7-7384D511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B13A-2EA9-456C-9069-E63D0508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68A5-B803-466F-88AD-2D526605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4F02-DAA1-4A47-BFF4-8DEDD1A2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1D02-5FF7-426A-884C-230CFF88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47BC-21C3-4DEC-A612-D674CCBE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03D9-5D05-493C-9EB4-2BB56DF5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4E40-E3FD-4087-9C2C-D291F0EC1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0360" y="304920"/>
            <a:ext cx="89632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4Z</dcterms:modified>
  <cp:revision>37</cp:revision>
  <dc:subject/>
  <dc:title>PowerPoint Presentation</dc:title>
</cp:coreProperties>
</file>