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D57-1013-4F15-B993-3B8D02EA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617-D2FA-48A1-B487-615C4A6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B72-C0D6-4D6B-8A44-501F7E50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2B9-5396-4E75-98DF-DC3B77A9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BDA-F14A-4D53-8DE6-476464E8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4CF-30A6-4083-833D-8C77C4ED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3C7-1EC6-4510-8950-D82AC392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C0E-1C69-42D6-A979-7DDD1449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293-6856-49AE-BE64-B945EF6E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AAB-7853-485E-A47B-12942368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F89-DFC8-4A65-97C4-063501F5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F4C-41CC-41F3-A555-909FC92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2E67-E8F0-41A2-8CE5-ACED38A42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60200"/>
            <a:ext cx="91440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7:42Z</dcterms:modified>
  <cp:revision>5</cp:revision>
  <dc:subject/>
  <dc:title>1.1a | In constant dollars, national health spending increased more than 60-fold over the past 8 decades, real GDP grew far less in this period</dc:title>
</cp:coreProperties>
</file>