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BCD0-175D-442C-A79C-C771A6D57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4A | CORPORATE PROFITS BEFORE AND AFTER TAXES AS PERCENTAGES OF NATIONAL INCOME RELATED TO HEALTH CARE, 196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0F43-86F6-4CCF-A7B2-779BE6EA40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4BB9-B1CB-44D5-A984-E8BEA160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4708-3D40-4A43-842B-9A88C879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533-3128-4B1A-864E-EB3ECA5F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5648-5B68-48BD-93F4-74969A11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38BC-410F-4B5C-B6A7-A68EC902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24CB-EEB8-459D-8BB8-63496D31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05AA-375C-4E20-B405-1D9B74EF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91F4-B1F4-4FB5-9FCE-C22BBC35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D2EA-9CAD-42E5-9EB9-7F694D18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72CF-36CC-4FAB-85B1-171ECA12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9D8D-52E2-46AF-A927-4CCF6965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B214-7128-45D0-AD04-FDE20DF2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51EB-E2D5-4482-AD94-BBF9A2E2A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4a | Health services profits have increased substantially since the advent of Medicare and Medicaid, but still are below a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4479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s as a percentage of industry’s own nation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4a | Health services profits have increased substantially since the advent of Medicare and Medicaid, but still are below average</dc:description>
  <dc:language>en-US</dc:language>
  <cp:lastModifiedBy>Jia Yao</cp:lastModifiedBy>
  <dcterms:modified xsi:type="dcterms:W3CDTF">2013-09-06T14:17:00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4a | Health services profits have increased substantially since the advent of Medicare and Medicaid, but still are below average</vt:lpwstr>
  </property>
</Properties>
</file>