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064-492E-4193-BB64-977541E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765D-C1D0-47D9-A331-C2362F4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E37-CC02-425E-974C-5CD59D72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AF3-5F7E-4F54-9E5B-7E946D70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61E-9653-48CE-B6FC-CF7E61A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BC4-FCD6-48D5-A70E-6928DB58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4E9-FB06-43E7-9908-40D7DFF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8DC-3D21-4EC3-9A62-04316391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621-E0CC-4714-B2D9-0F0D98E2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FBD-E3E8-4D6A-A57C-6C2D02FA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C3C-3815-47C5-BF71-00519F95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427-65BC-4667-826B-D3201403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CD8B-E8D8-44A2-BBC6-013401604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8Z</dcterms:modified>
  <cp:revision>38</cp:revision>
  <dc:subject/>
  <dc:title>PowerPoint Presentation</dc:title>
</cp:coreProperties>
</file>