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104-7020-438A-9CC7-5A0B2B5D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D2E-6B0B-447B-BE12-C6E29C25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7FB-E3EF-4EB5-8A2C-69AEE3B6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821-C4F8-4D63-8ACC-E80B862F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BA3-C5BD-48EE-8F9F-1144520E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CC0-68A3-4ECA-9C31-D0C6CBF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F89-AF9C-4307-BD87-85E1673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C349-06BA-4473-8C29-51190EB3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DA5-394B-40DF-9AE0-AC9789D6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C02-6D23-43D6-8231-616A0F7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3FA-4683-4E92-8439-90267AF5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255-BC56-44DA-873B-14F5CBE7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73B5-63FA-41EC-A489-4CD12C8E2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3Z</dcterms:modified>
  <cp:revision>30</cp:revision>
  <dc:subject/>
  <dc:title>PowerPoint Presentation</dc:title>
</cp:coreProperties>
</file>