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ACEA-BA99-4D67-B61A-2AB1C370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0ABA-5A8D-431E-9644-567AC19A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CE6E-7B2F-414A-9AA1-EECBC747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F038-CADC-42BC-AF79-22D0F436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9776-E1F9-4F1D-A31F-538ACF00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7040-04E4-4A49-9461-B00A9866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2973-1DE7-4B3A-A3D2-A64DBE42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E0C1-8CAF-4664-8BC6-EB5696BF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C9C3-553E-45D8-8F2B-B0C9D59D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67CA-16E5-4185-9F1E-963B4A0D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1444-BAC9-4E97-8644-9330FB04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E2D4-5257-4079-BA56-3F1CFEF4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EC73-0C3B-4B0F-B6FA-3D19E5BDB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66920" y="0"/>
            <a:ext cx="461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9Z</dcterms:modified>
  <cp:revision>38</cp:revision>
  <dc:subject/>
  <dc:title>PowerPoint Presentation</dc:title>
</cp:coreProperties>
</file>