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8EAE-AAA5-459B-8099-A692E8138A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3A | TOTAL GENERAL GOVERNMENT EXPENDITURES AND PUBLIC EXPENDITURES ON HEALTH AS A PERCENT OF GDP FOR SELECTED INDUSTRIALIZED COUNTRIES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9EF8-6518-4661-80C3-A89FFC164C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6248-D44F-43D3-9320-C4E041F5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200D-8E91-40AC-A006-04AAC8AE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C58C-310B-45E0-B166-DDCB6897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51EA-6BBD-4D0D-A791-E796FB74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F9C4-25D7-4D4B-BE38-89215143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CF2-756D-432A-A90A-D50F314E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5892-E7F2-4468-90D4-503E66FA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2D4E-1F2A-4957-90E9-7DE518DA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FB18-C0B5-47F4-B9C6-28D6433A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E8A8-5633-4B1C-B295-B489FEA0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6BE6-4274-4E0E-8744-D15C5608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42BE-6E1B-44D9-AA21-E9768687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57E4-652B-41F2-B762-FC97F8634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3a | The U.S. share of GDP devoted to tax-financed health spending is comparable to that of its G7 competit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4967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2819520" y="5867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7 members ranked by size of 2007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37920" y="639288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3a | The U.S. share of GDP devoted to tax-financed health spending is comparable to that of its G7 competitors.</dc:description>
  <dc:language>en-US</dc:language>
  <cp:lastModifiedBy>Jia Yao</cp:lastModifiedBy>
  <dcterms:modified xsi:type="dcterms:W3CDTF">2013-09-06T13:59:3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3a | The U.S. share of GDP devoted to tax-financed health spending is comparable to that of its G7 competitors.</vt:lpwstr>
  </property>
</Properties>
</file>