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4D82-D53D-478F-800C-C4E8FF835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B34B-B1B7-4493-89DD-5A3AB7752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A10C-71FB-4356-AEFF-274A773E0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D588-0F8F-457B-845A-6F0CE097B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B5F5-3936-4853-A8C2-78D994B79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35DA-E167-48C8-B56B-CD90C05B7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2A9B-1A45-4525-BA3B-89CA61DF1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E539-A52A-4C79-A1B3-2CF9C1E4B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F477-69AD-44C4-A18C-18EC1FD91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1D56-FAF0-44DD-8B59-933F94FB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777A-9C4A-486C-8524-9D3C5FD2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9430-4797-4F28-9D3B-CD8CD4C9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B8818-C00C-461F-A66D-E7C8D87512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21Z</dcterms:modified>
  <cp:revision>20</cp:revision>
  <dc:subject/>
  <dc:title>PowerPoint Presentation</dc:title>
</cp:coreProperties>
</file>