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E14-0C73-4C8A-A34F-18D1F38CF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B | STANDARDIZED EXPENDITURES ON MEDICAL CARE LABOR, AS A PERCENTAGE OF GDP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EA3-3BC7-4852-90C2-DE5BAEE25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7F4-2828-48FC-8B2E-84198B8B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50A-8F64-4122-B4A3-CD10008D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619-2837-412D-8720-82FF9B96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A03-D941-424B-8184-8A13023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2721-BBF0-4448-BEBA-BB0F9A41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C1A-363B-4CE9-B410-8B480F6A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E25-24B9-4390-9033-82711B3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446-FBBE-40AA-B53E-23A4A47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895-21F0-48BD-8FA4-7E3CCD8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CE7-0972-4B24-895E-B5FA2108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CA1-93FB-4FC8-9B7B-49454F99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538-BB3C-4EA6-B7A4-6F8154D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6D1-DD54-41BE-9A53-B5D7470C7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3b | When U.S. prices are applied to health sector employment, the U.S. has a lower relative share of GDP spent on doctors and nur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ndardized spending on medical labor (U.S. Prices) as percentage of GDP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" y="56386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ized spending is calculated using U.S. levels of compensation for general practitioners, MD specialists and nurses (both standardized spending and GDP measured in 2006 U.S. dollars, purchasing power parity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b | When U.S. prices are applied to health sector employment, the U.S. has a lower relative share of GDP spent on doctors and nurses</dc:description>
  <dc:language>en-US</dc:language>
  <cp:lastModifiedBy>Jia Yao</cp:lastModifiedBy>
  <dcterms:modified xsi:type="dcterms:W3CDTF">2013-09-06T15:05:22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b | When U.S. prices are applied to health sector employment, the U.S. has a lower relative share of GDP spent on doctors and nurses</vt:lpwstr>
  </property>
</Properties>
</file>