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6914-54C1-4336-BBA1-D091A5E414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776A-395F-46DD-8872-7982C58CEC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1b | DISTRIBUTION OF NHE BY TYPE OF EXPENDITURE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4D6-0666-4AF8-BDB2-569C46D6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575-D63A-4D83-9691-75D00B02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B8C-9D89-4D31-93A7-091098B6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4B7-A095-487B-99BB-6863DBEC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DD16-C01B-4B03-91AD-87C0FE5E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CE30-30B3-4C06-9A5C-2D5A735E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4E3A-BC32-43C9-91E2-B9361A78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4C72-2B59-4B1C-A12F-6C1E0C6A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6A5C-EDE0-4539-8B3F-7F6FEAA8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3E22-3A08-419E-8493-D43F25A1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DCA2-F601-43F6-AFDF-A8046AC4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119-C767-4E88-B31E-3649ECAC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191D-6870-4772-8B20-AA6A08F5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A603-99A5-4E33-A3C9-7681F383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DF0C-5978-4385-AE2B-EE662862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6C01-557D-4946-843F-F686B5C5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9721-0670-4EEC-823D-9F496223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946-3C5B-4D07-91C1-E0482F27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8D9-6E7C-4C16-A842-B20964D2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A7E-61DD-4E3E-A7B0-4F402313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316-753A-4EAD-80A2-AE772E72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1F8-D3D0-4A1A-8835-5FE83589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125-FF81-4941-B21B-30BA2101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369-6268-4358-A552-AED3714B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EA09-450F-42A9-B7F0-A4F1B5317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15CF-EA6E-47BF-B723-72EB142AB3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1b | For over four decades, spending on personal health care has exceeded four-fifths of national health outlay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1b | For over four decades, spending on personal health care has exceeded four-fifths of national health outlays</dc:description>
  <dc:language>en-US</dc:language>
  <cp:lastModifiedBy>Jia Yao</cp:lastModifiedBy>
  <cp:lastPrinted>2002-05-16T21:44:34Z</cp:lastPrinted>
  <dcterms:modified xsi:type="dcterms:W3CDTF">2013-09-04T18:13:12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1b | For over four decades, spending on personal health care has exceeded four-fifths of national health outlays</vt:lpwstr>
  </property>
</Properties>
</file>