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0F71-494B-4C22-B0AE-A4A1DD941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3B | COMPONENTS OF ANNUAL MEDICARE SPENDING PER BENEFICIARY, BY QUINTILE OF CARE INTENSITY, ???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2D86-8C9D-4338-B2CE-B58DF6C11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FF0-1E14-4422-9D6A-7C741939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4A9-5753-4E6F-AE25-0070DAA6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748-6E56-4304-8C9A-5A21A947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B2D-CBD2-4A51-8E0B-EBB03B2F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A32-0145-4A23-813E-1D29D5F8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94F-D4F6-47D1-A5C4-96D77F3A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D49-5AE7-430F-BF27-C1387C84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BC7-798C-4DC5-89B4-02054BB0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861-17EF-410A-8D4F-48C927B1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F44-BC32-4723-AF8B-DF18D695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B63-463F-455C-A909-35D34A80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B18-482F-4726-BA9E-DADBD013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3FD7-A18D-4D6E-8919-B849DE723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b |  Differences in income, race or health factors explain less than half of the spending differences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21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40160" y="1295280"/>
            <a:ext cx="68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per capita Medicare spending (dollar difference from Quintile 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301200" y="3638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ntile of care inten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33520" y="4037040"/>
            <a:ext cx="835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ertical bars show the proportion of the difference in spending between regions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of the four top care-intensity quintiles and the regions in the lowest quintile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explained by differences in patients' race, income, health factors (self-repor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, presence or absence of diabetes, blood pressure, body-mass index, and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), and regional factors. All models control for age, sex, and urban or rural resi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6560" y="5791320"/>
            <a:ext cx="79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utherland JM, ES Fisher and JS Skinner. Getting Past Denial—The High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Health Care in the United Stat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61:1227–3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b |  Differences in income, race or health factors explain less than half of the spending differences across regions</dc:description>
  <dc:language>en-US</dc:language>
  <cp:lastModifiedBy>Jia Yao</cp:lastModifiedBy>
  <dcterms:modified xsi:type="dcterms:W3CDTF">2013-09-06T15:40:4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b |  Differences in income, race or health factors explain less than half of the spending differences across regions</vt:lpwstr>
  </property>
</Properties>
</file>