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3B3-7B8F-4505-A6B0-85AF4283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5a |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Low, Median and High Estimates, 2000-20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F28D-BDFE-473C-BAD9-5178020AF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A7E-BCF2-4ABA-BA34-3A40F30F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F21-1634-4EA0-8987-05DBA1B6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551-60F8-43A5-85B0-A6A7091B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67D-08AB-454B-9A94-D2FCB5BD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AFC-7E8F-433E-B000-7363CFE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B13C-5CAD-43DB-844A-A117B333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F40-A78B-4CEC-A55F-6F3359D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02C-FE98-4DE8-A0BA-BC0FF1CC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0B9-4BF0-4E99-B9CE-6C5F7F90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7AE-F508-4DEE-9DB4-B8CABA7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06D-FF91-437C-944C-BFCE26DE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8C8-D073-4302-997C-3920463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59DF-22AE-4C1E-82F5-AF96CA0E6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5a | There is a huge amount of uncertainty in 75-year forecasts of Medicare or other health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47840" y="5786280"/>
            <a:ext cx="854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Lee, Ronald and Timothy Miller. An Approach to Forecasting Health Expenditures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Application to the U.S. Medicare System. Health Services Research, Volume 37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5, October 200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6212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jected Medicare spending as a 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74920" y="4429080"/>
            <a:ext cx="799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low and high estimates encompass a 95 percent probability interval. Giv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certainty in future population, future health status, and growth in health-status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 per-beneficiary spending, the actual level of future spending is expected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within this interval 95 percent of the ti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5a | There is a huge amount of uncertainty in 75-year forecasts of Medicare or other health spending</dc:description>
  <dc:language>en-US</dc:language>
  <cp:lastModifiedBy>Jia Yao</cp:lastModifiedBy>
  <dcterms:modified xsi:type="dcterms:W3CDTF">2013-09-23T19:14:2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5a | There is a huge amount of uncertainty in 75-year forecasts of Medicare or other health spending</vt:lpwstr>
  </property>
</Properties>
</file>