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F664-24C1-4717-8229-7E257ED2A0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6C | RATIO OF HEALTH-RELATED UNFUNDED LIABILITIES TO U.S. GDP AND HOUSEHOLD NET WORTH IN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0691-12D3-4396-B612-29E54BC233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47C9-3FE5-4168-922C-158ADC7C6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BA95-0B36-492F-8D2B-673FB531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8F95-CFA2-45FB-BCFF-A27228BE6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6BD5-5190-4BE2-AD59-B6D3FF27E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994E-1020-4E16-A3B8-DB725EE6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B1CF-D7A0-4225-9BE4-068DF607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81CE-0312-4A5A-98C2-F56DAF2E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9583-1A98-449A-A50D-CAEED192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AD27-3D2E-4FFC-A4B9-DF6FE756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7E4B-D4CF-4C06-A82D-3A163D8A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C7A2-9E3B-4651-BC85-3B4F44DC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F32D-96E2-4CDD-9CFC-79B49B3A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9434-458A-4512-BE75-901B3299A2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6c | Health-related unfunded liabilities alone are  at least double national income; in the long run, they exceed current U.S. net wo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0277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55480" y="1405080"/>
            <a:ext cx="1600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atio of unfunded liabilities for Medicare and Medicaid relative to measure show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62680" y="6037200"/>
            <a:ext cx="55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unfunded liabilities calculated as of January 1, 201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6c | Health-related unfunded liabilities alone are  at least double national income; in the long run, they exceed current U.S. net worth</dc:description>
  <dc:language>en-US</dc:language>
  <cp:lastModifiedBy>Jia Yao</cp:lastModifiedBy>
  <dcterms:modified xsi:type="dcterms:W3CDTF">2013-09-23T19:14:30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6c | Health-related unfunded liabilities alone are  at least double national income; in the long run, they exceed current U.S. net worth</vt:lpwstr>
  </property>
</Properties>
</file>