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D321-E53E-4ECA-82EB-CA95FE7E1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1DCB-D3AD-432A-84E9-19B607416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69B2-19DD-49E0-8581-65E7C87CA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3323-1DD8-4568-B6B1-D9029C3C1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BD3F-9AA8-4230-B678-5D734D672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ADE0-48EE-4E79-81C3-0542CEF87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015F-88E0-46AA-A34B-B7B0DF644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922D-C476-423C-9BB7-70BA8674C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5609-3159-4D0A-9465-DD568D90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0BFF-4AFC-4B4C-B783-F9FB6CCC9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2594-B664-43D8-8CD4-9DF00BF9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243D-FBDC-4EAF-AB29-42C3AFB4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27CED-D0C0-42EA-8927-458F8800CA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30320"/>
            <a:ext cx="9144000" cy="65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28Z</dcterms:modified>
  <cp:revision>10</cp:revision>
  <dc:subject/>
  <dc:title>PowerPoint Presentation</dc:title>
</cp:coreProperties>
</file>