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7226-9829-4597-A176-A093D450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763-B17D-4935-A282-FBB73DA7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176-C2C2-4132-84B0-043B2B7B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DE3-07AD-4B08-BAF2-0B42D4B6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09C-9B93-43CD-B8B5-B8B4FF09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BE4-64D4-4910-9F09-8E31B80D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8A0-6F7C-4BCF-B4C7-B79887E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0F5-F94B-466D-B96E-AAAEE995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A27-48D3-4981-B70E-4EC29A35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B58-9698-4956-AE50-ECEC4E20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51A-F7DC-4126-9764-7EEBE8C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2B7-AE1C-4DDA-80FE-D1A7FB7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7C64-37BC-40B0-8B29-F7BF249B7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63680" y="0"/>
            <a:ext cx="46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43Z</dcterms:modified>
  <cp:revision>30</cp:revision>
  <dc:subject/>
  <dc:title>PowerPoint Presentation</dc:title>
</cp:coreProperties>
</file>