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6C6-B923-4809-B847-A777B390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BAA-04BA-43EA-A2D2-AD403F04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23D2-1A30-425D-97A6-F82C63C3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50E-08D5-4603-B934-080E9E70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053C-0FFE-43AE-B4B6-571DFDCD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A639-01BC-4650-8685-ECC9F3F5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4EAF-70C8-47DC-BCFA-E2879E63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424E-0C94-4EEE-9289-F85EF9E9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75F2-EB89-48EC-B9E3-3F159C4A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9B4-166F-4473-B00C-74B6E17A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22E0-F86E-4243-98A0-66845220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8260-CBB8-4916-A92A-4ACAB407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1F8A-47CB-45DD-B0FC-1E92FE7D0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760" y="0"/>
            <a:ext cx="828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8Z</dcterms:modified>
  <cp:revision>35</cp:revision>
  <dc:subject/>
  <dc:title>PowerPoint Presentation</dc:title>
</cp:coreProperties>
</file>