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3FA9-2C53-4938-BFF1-F814F2D24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A1D5-EA87-480B-B662-776D5E90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0A4B-02C8-4952-8B09-C70DB609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FF46-803F-437C-9CC0-903293F57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86B1-BB87-4FD3-9B3F-4DD5B3FB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511F-73D7-4C86-BE3E-363AFAB2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6619-DE4C-404A-BC27-4CD35482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19AB-2BDB-4DD5-8E5F-B41FD5C6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3818-1719-43CE-B07D-560D9276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CC33-C301-462D-99C1-7FC49AFC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FA55-5B64-419E-85A6-2114387E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086C-47A8-4B10-B8D3-1AF195A2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EFE3-B459-43F3-B4FA-18F8B22DA6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52280" y="-4680"/>
            <a:ext cx="883296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0:54Z</dcterms:modified>
  <cp:revision>30</cp:revision>
  <dc:subject/>
  <dc:title>PowerPoint Presentation</dc:title>
</cp:coreProperties>
</file>