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ECC-68A2-4FC7-8BEC-7B476546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EDAF-1D37-4236-BF70-8B0FD15D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A7B-82C3-42C0-B2FD-D4C70490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9DE-50E8-4318-A60F-EC5FE229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7980-5878-44CD-8CF9-5BAA5FE2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B9E7-8F29-48F7-A7B7-BFE544DE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895-F285-4C8B-9A0D-DCAF2FFE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B15B-910D-43FE-B2DC-E1924F01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F2F0-16B6-469B-A9AD-02B837F0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63D9-BB8F-4316-95D0-0631725C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8D3-84DC-4E0E-B311-126F9302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D1CF-AEE1-424D-A4EA-A01374D9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792F-2990-4AFC-89D1-91A942845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8160" y="355680"/>
            <a:ext cx="91058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8:08Z</dcterms:modified>
  <cp:revision>22</cp:revision>
  <dc:subject/>
  <dc:title>PowerPoint Presentation</dc:title>
</cp:coreProperties>
</file>