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882F-7F48-4111-86A1-FE75C9FA2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5B | FEDERAL MEDICAID AND CHIP SPENDING PER POOR PERSON, SELECTED STATE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CE9D-B324-40E7-AE82-E7A5A57DE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3F72-7A74-4718-816C-D773CA1C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EEAC-6DA6-4761-8427-BCEDA63D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FDC-2240-4568-8936-738BCCD5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4101-FB5C-4618-8FA8-0ED272A5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1CC2-DA9E-4EA7-AC21-A58ABA8F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29ED-EB94-4B4C-A170-FCA231B2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48E-E48C-4D9B-832E-E0470FED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D4DA-E077-4F16-83C1-9328AD52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C6A2-4E72-4BA7-BC8F-9D390409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F43D-CCC0-4595-BDC7-BD4897C0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6E14-284E-417D-BAC0-D12F9248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E3B2-8280-40AE-8AE9-428EF454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19C1-3E68-4E40-BA27-A8E57C5B8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5b | Federal Medicaid and CHIP spending per poor person varies widely by state, the amount does not decline as state income ri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237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057400" y="58672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ates ranked by size of 2008 per capita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5b | Federal Medicaid and CHIP spending per poor person varies widely by state, the amount does not decline as state income rises</dc:description>
  <dc:language>en-US</dc:language>
  <cp:lastModifiedBy>Jia Yao</cp:lastModifiedBy>
  <dcterms:modified xsi:type="dcterms:W3CDTF">2013-09-06T13:59:41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5b | Federal Medicaid and CHIP spending per poor person varies widely by state, the amount does not decline as state income rises</vt:lpwstr>
  </property>
</Properties>
</file>