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3DF8-ACCB-4437-8DED-C8BE30E4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385-4D5D-49B8-B208-892CE9C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591-2976-4BE2-8249-8A413A6C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44E-1D1D-413C-BB07-1DF5A843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A35-AA2C-4674-8E28-E28921B9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DCC-240B-4033-8AE4-1D8B6439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0D2-5E53-4F3E-8D3E-E11949F0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0F8-D14D-4A01-9B5B-3BCAF700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61C-E628-41DB-9A57-F74034DA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0C9-6F1E-49BE-93AA-433E593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2E0-1551-4A8B-A3BC-2E5A4F0D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D12-BD17-46B7-9AB6-D2E346D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2AB1-CE38-465B-AC53-11DEB2260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328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37:21Z</dcterms:modified>
  <cp:revision>4</cp:revision>
  <dc:subject/>
  <dc:title>PowerPoint Presentation</dc:title>
</cp:coreProperties>
</file>