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259-A2AC-43A3-A437-034703B0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C3C-C9B1-4827-AEB6-EE1527F5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1E0-8432-43D6-AC0E-CF3A4EB0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FA4-068D-4840-B9B0-8DF3FB00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D2F-3493-49CB-925B-DF385616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AEEF-EA46-45FC-B188-B659C802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9CC-92C5-4B6B-84E7-D08DFD63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2D4-C37A-4E45-9E94-48B3B2B5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ED9-9E5D-4A56-B4C0-1F5CF91B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986-F9C3-4BD9-80D1-FC5E48AE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83F-C092-4BAC-A551-28086EDE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483-7335-4BA4-B607-D68D5DA4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B206-48D5-488A-BB41-BF6DB4824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4Z</dcterms:modified>
  <cp:revision>18</cp:revision>
  <dc:subject/>
  <dc:title>PowerPoint Presentation</dc:title>
</cp:coreProperties>
</file>