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E7F-DD37-433D-8FD1-5ECC0106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DC9-4A9B-4F68-BE27-631500D9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F26-3F9A-4A5B-BAAD-2551D70A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31F-41E7-46D4-B496-C2D71258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080-1C6C-42EB-8BC5-3DDF869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473-A2E5-4115-AD5F-206CC9D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6FA-454E-4710-9409-DFE62275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8B3-223C-4E20-A1AE-044DD15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22C-9F69-4E69-970C-8C010161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461-EA6A-409B-B3F9-3049334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3E4-7B45-43B7-B5C6-3A5EBD9E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F7A-1B99-4246-8970-D26933AA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DA2D-B13E-4882-AD9B-90CDC9BD9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7Z</dcterms:modified>
  <cp:revision>31</cp:revision>
  <dc:subject/>
  <dc:title>PowerPoint Presentation</dc:title>
</cp:coreProperties>
</file>