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365F-6BED-4DE5-A976-E50FDE623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483D-B815-4500-B153-165E12596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6BB-D453-4CBE-AC87-FDA61B57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562-FE17-4994-91B7-52B9237C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9FA-C19E-48AF-B632-1BB7D167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54C-C052-42D8-8B6A-2DF42C93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DECE-4EA6-4838-B783-7990C694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653-D582-4882-8089-F00ED99B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C0B-5F3C-43E6-8002-8955CA0C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AE15-F949-4E39-950D-24BBF89C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23BA-C910-49A5-86BF-A7D33915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0AF-EE17-4D25-BFA8-304F6551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5701-A093-40E3-B8B3-D12D35CC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100-870A-43A4-84F6-477AB374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D8EB-00B7-4F0E-91D4-537B00E67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c | If 1 percent excess growth persists, almost 90 percent of GDP increases  will be devoted to health care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hare of increase in inflation-adjusted GDP per capita devoted to health c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19:35:40Z</dcterms:created>
  <dc:creator>Jia Yao</dc:creator>
  <dc:description/>
  <dc:language>en-US</dc:language>
  <cp:lastModifiedBy>Jia Yao</cp:lastModifiedBy>
  <dcterms:modified xsi:type="dcterms:W3CDTF">2013-09-25T19:36:19Z</dcterms:modified>
  <cp:revision>1</cp:revision>
  <dc:subject/>
  <dc:title>20.5c | If 1 percent excess growth persists, almost 90 percent of GDP increases  will be devoted to health care by 2085</dc:title>
</cp:coreProperties>
</file>