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1106-4604-4CA3-8D5B-4C8056684C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6B | LIFE AND WORKING-LIFE EXPECTANCIES FOR FEMALES AGED TWENTY YEARS, 1900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3691-BA37-489C-B80E-793B2488EE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E93E-2BB3-4FEB-93E9-0FEC8C73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34C3-80F3-47B6-8E34-AA479361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4352-BDE9-4DEA-9147-555FBF966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CDAA-400E-430E-9B80-2BD1C7A4A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07FE-E296-4829-9C87-B3760850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64C4-9FC9-49BD-845B-D636FB39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F7A2-1610-4384-8BB7-762E02D4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93FB-43FF-47A5-A6C9-F6366BB8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1ABA-E794-48BD-A126-27CCD362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24F8-85CC-41BB-93B3-C537D1F0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E0BD-48C2-47D2-ABF1-000E048E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2271-7E5C-438A-A6E5-B053001F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D998-E6B8-426A-B635-375EE89FD5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6b | Increased life expectancy for females generally has been accompanied by rising working-life expectan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1371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dditional years of life expectancy at age 20, fem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09480" y="60958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working-life expectancies not available for females in 190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6b | Increased life expectancy for females generally has been accompanied by rising working-life expectancy </dc:description>
  <dc:language>en-US</dc:language>
  <cp:lastModifiedBy>Jia Yao</cp:lastModifiedBy>
  <dcterms:modified xsi:type="dcterms:W3CDTF">2013-09-06T15:04:20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6b | Increased life expectancy for females generally has been accompanied by rising working-life expectancy </vt:lpwstr>
  </property>
</Properties>
</file>