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6787-FF61-4011-9B23-FB407E9F0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BB84-7677-46AC-8875-3DA22FBD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A19D-77F8-46FF-843D-A7605FBD0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E428-3C40-4FA6-8CA0-D51B086D5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DC0B-A7BA-4989-84A5-B4A306C5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9F5A-14F9-4467-B12B-7E717F21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F926-9CBE-495F-9894-1165E11A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CD11-0F47-4C2D-8D1E-895D4DA8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7B5B-7553-4523-BD38-AFFE6115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F06A-820D-4C84-B247-A4210058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CD4C-D9A8-4AA0-80EC-0DCBB0BF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7F0B-156B-45FD-BBE2-8645BEA7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2BCD-783E-4825-87BA-6BC074785C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4400"/>
            <a:ext cx="901044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2Z</dcterms:modified>
  <cp:revision>22</cp:revision>
  <dc:subject/>
  <dc:title>PowerPoint Presentation</dc:title>
</cp:coreProperties>
</file>