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D4D6-1ECB-4E28-AE58-6CCC4D7DE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0E2C-D5C0-4676-9DE0-B29C0EA8B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5A86-097B-4971-89DF-C26A8526A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DE86-86A2-4B46-B2E5-3F7752FAD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E653-230C-41B6-8BC4-2D7FD17E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CDB2-7FA7-4C54-94BF-D9817FAD4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73A5-51A9-46FF-9DD7-532766AF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E09F-C869-496B-9098-B919B8210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EA05-A310-4F35-B855-637B7F91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EBA9-1FAF-4F02-9CF5-2FD9D63E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461C-A0E0-4199-92CB-E036D744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3FB3-2D22-45E0-9FAD-96BDDC25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99C50-B4F2-4DD5-A267-79F4156A8E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6600" y="152280"/>
            <a:ext cx="9077400" cy="649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1:02Z</dcterms:modified>
  <cp:revision>31</cp:revision>
  <dc:subject/>
  <dc:title>PowerPoint Presentation</dc:title>
</cp:coreProperties>
</file>