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EFEA-E0EB-4320-B875-501671AF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E8AF-D28A-41A3-A765-E2D7BD50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022B-18B1-4E2F-BC1C-76AB2D01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BD79-D4E3-45F4-B897-219A034D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BC16-9C6B-4EC9-82AD-6937B47D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7B8-BAD6-4118-8705-414BA413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FB6-2212-4110-8FB1-0ADD5E4C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9290-978A-4A2A-8603-06CFD888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282-7293-426D-B521-6486424D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088A-1B62-49A4-AFCD-62B39AB8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BB4-A7FF-4E84-9ED3-089DD38C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AB6-CA00-4E6A-8206-F06E8D8F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D373-4AA9-4ABE-99FF-179BD8089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91960" y="0"/>
            <a:ext cx="856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53Z</dcterms:modified>
  <cp:revision>37</cp:revision>
  <dc:subject/>
  <dc:title>PowerPoint Presentation</dc:title>
</cp:coreProperties>
</file>