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AF88-4201-4DBA-8B1A-7464D59DA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3.1a | Number of Persons Below Poverty Line, by Poverty Measu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CF8-8ECF-45D0-9A72-89FE0298A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F40-09E2-494A-8A03-6E556710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21B-868F-4BC7-98D0-CB6CEF7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AF1-6658-4C3A-B3C9-F3B664B7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EFC-E726-4C1B-8E80-EC793948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92F-B7D5-4673-8553-241BDE7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155-5E4C-4553-9972-715ADF9D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A1C-2C64-436E-98FA-A75B3E5A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20B-6293-4E1A-88D5-F11A151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DA1-F982-43BC-88CA-C2BA945B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8462-C7A2-47F9-82C2-496844D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778-E13F-46FC-A3A2-57031EFA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2CC-30F8-4ED9-B063-1C629C8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C97-C12F-4B4C-B7AD-312E79562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1a | Taking into account medical expenditures decreases the estimated number below poverty by up to 4.5 million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number below poverty line, in million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1a | Taking into account medical expenditures decreases the estimated number below poverty by up to 4.5 million people </dc:description>
  <dc:language>en-US</dc:language>
  <cp:lastModifiedBy>Jia Yao</cp:lastModifiedBy>
  <dcterms:modified xsi:type="dcterms:W3CDTF">2013-09-06T15:16:48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1a | Taking into account medical expenditures decreases the estimated number below poverty by up to 4.5 million people </vt:lpwstr>
  </property>
</Properties>
</file>