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FFC1-52AD-4AB4-B29F-5C6D74A6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002-E2CA-4342-94F7-F27EEE76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370-B845-45C3-9921-B4008D82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864C-4D16-4CD4-B44D-8C69A5E2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483-25C9-4649-AFEF-1050F02B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B0A-69DE-4E5E-88A8-1A7D22A1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EE40-9CBD-450C-BC1F-7E70DD93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FD1-9E98-4925-B5AF-CB97E972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473-A0E9-4CC4-BE93-618BB595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D8E9-A85F-4D75-8CC0-7C1F0FC7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7B43-FDFB-4FCB-A560-4F68E60B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9EC2-FA2E-4A34-9117-C0DCD6CE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D91D-0457-4C64-BFD0-9DA3D4B77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57200" y="7920"/>
            <a:ext cx="824076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6Z</dcterms:modified>
  <cp:revision>8</cp:revision>
  <dc:subject/>
  <dc:title>PowerPoint Presentation</dc:title>
</cp:coreProperties>
</file>