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323A-5FE6-4C1E-AE96-3D45FC9CA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B | EUROPEAN CANCER SCREENING RATES AS A PERCENT OF U.S. RATES FOR SELECTED CANCERS, BY 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0B50-5BE8-4B9F-ACBA-8C996FCCD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B1A-2C44-410F-8426-73B3AA69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D86-049B-4398-992C-4B0F3B7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50E-4194-47AE-9B19-5763EFA4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E06-FAF7-4594-B259-865E0273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BFD-71A3-4052-A835-43A0BE76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C51-3AFA-4861-A5CF-93AE9E1C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63A-1889-42F4-A84B-BB4004A5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591-6133-418E-8BFE-D3D607A0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C26-CB36-4AD1-B9CE-D06E1DE4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67B-5A42-46B2-971F-931A283D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05D2-E9BA-4401-B47B-531ED2AE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0A6E-B008-4675-BFD0-8E5FA56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9BA9-DFD9-40F6-B3AC-57E3692FE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b | Despite a larger uninsured population, cancer screening rates for adults 50 and older are much higher in the U.S. than in Eur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ancer screening rates as a percentage of U.S. r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75920" y="5827680"/>
            <a:ext cx="77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.H. Howard, L.C. Richardson and K.E. Thorpe, Cancer Screening and 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United States and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009; 28(6):1838-47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b | Despite a larger uninsured population, cancer screening rates for adults 50 and older are much higher in the U.S. than in Europe</dc:description>
  <dc:language>en-US</dc:language>
  <cp:lastModifiedBy>Jia Yao</cp:lastModifiedBy>
  <dcterms:modified xsi:type="dcterms:W3CDTF">2013-09-06T15:41:18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b | Despite a larger uninsured population, cancer screening rates for adults 50 and older are much higher in the U.S. than in Europe</vt:lpwstr>
  </property>
</Properties>
</file>