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8C9-FADF-4A60-88BC-40A9F8B7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008-59BF-4CF7-9B17-A8788ABE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4B6A-0E69-409F-B239-2C692AC2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163-681E-46FD-B128-A3B060B5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C8F-B10E-43B4-A45F-C5E23CF6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A1D-C5FF-404D-A3B4-4F751F87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730-6DD5-4D72-92E2-8A19BFED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B8E-125C-452C-AA24-BF6A76A2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4DC4-7B71-4345-AB9D-2195081C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9A0-680B-4AE8-B1AB-E47A8D79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99E-6C6F-4533-86FC-42B93498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A4C-B8CA-4F04-AE03-6A5AB088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470F-8CC5-4266-9564-C0FD481E0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0Z</dcterms:modified>
  <cp:revision>20</cp:revision>
  <dc:subject/>
  <dc:title>PowerPoint Presentation</dc:title>
</cp:coreProperties>
</file>