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5531-514F-450E-9A59-71AC75862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a | Net Stock of R&amp;D Capital Compared to Productive Capital Stocks, Health Services and All Private Business, 1987-2007 (R&amp;D per $1,000 of Productive Capital Stoc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5A26-37E6-401E-B7EB-C1CCE5334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6CA-9259-4C66-B5C3-F888E584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4F0-8C32-4175-88E6-F619FA71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A2E-1F5F-4B95-8DFA-9804C911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D10-5A5C-42FC-B5CC-287BE986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89F-295C-42F0-9F91-1F7598DF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BC3A-EAE9-4EC5-9964-E440267C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FA7-4A05-4701-B476-888E3E68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20C-E773-4330-B908-418F418B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F81-0F79-4FEC-8148-3777D0E1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1403-B445-4033-A168-0BD8C3AF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956-28BA-4A68-9F98-C2CFF07E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CA42-84FF-4151-BC26-71C01D2C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F12D-CE6D-402E-A0D5-CEE58DF93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a. | The ratio of R &amp; D capital to productive capital stocks is roughly five times as high in private business as in 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6019920"/>
            <a:ext cx="87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idential care facilities. It does not include pharmaceuticals or medical de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a. | The ratio of R &amp; D capital to productive capital stocks is roughly five times as high in private business as in health services</dc:description>
  <dc:language>en-US</dc:language>
  <cp:lastModifiedBy>Jia Yao</cp:lastModifiedBy>
  <dcterms:modified xsi:type="dcterms:W3CDTF">2013-09-06T15:00:4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a. | The ratio of R &amp; D capital to productive capital stocks is roughly five times as high in private business as in health services</vt:lpwstr>
  </property>
</Properties>
</file>