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BBCC-4B99-45AA-9F5C-5686DCA36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B | CAT SCANNERS PER MILLION, MRI UNITS PER MILLION, PTCA PER 100,000 AND CABGS PER 100,000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560-4C3A-4E33-9825-036626DB7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327-102A-4613-B45A-25F90FD6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9A0-3E32-4706-95B4-2E9EBAB7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16A-7CD1-4B08-8DB4-DFBD5D99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700-12E7-4A28-BD06-DC873C30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753-9FBE-4922-B996-DA390D87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4A0-4AB5-4487-91A1-8B6888A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28C-AA49-49FD-999B-5206FC31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7DB-5222-4F12-8395-9E06D5A2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0548-AE75-45F5-B81E-CA8A02AD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2DC-D287-456F-8620-0E19CDFE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580-090B-471E-8EDD-1D5C864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BA4-EFF8-4E30-8851-3D0EC50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8C00-629C-4A6D-ADB4-762B0228F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b | With the exception of Japan and Germany, U.S. use of technology generally is much higher than among other G7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1272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b | With the exception of Japan and Germany, U.S. use of technology generally is much higher than among other G7 nations</dc:description>
  <dc:language>en-US</dc:language>
  <cp:lastModifiedBy>Jia Yao</cp:lastModifiedBy>
  <dcterms:modified xsi:type="dcterms:W3CDTF">2013-09-06T15:40:5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b | With the exception of Japan and Germany, U.S. use of technology generally is much higher than among other G7 nations</vt:lpwstr>
  </property>
</Properties>
</file>