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1D3-9A9D-4C05-8103-2F26973A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7032-6F0B-47E6-AF7E-A3012AB3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820-7430-4F0D-AD4C-33F5F924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C10-51BB-4E9B-B8A8-9EC5EE1B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13D-52E3-48EA-B481-48A00276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FC18-60F2-4536-A51A-23793B4F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FEE-99F1-447C-9FBE-84AA423F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F655-6762-4D24-BE60-6A1B828F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FAE3-81FA-413F-B6B1-1B43CDD1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BDB-A2A6-496B-B680-7CE337E7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C58-0DFC-492F-9F4F-897261E4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1D21-2EF0-4ADD-93E6-F8C2E22E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7865-7DDC-4878-9611-4BF4CC7E5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600" y="304920"/>
            <a:ext cx="9131400" cy="62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1Z</dcterms:modified>
  <cp:revision>37</cp:revision>
  <dc:subject/>
  <dc:title>PowerPoint Presentation</dc:title>
</cp:coreProperties>
</file>