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5755-86AB-415A-BCF8-C23AF6890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6 | NUMBER OF UNINSURED AND PERCENT WITHOUT HEALTH INSURANCE, 1940-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Tahoma"/>
              </a:rPr>
              <a:t>Source: Author’s estimates based on CPS, HIAA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97F2-5FC9-444D-9ADE-D012B54E7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904-8C25-44C9-A0AE-D0A4F089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33A-08E2-4A90-BCA7-B7BB5F2C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1F6D-CDC4-408C-B35D-B3B1AEA9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C2FD-3C6E-47FD-8D3C-CB563E00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14BB-9E6E-4E4D-B917-EC73022D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B0CF-1D7D-4179-AFA1-0994CD2A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C071-64F8-4E56-9F31-E68C51B6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AE29-851E-4035-ACC4-4E16086D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F25-964E-45CF-A84C-CA5A2DE8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CC0-8743-487B-B6B0-6101CE5F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23DF-F83B-42E0-B630-FF3B5D57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4687-41D2-4246-AF57-92B141A9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1171-95E7-4365-A2C2-4326F8CBC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6 | The risk of being uninsured has declined by more than 80 percent between 1940 and 201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5116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228600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325440" y="5943600"/>
            <a:ext cx="865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: Figures simulate the gross number of uninsured as if measured by today’s Curren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pulation Survey. No adjustments have been made for the 10 to 20% overcounting o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nsured by the CP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TextBox 1" descr=""/>
          <p:cNvPicPr/>
          <p:nvPr/>
        </p:nvPicPr>
        <p:blipFill>
          <a:blip r:embed="rId3"/>
          <a:stretch/>
        </p:blipFill>
        <p:spPr>
          <a:xfrm>
            <a:off x="4979880" y="914400"/>
            <a:ext cx="3140280" cy="512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6 | The risk of being uninsured has declined by more than 80 percent between 1940 and 2010 </dc:description>
  <dc:language>en-US</dc:language>
  <cp:lastModifiedBy>Jia Yao</cp:lastModifiedBy>
  <dcterms:modified xsi:type="dcterms:W3CDTF">2013-09-06T14:06:28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6 | The risk of being uninsured has declined by more than 80 percent between 1940 and 2010 </vt:lpwstr>
  </property>
</Properties>
</file>