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FCBF-034D-4918-A989-C0FF6A837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6CDB-98B8-419E-9011-D9088DE4877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6 | DISTRIBUTION OF U.S. PHCE RELATED TO 15 BEHAVIOR, LIFESTYLE OR OTHER AVOIDABLE CAUSE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66B-155F-4A45-9031-1F747801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384-4202-4649-928C-A189D56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AFF-9062-4DA6-BBF7-ADC76497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73B-5419-4B08-BAB5-82073823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07E2-A09C-4032-AEC3-DEFF5692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258D-F78C-4D81-8B16-87C759D5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4DD-71BD-44E3-8A31-A1F48CF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400C-8248-4035-B0DF-844FFEC4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E469-0BDD-4A09-9C60-469D781A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BCA4-AB2B-46DA-A199-5647FD78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A28-0EB0-4584-95EA-224E141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815-69C2-413C-B94C-E79B4F61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0838-4EDF-4F95-B6C2-C661D223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C88A-2D9C-4807-9E20-92C02D30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3B56-3C40-4A28-94C7-6B5210AF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ED04-FF12-438F-8908-F118C87F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B9FB-2A75-4AB1-845F-95CFCB95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7ED-AF1F-4478-B005-CED5861A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A5C-8474-45A6-A774-9E541D26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DD4-AABA-4427-BEE3-3B9142F1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206-E29D-4C9D-B444-9DC3086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3F9C-60CC-4DCA-BB83-F93591A5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34E-0A0D-4E1A-B944-AE1EB14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3A1-8A3C-4E82-91DA-B15722DA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5712-3E69-491A-84BA-9E62B3FCD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993D-A3CC-4871-9981-4AC322265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Figure 2.6 | Probably half or more of health spending is related to behavior, lifestyle or other avoidable caus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660240" y="787320"/>
            <a:ext cx="980748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Figure 2.6 | Probably half or more of health spending is related to behavior, lifestyle or other avoidable causes</dc:description>
  <dc:language>en-US</dc:language>
  <cp:lastModifiedBy>Jia Yao</cp:lastModifiedBy>
  <cp:lastPrinted>2002-05-16T21:44:34Z</cp:lastPrinted>
  <dcterms:modified xsi:type="dcterms:W3CDTF">2013-09-04T18:13:29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Figure 2.6 | Probably half or more of health spending is related to behavior, lifestyle or other avoidable causes</vt:lpwstr>
  </property>
</Properties>
</file>