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07AE-1057-459E-B0E0-42CA405D3B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3B | HEALTH-RELATED FRINGE BENEFITS AS A PERCENTAGE OF NATIONAL INCOME BY TYPE, 1948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4BAB-C8AB-4358-B830-6CF491A5C8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7EDE-8FCF-4071-BCE4-BF10C56A7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6BF1-BA03-4CDF-9B91-FB3AB1BC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E908-7667-4F1E-876C-F0AD4CB99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352D-F0C6-4AF8-8627-F3B5A77DE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CFFD-2AF9-4D12-8EE7-DA9C5C97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3CE3-29F4-44B3-8687-014E7743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A6FF-C144-4C92-8C12-EFB5C489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3329-2BF6-4CF1-A624-FF16249A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9177-A3DA-4B21-9AA1-AE7C2223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69D6-4B92-4F55-B605-F5EDD461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E4AB-76E9-4716-8969-69E0B2D5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E5EC-005D-4199-829F-0D14AE77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3E4B-0FDE-42EB-B72C-45FE9B4FB5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3b | The health services share of owner income is nearly as high today as it was in 1929; the share for all other services has increas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01520" y="1244520"/>
            <a:ext cx="886464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3b | The health services share of owner income is nearly as high today as it was in 1929; the share for all other services has increased </dc:description>
  <dc:language>en-US</dc:language>
  <cp:lastModifiedBy>Jia Yao</cp:lastModifiedBy>
  <dcterms:modified xsi:type="dcterms:W3CDTF">2013-09-06T14:16:58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3b | The health services share of owner income is nearly as high today as it was in 1929; the share for all other services has increased </vt:lpwstr>
  </property>
</Properties>
</file>