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F4F4-6007-4E6E-B978-418E92555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B | MEDICAID EXPENDITURES AS A PERCENT OF STATE AND LOCAL GOVERNMENT EXPENDITURES FOR THE HIGHEST AND LOWEST STATES (IN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8E27-29ED-4C51-8A18-5DA53C35C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988-F0BB-4999-A9FA-003CC668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D46-9076-4E83-A899-948C820D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E434-8209-4924-882A-35609587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864-705D-4321-89D2-9F098E88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60C-C3D0-47F3-B2F2-BF99BEE7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98A-93C5-4643-B53D-421D9C67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824-5A10-4450-9321-92FA1E12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6D3F-A1DD-403C-B3A5-C57453E2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7CA-698D-406F-9F05-7E41CC1E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5B3-E22E-4C42-B070-44508489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E12-7592-412D-AC9E-08D1C800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F61-2542-41E7-9126-3DD841B7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2777-1865-41DE-854E-34D09CDA2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b | The Medicaid share of state spending varies by a factor of 3 across st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863640"/>
            <a:ext cx="8425080" cy="26161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388800" y="3149640"/>
            <a:ext cx="8196480" cy="30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2057400" y="533412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in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b | The Medicaid share of state spending varies by a factor of 3 across states </dc:description>
  <dc:language>en-US</dc:language>
  <cp:lastModifiedBy>Jia Yao</cp:lastModifiedBy>
  <dcterms:modified xsi:type="dcterms:W3CDTF">2013-09-06T13:59:46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b | The Medicaid share of state spending varies by a factor of 3 across states </vt:lpwstr>
  </property>
</Properties>
</file>