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EC8-1C19-42EF-9DA9-B3CC1AE7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595-672B-42F5-A2CF-BE5DC4AC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086-F36F-4B67-942E-EECBF514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E2E-94E5-40CC-B3FF-A9ADBBDC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1DE-1B1D-42D3-ABBB-4E3FE74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16A-18A7-40B1-9D97-AF8B167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322-B581-4F4E-9422-0F9777AB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86D-98B7-42A2-BD20-93E84E2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EE2-0614-4597-9699-AE03F80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0B9-04B5-4302-BEF0-CCF34649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AFE-AC43-425E-9C29-7F0A863E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C0E-93A6-4AA8-AB36-531D420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EEB-5D27-4ED5-ADE3-8160798A4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1676520"/>
            <a:ext cx="90741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0Z</dcterms:modified>
  <cp:revision>43</cp:revision>
  <dc:subject/>
  <dc:title>PowerPoint Presentation</dc:title>
</cp:coreProperties>
</file>