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170-C92C-408B-9A17-4BA36AFF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C7C-3B9D-4076-A083-A5816946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674E-450B-4B27-8541-0070345A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4D3-CC9C-4213-800A-BC87CDBA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4A7-C738-4A89-ABD2-4EFEE145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B499-6722-4F59-B5DF-CA672C80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4B4-59AA-4C1A-AE70-8104DB84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74F-0CD3-49A8-8A57-158C1FA1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DC5-95A1-4DB5-805C-8C69E92E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8E3-D84D-4170-9CEE-73A2612B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984-612D-47E6-8ED9-3DCD632E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B01-F0CD-4E78-92BC-1AEEE11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BCC0-7CC9-4374-894E-CF82C9690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240" y="76320"/>
            <a:ext cx="906444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4Z</dcterms:modified>
  <cp:revision>37</cp:revision>
  <dc:subject/>
  <dc:title>PowerPoint Presentation</dc:title>
</cp:coreProperties>
</file>