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F8C-BEF2-4BB3-B5D4-49341CEB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212-2C80-4F6F-A346-2919E8F9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7A0-C50D-46D2-AA25-3D1F331A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5A7-5FA3-4B4C-B44E-D313F3EA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ECF-6335-4599-845E-81BD5F5C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AD5-8D58-44B5-B574-4A844299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415-6CD0-4375-A7B8-B8660223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EDD-0DC8-456B-9238-FB43162F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0CE-DEAD-4BCA-93D2-8D07F997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561-B6E9-42DC-92B7-C57FA433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24B-0B21-41FE-90DF-16344572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799-8B43-4650-A9F2-FE0D0E8F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E7AB-7B6A-419B-9661-D78C77951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2Z</dcterms:modified>
  <cp:revision>39</cp:revision>
  <dc:subject/>
  <dc:title>PowerPoint Presentation</dc:title>
</cp:coreProperties>
</file>