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5115-2B79-466F-BF2E-A4B08811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6031-E961-415D-9536-A10C109E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EF4F-147C-4FBB-B9AC-1E097CA2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C193-B883-45DE-BE29-22CEF6DC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095A-1140-4D84-8808-0E53C287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DDD6-1242-4813-9FEC-6DE1D28F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D72-84FE-481E-A120-E658AA5B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4A5B-A280-4598-A6D3-FA77EA85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1673-6F93-44D6-A9B7-B6C8EA3D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6587-0009-42DB-9A70-B8696C9D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FD8B-0E0B-4B69-8651-3947D9DD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F793-D522-4F88-9C4A-D765747F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0227-534D-4D9C-88A2-95D40170E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40" y="1317600"/>
            <a:ext cx="902484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7Z</dcterms:modified>
  <cp:revision>37</cp:revision>
  <dc:subject/>
  <dc:title>PowerPoint Presentation</dc:title>
</cp:coreProperties>
</file>