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9DC-7C4A-4BEF-9A02-EE5C2C82A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1A | INDEX OF FIVE-YEAR CANCER SURVIVAL RATES (100=US) FOR SELECTED FEMALE CANCERS IN SELECTED INDUSTRIALIZED COUNT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5738-19D2-4AA4-92E7-AA14C928F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A11-0422-4968-9424-6BE25D53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CE0-DF98-42E4-8AB5-7B3DD5B0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81A-C05A-441A-9DC9-AAD54461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6E4-4F0E-40DA-ACC2-594F8509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894-629E-4F6A-9EEC-3069C3DB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760-C863-4C11-8BC5-55910B6B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7BE-DB07-4ABE-B929-8AAA85B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3CA-B530-4836-9836-B486E1BB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62F-6987-4490-B57D-F3F8189D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9DC-1A1B-4302-BFEA-9469BB3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5A8-8750-4776-BB2C-3C80989D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36D-4803-4D2A-A231-1B2486BE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DFDB-A84C-43B0-A1DF-2AE6ACDBC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1a | The U.S. leads the world in female cancer survival rates for the leading causes of cancer dea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1371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ve-Year Female Cancer Survival Rate Indexes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3520" y="522756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1a | The U.S. leads the world in female cancer survival rates for the leading causes of cancer deaths</dc:description>
  <dc:language>en-US</dc:language>
  <cp:lastModifiedBy>Jia Yao</cp:lastModifiedBy>
  <dcterms:modified xsi:type="dcterms:W3CDTF">2013-09-06T15:41:1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1a | The U.S. leads the world in female cancer survival rates for the leading causes of cancer deaths</vt:lpwstr>
  </property>
</Properties>
</file>