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37F-C638-4436-9A9B-3924C1DF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5EB-4B57-4DAC-9DAA-FDC0BAE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6B4-7447-4C54-A28E-73E67A00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199-802F-40EE-9273-83632721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222-1B31-46D4-8DB5-76207E8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326-EBD9-4A62-B891-1A321C3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B7B-698C-4AEC-90D8-2AFF35E7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26E-D82C-4A9E-8F28-E240AAC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AED-CF90-4AE2-9CF8-57BDE4A2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276-5D5D-4DFA-A0E4-F6617E2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6A0-CAF2-4436-AED0-798D5A04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68B-313F-4A59-A93C-D6A2526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E5E-E858-4F3D-A3EB-0E1DB2CFC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04920"/>
            <a:ext cx="89884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6Z</dcterms:modified>
  <cp:revision>30</cp:revision>
  <dc:subject/>
  <dc:title>PowerPoint Presentation</dc:title>
</cp:coreProperties>
</file>