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981-67F6-4BE2-8EA4-3D12B863B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527-86E6-492E-89E6-A618274045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b | Percentage Distribution of Personal Health Expenditures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C51-F850-4F7E-A048-0FCCC951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BEB-2307-4DA0-8B25-87D84B0B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48A-7F48-49EC-95C5-2E4DB850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5BB-B598-4F8F-BBCF-C1DC2FD6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9D91-2E36-45D4-84B3-2B962544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9039-B4BE-4DC7-B145-6B71E72B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AB48-CF92-491E-95AF-E5E59FEC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02EA-BF6B-41A3-84E6-D7B3370F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F045-2EAD-4F43-B6B9-FECF3FB2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4068-A0A3-4A36-8607-1E19277A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450E-EF27-4100-8EC5-20E9A0C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4A4-F3CA-4D89-BAFA-CEE288C4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0123-3E08-442F-824A-3A46BE5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3D3D-FCD7-44BA-95E4-2C4ABBC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A544-5549-4A70-A234-369B3F76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AFC2-CBFE-494C-A37B-6D2F8C48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0713-86CD-42DC-AD8E-62B5A374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76F-EE0E-45AD-94D8-FCAA7EAB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6B4-8F79-404A-AE31-C63D507C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75A-154C-4D52-AFD6-1479EF3F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9CC-99DD-4A8C-B528-7DDD1CED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9FA-4B9F-43FE-AEA4-D479354B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A3F-FE35-4F6B-B5E5-1095B4D0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D99-D4B7-46D7-87AD-0F78CEB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CA48-7ED0-41B6-AFEB-7C711D616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273C-DFF4-4139-8583-7A14F7825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b | Tax-financed health spending expanded more rapidly than private health insurance after 19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92" name="Straight Arrow Connector 5"/>
          <p:cNvCxnSpPr/>
          <p:nvPr/>
        </p:nvCxnSpPr>
        <p:spPr>
          <a:xfrm flipH="1" flipV="1">
            <a:off x="4038120" y="5028480"/>
            <a:ext cx="5342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Straight Connector 6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7"/>
          <p:cNvSpPr/>
          <p:nvPr/>
        </p:nvSpPr>
        <p:spPr>
          <a:xfrm flipV="1">
            <a:off x="152388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8"/>
          <p:cNvSpPr/>
          <p:nvPr/>
        </p:nvSpPr>
        <p:spPr>
          <a:xfrm flipV="1">
            <a:off x="3429000" y="137160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9"/>
          <p:cNvSpPr/>
          <p:nvPr/>
        </p:nvSpPr>
        <p:spPr>
          <a:xfrm flipV="1">
            <a:off x="434340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4"/>
          <p:cNvSpPr/>
          <p:nvPr/>
        </p:nvSpPr>
        <p:spPr>
          <a:xfrm flipV="1">
            <a:off x="6248520" y="1523520"/>
            <a:ext cx="0" cy="44960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5"/>
          <p:cNvSpPr/>
          <p:nvPr/>
        </p:nvSpPr>
        <p:spPr>
          <a:xfrm flipV="1">
            <a:off x="7238880" y="1523880"/>
            <a:ext cx="0" cy="46483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2"/>
          <p:cNvSpPr/>
          <p:nvPr/>
        </p:nvSpPr>
        <p:spPr>
          <a:xfrm flipV="1">
            <a:off x="5334120" y="1523520"/>
            <a:ext cx="0" cy="43434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11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b | Tax-financed health spending expanded more rapidly than private health insurance after 1965</dc:description>
  <dc:language>en-US</dc:language>
  <cp:lastModifiedBy>Jia Yao</cp:lastModifiedBy>
  <cp:lastPrinted>2002-05-16T21:44:34Z</cp:lastPrinted>
  <dcterms:modified xsi:type="dcterms:W3CDTF">2013-09-04T21:03:5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b | Tax-financed health spending expanded more rapidly than private health insurance after 1965</vt:lpwstr>
  </property>
</Properties>
</file>