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D0B4-2F4F-4B5F-B060-9DC3D8D51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b | Net Stock of R&amp;D Capital per $1,000 GDP or National Health Expenditures (NHE), 195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E235-BA49-4DAE-9E10-9A749329C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8F20-8304-46E8-8181-EB0ABF46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446-6C45-4F3A-AAAA-3C3CCA23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D52-68D6-417B-82A9-A4A5CF21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087-4FE9-4B82-822E-3BFDDBA7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CF5-3B8B-4E0D-B8A9-91318BF9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F57-1421-48AE-887A-0737097E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A71-BB05-4471-AA17-E6D9C604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D31-09D9-4130-9537-536263A0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7C4-1A39-4159-9236-380B31E7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B08-025E-40FB-9143-99F75EAD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B85-EAF5-4EBD-A7AC-E6AE18D1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E10-321D-4E75-AD51-DC90F611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EB0C-BEB0-4EB7-B6A7-9F196DB8B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b. | The ratio of R &amp; D capital to GDP is higher than the ratio of health care R &amp; D to NHE; the reverse was true from 1960-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83487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 &amp; D expenditures include both private and public sector spending, regardless of where the R &amp; D was actually condu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b. | The ratio of R &amp; D capital to GDP is higher than the ratio of health care R &amp; D to NHE; the reverse was true from 1960-1979</dc:description>
  <dc:language>en-US</dc:language>
  <cp:lastModifiedBy>Jia Yao</cp:lastModifiedBy>
  <dcterms:modified xsi:type="dcterms:W3CDTF">2013-09-06T14:59:2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b. | The ratio of R &amp; D capital to GDP is higher than the ratio of health care R &amp; D to NHE; the reverse was true from 1960-1979</vt:lpwstr>
  </property>
</Properties>
</file>