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A75-A276-4987-B14D-E385D2CA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F97-78C3-4F3F-8C41-F06D8E21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102-FE4F-4BDF-893D-05273517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3E70-07B8-4617-AE0F-8BD4E836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4D1-DB19-485E-A15F-B662C3F4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6B6-CDDA-4829-BF0E-42CE266B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3B9-23CB-49B6-BEA6-F58638E2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E273-44AF-48B5-9E3C-7D436B4C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2EF9-96E6-416A-877D-FE870169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DB5-4FD0-4BFF-BDDA-19FA1684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C80-DC9B-40C3-9337-F7040F51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442-27A1-4357-8CD0-94FAE9F7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3FF6-8E8D-48D0-89C5-FDB8494A4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3360" y="152280"/>
            <a:ext cx="90172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7Z</dcterms:modified>
  <cp:revision>45</cp:revision>
  <dc:subject/>
  <dc:title>PowerPoint Presentation</dc:title>
</cp:coreProperties>
</file>