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B68-3DD3-4AD6-8E44-619D392D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BAD-1E1C-4530-861C-7E3181D8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E95-C1CA-49DD-B494-D66EC62A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298-8E95-4C27-B6E9-E053F7C3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968-640C-488A-AA74-79C2217B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BE6-4387-42D3-9A4C-57D1D462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04D-962C-48CB-BC5F-3A8248E2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63F-308F-43B2-9981-DFFAAC72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BF3-80F8-45F4-A0C1-06605EA2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D34-5FAF-4AE2-8092-5E7B16B9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B1E-A908-4E01-913D-064DE68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E4B4-7953-45C6-9E50-8A14B73C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7521-209E-42F9-8212-9061D7F0A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2Z</dcterms:modified>
  <cp:revision>12</cp:revision>
  <dc:subject/>
  <dc:title>PowerPoint Presentation</dc:title>
</cp:coreProperties>
</file>