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1366-3716-4741-BA60-318988C21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4A | EMALE PERCENTAGE OF ALL EMPLOYEES BY HEALTH SUB-SECTOR AND TOTAL CIVILIAN EMPLOYMENT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FD42-7A10-45DE-8E79-FE11367B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BE6-6F71-4371-8874-7900FBDA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55E-66BC-47B7-B76C-F3FE7556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61C-FA41-4990-9ED3-E3D05A4D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32D4-FD1F-4B18-B74F-EEE1CA12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E9B-2625-4B3F-A023-F2FF0EF4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8C6-CF3A-463C-BFA7-B2D16DF8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712-8AD6-4788-8B07-1C6D9AF7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8AE-DDAA-4996-9FD9-D463FAFB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DF5-2476-447A-93F1-DB9EFA2F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33A-85A7-48AE-B545-7682E75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6A1-9423-4B07-8C9B-D7BAF27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FF3-10A8-410F-A52E-8131E92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FEAD-A155-473B-8554-F6DCEC2A6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4a | Females account for more than three-quarters of health sector workers, compared to less than half of civilian employment overa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092240"/>
            <a:ext cx="90169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4a | Females account for more than three-quarters of health sector workers, compared to less than half of civilian employment overall </dc:description>
  <dc:language>en-US</dc:language>
  <cp:lastModifiedBy>Jia Yao</cp:lastModifiedBy>
  <dcterms:modified xsi:type="dcterms:W3CDTF">2013-09-06T15:04:05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4a | Females account for more than three-quarters of health sector workers, compared to less than half of civilian employment overall </vt:lpwstr>
  </property>
</Properties>
</file>