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E539-FE6C-438F-85D9-2BA4A7777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2 | INDEX OF AGE-STANDARDIZED DEATH RATE PER 100,000 (100=US) FOR MORTALITY AMENABLE TO HEALTH CARE (BOTH SEXES COMBINED) IN 19 OECD COUNTRIES, 2002-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7278-A22B-487C-8B34-877E718B6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023-6D21-4374-8902-3384454A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4A6D-E44E-40A6-A702-8EC2122C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EAA-18D5-41A9-819F-FAB3E7C8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9C3-59E7-4724-9073-3AE42342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495-58BD-4E46-92D8-523529A2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28F-3957-44F3-B091-AB41E450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513-04B8-43DC-B04C-92EC1ECF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375-620E-4BE3-ADD3-348347AE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931-BC9E-4BE2-AB75-96160A17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8F6-2608-4437-B9FB-9303A5CF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165-B5D7-4CF1-985D-6BFBF53E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968D-B933-4DBE-B5EB-181B49BE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79CD-1C48-4DF7-AC12-A8BAA8FB8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2 | Compared to many other OECD countries, the U.S. has a higher death rate from conditions amenable to health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244520"/>
            <a:ext cx="87120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914400" y="138276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 (U.S. = 100) of standardized death rate per 100,000 (ages 0-74), 2002-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20" y="5897520"/>
            <a:ext cx="85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Nolte E and CM McKee. Measuring the Health of Nations: Updating an Earl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sis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8; 27(1):58–7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2 | Compared to many other OECD countries, the U.S. has a higher death rate from conditions amenable to health care</dc:description>
  <dc:language>en-US</dc:language>
  <cp:lastModifiedBy>Jia Yao</cp:lastModifiedBy>
  <dcterms:modified xsi:type="dcterms:W3CDTF">2013-09-06T15:41:2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2 | Compared to many other OECD countries, the U.S. has a higher death rate from conditions amenable to health care</vt:lpwstr>
  </property>
</Properties>
</file>