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09C-D1EB-482E-A9F7-5F57C281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BCE-2869-4740-93B0-9C37531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13E-79DC-4D0C-8DF8-A358B115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E130-EAB1-41FE-9E16-BFE9BB9B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03A-C92A-4F05-BF25-3BB3BD14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84D-6F07-49CA-9CA8-6591E943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F73-2B78-4AEB-8A8C-E0E5732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1DC-B9CC-417F-8A45-2B4AA4B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C6D-CD71-45CB-81E5-9624F27B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6AF-121E-44F6-ACC3-CA8FB46F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402-C36C-4E7B-9A70-753C94DB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FA7-D7A9-4E38-8AAC-AF45795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A351-DA0D-43EB-8BCA-964FD2B44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8400" y="412920"/>
            <a:ext cx="907560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8Z</dcterms:modified>
  <cp:revision>39</cp:revision>
  <dc:subject/>
  <dc:title>PowerPoint Presentation</dc:title>
</cp:coreProperties>
</file>