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B69-B5D7-4361-A479-848C7178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EF9-7D22-4807-B73A-733993CD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5DB-8F91-438E-BF32-9B4D4F64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209-BF59-457A-95A4-6A346A83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671-D081-4D6D-AAF5-98A9BDEE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921-32CC-47FD-AC5F-33262D02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49A-3E75-45BB-9A6A-0B140331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064-CFCF-4811-9EB2-CD2184B2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F26-4976-4059-8B38-6B74B69E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687-DD70-4D2F-AF8B-7CFDF001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5DA-1ACC-4723-81C7-6C12035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8F5-BA56-4A67-842F-132412B9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D55-98F7-448C-9542-779C2BF91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81320" y="19080"/>
            <a:ext cx="4581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9Z</dcterms:modified>
  <cp:revision>6</cp:revision>
  <dc:subject/>
  <dc:title>PowerPoint Presentation</dc:title>
</cp:coreProperties>
</file>