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34A-EBE1-4ECA-A48E-ECF1B3D8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909-F464-4F33-91ED-6F91E1FD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5FE-665B-480F-856B-9918F43D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91A-BF78-4BC2-ACB9-57C82A500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4A7-1995-4A8D-A3AB-18852BB7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821-47BD-4778-81BC-55D50800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4C9-998A-40A7-A938-0D4B0DDB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C82-37F4-4DC7-8C3E-59108C27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518-1998-4B36-8D1B-DD7FE594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BF8-E627-40CC-9341-8453C870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233C-820E-4776-B6ED-177B17C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392-EB5A-4D55-AEF8-CF23D845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2481-7D09-4FFF-B707-7270E921F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1440"/>
            <a:ext cx="91440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7Z</dcterms:modified>
  <cp:revision>30</cp:revision>
  <dc:subject/>
  <dc:title>PowerPoint Presentation</dc:title>
</cp:coreProperties>
</file>