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B410-393B-4F11-8686-AAB9DE054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7A | PHARMACEUTICAL RETAIL PRICE INDEXES, RELATIVE TO U.S. PRICES (US=100)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0271-7C6B-4EF1-ADF4-FAE1E2D58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319-15AA-422B-B491-6F96BCBA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344-3478-4CBD-B0F6-764BF0B0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F2C-80F3-4CFF-A268-3D5C284B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3C5-F25C-4BBA-9F9E-7B403A6C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AD7-8E3E-493F-9F48-AB5701E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A8D-EB80-452C-9FC0-5844281C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1C8-904D-4165-A919-46EFFD6E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D054-1BDA-470B-82C0-5E8D088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22D-6140-43AC-96E1-9B272C0F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4B2-F6E7-4013-83AF-9F40E066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73D-A3A3-41C2-9EC7-A63EBF9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250-6D17-4ED2-BEBB-81270075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B63-F29E-46D7-BBB0-6AE12456D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7a | Americans generally pay more for drugs on patent than other nations in the G7, but less for over-the-counter 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2952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64920" y="6019920"/>
            <a:ext cx="74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Danzon PM and MF Furukawa. International Prices and Availability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rmaceuticals in 2005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221–3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7a | Americans generally pay more for drugs on patent than other nations in the G7, but less for over-the-counter products</dc:description>
  <dc:language>en-US</dc:language>
  <cp:lastModifiedBy>Jia Yao</cp:lastModifiedBy>
  <dcterms:modified xsi:type="dcterms:W3CDTF">2013-09-06T15:41:0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7a | Americans generally pay more for drugs on patent than other nations in the G7, but less for over-the-counter products</vt:lpwstr>
  </property>
</Properties>
</file>