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342-80BC-4C42-B4CF-F60BB4AF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C9E-AE05-4D1D-B023-6BB12936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D65-C2CF-4B26-B2C0-B77BE4A4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F8B7-F5EE-43A4-A391-78431018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DD7-808F-49A1-8095-9D9581CC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745-8A77-40FC-ABED-565CD0DF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BE0-A942-4394-982D-822DC942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4B0-1648-48EC-B0E1-C8E4A7B8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41B-4F97-4DC0-A058-0FE4B862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128-90A7-4515-A14D-460D06CA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7D8-224E-491D-982B-C0A05C9F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8B9-5F35-40A7-80DA-71DD51DD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62A3-78AA-4415-974B-51AB07D11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0600"/>
            <a:ext cx="91011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51Z</dcterms:modified>
  <cp:revision>28</cp:revision>
  <dc:subject/>
  <dc:title>PowerPoint Presentation</dc:title>
</cp:coreProperties>
</file>