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F56E-EB4B-4A17-B41C-23533B51B0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9A | LIFE EXPECTANCY AT BIRTH WITH AND WITHOUT DEATHS RELATED TO VIOLE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351E-BD68-4EBD-9A3F-BB4CFBB3CE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B54C-0A43-433A-B92C-E1A480206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7924-9C5E-4078-A26C-656D3008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A48B-02D6-452C-9598-DAF359DED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9E6B-5A2E-48AD-9A6D-2EDD5479D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09A1-5704-49C9-A2A6-A88D441D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B819-72DA-47DE-ADC9-F93EB1E3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9C0E-96C9-4A0D-A6FD-241EDAB7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0367-12B8-4BD1-AF7B-463516BE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3C34-D1A8-43A7-AC02-4FAB8F52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183B-3608-4A5D-B20B-73829A4F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E2FA-D433-47FB-B9C2-95154908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A564-A16C-4CBB-B1B7-47E0969A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97B9-4906-4C1C-ABDC-7DEDF38F62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9a | Once higher-than-average U.S. rates of violent deaths have been taken into account, the U.S. leads the world in life expecta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4951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85880" y="12193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an Life Expectancy at Birth, 1980-199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61880" y="5410080"/>
            <a:ext cx="8236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hsfeldt RL and JE Schneider. How Does the U.S. Health-Care System Comp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Systems in Other Countries? In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he Business of Health: How Does the U.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-Care System Compare to Systems in Other Countries?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erican Enterpr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itute. Washington DC. 2006. http://www.aei.org/docLib/20061017_Ohsfeld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hneiderPresentation.pdf (accessed November 3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447840" y="441972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Countries are ordered by standardized life expectancy derived by assigning eac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ntry the mean OECD fatal injury rate for the period shown; figures in parentheses denote ranking on unstandardized life expectancy at birt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9a | Once higher-than-average U.S. rates of violent deaths have been taken into account, the U.S. leads the world in life expectancy</dc:description>
  <dc:language>en-US</dc:language>
  <cp:lastModifiedBy>Jia Yao</cp:lastModifiedBy>
  <dcterms:modified xsi:type="dcterms:W3CDTF">2013-09-06T15:41:10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9a | Once higher-than-average U.S. rates of violent deaths have been taken into account, the U.S. leads the world in life expectancy</vt:lpwstr>
  </property>
</Properties>
</file>