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293-936B-43AC-9582-AB2904CC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F1D-C1B5-475D-BDED-D8D5D30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425-B8B1-4394-AFA2-A51AD065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B73-62D4-4634-812E-983A59FD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AF5D-CAA3-4A7E-B23D-7F1BDBFC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7D1-F52F-4E57-B0AE-11FA03F7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879-2DDF-4426-837B-5ADA34B9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08E-9B37-4941-A0A4-209F14B5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3DB-F565-4936-B479-F256CFA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FDE-1302-4524-9BA7-D8BE1FD6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874-0CB4-4BCE-98CC-6F31AEA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7E7-9F1C-416B-897A-D7000B55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D8B-0044-41EF-8C10-103CEE92F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70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9Z</dcterms:modified>
  <cp:revision>30</cp:revision>
  <dc:subject/>
  <dc:title>PowerPoint Presentation</dc:title>
</cp:coreProperties>
</file>