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59C-FD15-4F77-B763-913AE284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42F-101F-48CA-B45F-E2EE008D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F04-A539-47BD-84A3-F8124697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35B-34F1-44C2-90E7-C3CFC483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265-1BA5-4B9A-BF84-E705A19C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B98-5B47-4F03-8EB7-02765104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9B8-E2DE-4679-ADEC-210B4490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1D0-673E-4A37-B0E2-E5F01C3F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A3A-9DA2-42F4-828E-2538CB8C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C8F-8F1C-4093-945E-174352BF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0CA-3CF5-425A-9AF5-608D474D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325-89FC-4BCA-B879-7A281BC2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8B5E-83B1-4DDF-A3ED-D555577E8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0Z</dcterms:modified>
  <cp:revision>33</cp:revision>
  <dc:subject/>
  <dc:title>PowerPoint Presentation</dc:title>
</cp:coreProperties>
</file>