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C5D5-29F4-4341-B657-3B9ADF201F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5.7a | Medicaid expenditures as a percentage of total state government expenditures, FY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23A4-9DBB-4559-9786-4E4CB939A0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0159-A906-441C-8011-80F895CB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28A6-4A1D-4C82-93B1-09CB5437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5221-CD67-4D09-A8A1-7DF26DF3C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6339-79EE-4CFC-943B-0699CEB8A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D0AA-82FB-4857-AFEB-DFCE8BE6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3D8B-3E80-4A5F-8C3B-94C238F4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189A-419C-465E-8D2F-E75529C9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DAA4-168C-48E3-A36E-64C09D33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AE45-C8A2-4E19-B0EA-924777E3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728D-87B0-4036-9F60-F8E5CFBB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E1FB-DC6C-49CF-A66B-55EF6ACD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2FAF-6EC3-4104-9B38-0376FB05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A8A6-3E49-452F-ACBC-F5703F2559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aas4064.asadmin.duke.edu:60620/results/C/Users/lc135/conovermapchart5_9.pn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641920"/>
          </a:xfrm>
          <a:prstGeom prst="rect">
            <a:avLst/>
          </a:prstGeom>
          <a:ln w="0">
            <a:noFill/>
          </a:ln>
        </p:spPr>
      </p:pic>
      <p:sp>
        <p:nvSpPr>
          <p:cNvPr id="49" name="Title 2"/>
          <p:cNvSpPr/>
          <p:nvPr/>
        </p:nvSpPr>
        <p:spPr>
          <a:xfrm>
            <a:off x="1143000" y="685800"/>
            <a:ext cx="693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5.9--Medicaid expenditures as a percent of total state government expenditures, FY200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2"/>
          <p:cNvSpPr/>
          <p:nvPr/>
        </p:nvSpPr>
        <p:spPr>
          <a:xfrm>
            <a:off x="1104840" y="609480"/>
            <a:ext cx="69343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.7a | Medicaid expenditures as a percentage of total state government expenditures, FY200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3400" y="6213600"/>
            <a:ext cx="821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National Association of State Budget Officer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tate Expenditure Report Fiscal Year 2008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asbo.org/Publications/StateExpenditureReport/tabid/79/Default.aspx (accessed June 15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9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/>
  <dc:language>en-US</dc:language>
  <cp:lastModifiedBy>Jia Yao</cp:lastModifiedBy>
  <dcterms:modified xsi:type="dcterms:W3CDTF">2013-09-06T13:59:44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/>
  </property>
</Properties>
</file>