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728-8C98-45DA-A580-AEEF483E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92D-512E-4CBC-BB6D-6D53D9D5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875B-F040-4610-9072-B8810589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387-61BC-46F6-B48A-07A25461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239-F02C-4EC3-B093-05A8C577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EF0-CC6C-4C94-B063-585662D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455-63B1-481D-A5BE-8C220E2D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5AF-9A5C-4B25-86E8-B2EE6D29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CA1-1499-4A1F-8D4A-90A72A4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1FD-6B3E-49F0-8AE5-2679E76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E7C-075A-422D-A14C-355E1B28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352-9758-4F6A-A7FA-9EB4ED6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FA62-3788-41CB-8B98-5055C4993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1120"/>
            <a:ext cx="9128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8Z</dcterms:modified>
  <cp:revision>44</cp:revision>
  <dc:subject/>
  <dc:title>PowerPoint Presentation</dc:title>
</cp:coreProperties>
</file>