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6C6A-B2B9-4956-90F2-419DC9772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2A | HEALTH INSURANCE COVERAGE, BY POVERTY LEVEL, POPULATION UNDER AGE 65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77D5-9187-4502-B3C0-6F94A98AE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3DC-EBEF-4337-8543-C69603D6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A9B-70A3-4A98-B4A4-4BE38E48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8016-FA78-4C47-8859-70A0B9A5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014-ED7D-4AFD-9799-F51FF88A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56F-41E1-4D00-91DD-C46DA4BB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955-4275-47F4-917B-0270F14C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023-DC12-4B6E-8A3F-12FE7A92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FA7-398E-4491-915F-C69F1957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448-AB82-4B67-B806-C71F1D0C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224-3798-40B4-A887-63943387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8BC-8813-4F04-9198-3F766363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731-FFD6-4BDA-95E8-36E7DC64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75F1-BF1A-45AC-933E-B2A8E031E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2a | About half the non-elderly poor have government insurance, while one-third are uninsured; the uninsured rate declines with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895480" y="1498680"/>
            <a:ext cx="52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under age 65 with coverage shown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2a | About half the non-elderly poor have government insurance, while one-third are uninsured; the uninsured rate declines with income</dc:description>
  <dc:language>en-US</dc:language>
  <cp:lastModifiedBy>Jia Yao</cp:lastModifiedBy>
  <dcterms:modified xsi:type="dcterms:W3CDTF">2013-09-06T15:17:34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2a | About half the non-elderly poor have government insurance, while one-third are uninsured; the uninsured rate declines with income</vt:lpwstr>
  </property>
</Properties>
</file>