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1D3C-8091-4101-95DD-AA642310B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853B-C34B-493E-BCE4-35C37EF76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1.1a | TOTAL REAL NATIONAL HEALTH EXPENDITURES OF THE UNITED STATES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387-0F10-408F-B727-DA363E2C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122-9999-4711-AABB-8167CF41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1A4-1475-4D19-A5D6-4AC03F10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9C0-3EAF-4F5B-A235-24C8827C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581A-618B-4305-87DC-7D401DEF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BE04-D194-48CD-89A0-F348B700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ECE2-F932-472A-AC0E-F40C3424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B249-CD2E-4C2A-A6C0-E2F3EC33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CA8B-CC83-46DB-B35D-8971A2B4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A404-7DBA-47D9-A10A-49D17FC6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EF60-78A5-4B32-94AA-FAAFA109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F20-30EC-4616-B807-F5800480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AF2D-2F26-446C-8C4C-17ED7A8E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E103-57DD-4A42-8F13-00626E5D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F9B5-31C3-48D0-861D-2BDB75EE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0B15-6FCB-47C6-8729-87334C9A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B0C8-02B7-4589-BEC4-967EBF61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747-4741-4438-A9DB-0B455A4F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C2F-ACF4-4EAF-B56E-7927977F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429-472E-46B5-9F2A-F96A10D1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E69-1CE5-4271-BDF0-F823BBD3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DCF-C5A6-40B8-9694-3A03E19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EBA-3D7E-469B-BBD6-04DAC7E1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034-5F66-4B0F-844C-11742E8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F1FF-6EB0-4EC0-99BC-2AE7B694D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0B5E-0204-43EC-817D-90DD9754FF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 Narrow"/>
              </a:rPr>
              <a:t>1.1a | In constant dollars, national health spending increased more than 60-fold over the past 8 decades, real GDP grew far less in thi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5:05:56Z</dcterms:created>
  <dc:creator>Jia Yao</dc:creator>
  <dc:description/>
  <dc:language>en-US</dc:language>
  <cp:lastModifiedBy>Jia Yao</cp:lastModifiedBy>
  <dcterms:modified xsi:type="dcterms:W3CDTF">2013-09-03T18:50:56Z</dcterms:modified>
  <cp:revision>1</cp:revision>
  <dc:subject/>
  <dc:title>1.1a | In constant dollars, national health spending increased more than 60-fold over the past 8 decades, real GDP grew far less in this period</dc:title>
</cp:coreProperties>
</file>