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D33-0B56-4A6A-80BB-E41C2C84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3168-D544-4FFE-9E52-E7E94BD4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7CB-0C01-47B9-A2B3-B321222A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CFB-D92F-4416-ACA5-B14127E3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411-31B3-4AE2-AA30-9174C2CB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E6A-0459-4689-9C11-1822BDCC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5B09-91C1-40B9-8497-6DDE8FE9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049E-B5E9-4484-9172-0F3051B3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2C3-3B00-4AD4-8728-994F29CB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87B-1082-4FA0-9363-FC881108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E55-FC9B-4806-9C7D-8774F08C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205-2867-4F45-8BBA-CAF2B526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3117-30C6-4054-8AC4-55EA88F88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5440" y="152280"/>
            <a:ext cx="90331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1Z</dcterms:modified>
  <cp:revision>31</cp:revision>
  <dc:subject/>
  <dc:title>PowerPoint Presentation</dc:title>
</cp:coreProperties>
</file>