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28F-CEBA-4390-B29E-697AAF66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A27-B75F-46BC-9D42-36743A01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4DDB-EDC2-4E83-BEE1-8051884E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243-9749-435D-B8D1-EC575202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2D4-943F-4738-B278-F32C5B56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113-F710-442F-87C9-4BDE0E1C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1CB-E603-4F34-ABE0-8A7BC13F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DB2B-0EE7-4CA2-AE79-D8230C3F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F06-FD75-4E00-BCD2-03B45C19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66F-F186-4BAA-8AC1-CA5F91DD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4936-70FF-4F00-AADB-CFAFEE6A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C104-6F09-466C-BB7E-CB50C2A3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3D21-25F9-4C51-B596-180F673C3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5Z</dcterms:modified>
  <cp:revision>39</cp:revision>
  <dc:subject/>
  <dc:title>PowerPoint Presentation</dc:title>
</cp:coreProperties>
</file>