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58A-AD61-4F48-83EE-CDE3E214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0C9-8279-497A-894E-5CCB45A1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436-6A05-40F0-93E6-A836F199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D16D-E14C-4F84-8A75-B347E022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577-0122-494B-B81D-ADA94CB1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B32-D03A-427B-A5BB-AE2CE28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08B-B81E-4278-9DAA-143CB8D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8E9-58A9-4207-B3A7-8B69E449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57A-4321-47FF-AB52-05D5EA0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830-B691-4319-BDE1-03D9A34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56D-DD82-4751-BC4F-F3AC1900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7BB-7232-46C6-85BF-5B0CAB67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55B7-03A4-487E-8B54-DA5EA7CE7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6480"/>
            <a:ext cx="899928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8Z</dcterms:modified>
  <cp:revision>31</cp:revision>
  <dc:subject/>
  <dc:title>PowerPoint Presentation</dc:title>
</cp:coreProperties>
</file>