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1FD-3A3C-4C19-B202-2E04825A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306-A81C-460A-B453-4DA15482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938-2AE2-4C04-BC95-52C61987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47C-84F9-4A17-B07B-3F79C5BC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79D-4581-4E0C-A364-FDCC24C1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2C1-442E-453B-813A-B5DF7B03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64C4-C2D1-4586-9402-8D4503E8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65A-F98F-438C-90D0-27395C2C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458-32D2-49CE-9DE9-8759CE53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ED1-9227-49BC-8928-2992043E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AE3-BF2C-4B07-ADFE-3B57855A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4C8-F445-409F-AEED-98E8AF5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6B63-307C-44AD-AA09-1ACB4B923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9320" y="117360"/>
            <a:ext cx="9094680" cy="65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2Z</dcterms:modified>
  <cp:revision>37</cp:revision>
  <dc:subject/>
  <dc:title>PowerPoint Presentation</dc:title>
</cp:coreProperties>
</file>