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860-CD01-484D-B4BC-3A4F2656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600-A315-4B78-AA33-2799712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925-AAF9-4874-A96E-C84BFF7D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85A-10A4-4BB6-A348-B22DFDE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26A-9265-4C53-954B-B619018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B21-B46A-4D5D-A5D0-ED57F0E4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C38-09DC-44B4-9D8C-F4A6B339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14A-F088-4B6B-B1B6-5E677C7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91B-3E95-4015-90EE-C1299E71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8C8-4651-4E82-9CB8-A749608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79E-D586-4237-88F4-2ECA590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1F3-8214-4FD3-BFBA-49795E6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D5D-6547-4461-AF06-726D0E607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4Z</dcterms:modified>
  <cp:revision>6</cp:revision>
  <dc:subject/>
  <dc:title>PowerPoint Presentation</dc:title>
</cp:coreProperties>
</file>