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621-87DB-4B12-8119-F379A706B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70D-B7FF-4B29-B75E-6133104DB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b | REAL NATIONAL HEALTH EXPENDITURES PER CAPITA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BD1-3BBA-443F-B186-C910A03A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30F-6843-409C-94A4-B54569AF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CD6-7056-4046-8A06-B2309A29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38B-96D9-4203-BA0B-D9528864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AB41-7007-46A0-BE30-F1426C27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61B3-9054-4AAD-A6C3-D49DC42B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E06D-1226-488D-813A-DD460C8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6ED5-4B92-4018-817C-EDE7FD8F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A467-029B-4AF6-B6FB-D8B1F1D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605-0C25-49D2-8E3D-0E3298A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5CF2-4A55-4483-984C-24CF4CC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48B-5B03-4B59-9401-E083B9F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094F-4F78-4489-8730-AF28E96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BA89-60CA-49C1-B8D0-67E5028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4993-06AF-4A56-9A51-D6AC72A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463-CFAD-4D48-9170-11712D05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B0FB-C20E-490A-A2F8-7599D88E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86A-1883-4F7D-8DCA-BA17532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8FE-8EE7-456A-9C80-7A7F8CAE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126-1F8D-4F41-AD97-12A9C03B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358-97E1-423B-8D23-0FB2330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190-7AD3-4C34-AC47-835E81B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361-4812-40FC-AF7D-033FA9E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87A-3473-4DD6-8053-F772B21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080-6855-47C1-8189-F4F60A9172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41AE-9063-4993-865B-FD974E525C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b | Even in per capita terms, real health spending grew about 25-fold in just 80 years, while GDP per capita quintu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25:08Z</dcterms:created>
  <dc:creator>Jia Yao</dc:creator>
  <dc:description/>
  <dc:language>en-US</dc:language>
  <cp:lastModifiedBy>Jia Yao</cp:lastModifiedBy>
  <dcterms:modified xsi:type="dcterms:W3CDTF">2013-09-03T18:50:13Z</dcterms:modified>
  <cp:revision>4</cp:revision>
  <dc:subject/>
  <dc:title>1.5b Since 1960, growth in inflation-adjusted health costs per U.S. resident fell below the rise in non-health costs per capita only 7 times</dc:title>
</cp:coreProperties>
</file>