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8555-F2A2-45D3-BF2A-6F9764EF5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6497-4FBC-408A-B67D-E2C383E65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4AF8-FF25-4358-97E5-D9B494C12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A3F9-53FD-4A78-806B-536CA9CD4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CCCE-023B-43AB-887C-6FABB5D9C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EA73-CFCA-4A6D-B3FE-CA6E4D93E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DB73-6E45-40F0-AD4A-AC87A5930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C169-14C8-42C6-8A06-57B75A08A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4586-BB57-4CEC-9889-3D8A55908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CC40-8147-4810-BC7B-5B0F71386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AB8B-B371-49F8-B649-AE64D0ABC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EE4A-5525-40AF-A28E-86E62B2B8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633D6-3400-42A3-BB4A-E099DCF846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109440" y="0"/>
            <a:ext cx="8925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6:26Z</dcterms:modified>
  <cp:revision>31</cp:revision>
  <dc:subject/>
  <dc:title>PowerPoint Presentation</dc:title>
</cp:coreProperties>
</file>