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20B-DFC8-43A9-86D0-CFE640D9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398-BB05-428E-82A0-88BDC918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B5D-AA09-4315-90A2-FBE7081A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0E1-A011-4B7E-A347-77731CCB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A13-2F93-4773-8D8F-8270C42E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7BB-410E-4474-BFE9-5E383D63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341-E8A4-452B-9615-E833A824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848-B7F1-4803-93E4-653F2786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D6F-235D-47E6-A8B6-9777E91D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E39-CDF2-4163-8D3F-66B820EF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102-E0B4-4962-8CF5-B161BDEA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401-9EA7-46DF-93FC-5C91BCBD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8101-5163-4926-9A87-9CA9CA41F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79440"/>
            <a:ext cx="91407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4Z</dcterms:modified>
  <cp:revision>31</cp:revision>
  <dc:subject/>
  <dc:title>PowerPoint Presentation</dc:title>
</cp:coreProperties>
</file>