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A676-79E2-459D-97A3-270097FFF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5 | PERCENT WITHOUT COVERAGE, BY SINGLE YEAR OF AGE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F2B3-3C41-4C40-A847-200D456BA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E84-C202-4254-AA50-0E52F790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03C-6351-4AA5-AA81-8901BA85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3B88-CD4D-4107-9CCC-E050974A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E95-72A9-4416-B745-0B461C25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087-9A9A-4FE2-B141-C4A36210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109-64C1-4AC1-935C-829E767A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E74-48C2-4BDF-A4E1-E9FBB294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854-3A71-4994-9AF5-1009DAA8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08D-5A10-472C-9005-74352C56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DB9-E32F-412C-964A-7EAB7228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3EA-EC63-45AD-AEB7-967B61F0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988-A61C-4978-A814-571A08FE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4991-A60E-4743-A013-B63F3158D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5 | The probability of being uninsured is far higher among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450720" y="914400"/>
            <a:ext cx="29815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5 | The probability of being uninsured is far higher among young adults</dc:description>
  <dc:language>en-US</dc:language>
  <cp:lastModifiedBy>Jia Yao</cp:lastModifiedBy>
  <dcterms:modified xsi:type="dcterms:W3CDTF">2013-09-06T14:06:2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5 | The probability of being uninsured is far higher among young adults</vt:lpwstr>
  </property>
</Properties>
</file>