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C34F-D1EA-4F09-90CD-9E149356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819D-00CE-43E5-9329-0FBCFF47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FE3A-E17C-4DE9-A681-20B69D05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F423-4FB3-4ADC-8023-40E3F8E4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B21F-4400-4E3A-A24F-190E1C50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7016-CA2E-46B1-A496-0788B2F6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A938-506B-4868-9471-0828122E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9E1F-EEC7-4728-88BB-82F808ED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35E8-258A-4D40-B702-99633286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438D-E55E-40DA-BD4F-2D41E8A3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43D0-FBD3-4798-B2FD-43383106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A786-1AA0-4769-A34D-3FCCD09B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1D5D-BBC0-4D51-BED0-F33EEE8B3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3080" y="152280"/>
            <a:ext cx="89978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6Z</dcterms:modified>
  <cp:revision>37</cp:revision>
  <dc:subject/>
  <dc:title>PowerPoint Presentation</dc:title>
</cp:coreProperties>
</file>