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C72A-CFA9-46BB-8E5D-F0E9B842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B38-A66B-4DFF-9D9A-D95DE7B4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C2B-8081-4F96-B252-7F520A44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927-A77A-43E8-B8E2-0189100A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670-EE0D-41BC-902B-CC5A348D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922-44FF-4C5D-A7AA-810F4A7C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531-1810-412A-B4EB-9DE1C53F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26C-47F3-421B-95E3-479A6714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420-BC1D-4EA3-BF7D-60046F84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5A4-DB97-4680-8AAB-2D4308AA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3BD-B05F-43D6-963F-DCC2239F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668A-997D-4330-831E-60206033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092B-A671-46CE-8CD9-F5232DC65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6Z</dcterms:modified>
  <cp:revision>20</cp:revision>
  <dc:subject/>
  <dc:title>PowerPoint Presentation</dc:title>
</cp:coreProperties>
</file>