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A0C4-D731-4295-8C61-659F5EE51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5561-B84F-4834-BA5D-665E06A1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5259-BEDA-4B99-B795-81575A3D5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0880-C55C-44A5-97C0-03FA8D890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1C4F-8170-41FB-9EFA-3CC5A0A4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035D-CA5D-41F8-8427-B0667766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BB03-462A-4F40-8494-7F1469F5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D105-C64F-4935-9B56-672C7EBA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7A4E-0CC9-46FF-AB8B-A5D8D385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B279-4C48-4F48-AAB4-DFF2D097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AEEB-5AC3-438D-9DAE-7ECAE1FB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7F30-C687-45F5-BFA2-1984F079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C6D5-DD5A-4F4A-B6B4-1A708CDD8F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11240"/>
            <a:ext cx="9144000" cy="66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2Z</dcterms:modified>
  <cp:revision>39</cp:revision>
  <dc:subject/>
  <dc:title>PowerPoint Presentation</dc:title>
</cp:coreProperties>
</file>