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9CF3-B97C-4DE6-A6E5-B61BB9BDB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4a | Health Spending by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3729-E6E3-42B5-88BF-F229B375B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857A-C874-47A0-9689-2CC4A0EC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49D-09C4-43C2-B7F0-5067021B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DC1-D8E8-4DA9-8E60-D4F57BE4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5D0-92E1-4EC1-A035-37E498CF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306-4444-4858-9D32-3F3DC8FE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7DD-30E8-4840-8C44-584276E4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03A0-2629-422A-9B20-CC38209C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1CF-C95A-470C-B41F-2EE18A67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179-B9DA-41E1-A237-33B9EF4E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215-DD8F-42F7-98F3-AB9842DC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3FC-3ECF-470A-81DD-5226AE63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5DF-2058-4DEC-AB9E-9C610319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CBAA-40BA-4A6C-8063-E88AC5C81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4a | Annual health spending rises sharply by age; health costs for the “oldest old” are about nine times as high as for school-age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4479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health spending in 2007 (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4a | Annual health spending rises sharply by age; health costs for the “oldest old” are about nine times as high as for school-age children</dc:description>
  <dc:language>en-US</dc:language>
  <cp:lastModifiedBy>Jia Yao</cp:lastModifiedBy>
  <dcterms:modified xsi:type="dcterms:W3CDTF">2013-09-06T15:13:09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4a | Annual health spending rises sharply by age; health costs for the “oldest old” are about nine times as high as for school-age children</vt:lpwstr>
  </property>
</Properties>
</file>