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723E-C0DD-497E-BFEF-7635FE775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0 | INFANT MORTALITY INDEX (US=100) BY NUMBER OF WEEKS OF GEST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4DDB-EDE7-4417-99E8-7F4FE4534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BBCA-2D9C-4199-AF9C-C6B4416C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E452-3A9C-44C2-B680-D6E4741A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EF5-2838-41A5-AC91-E249ABB7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4E1C-DC0A-46A2-A84B-D73AB6F6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73C7-9F08-42E8-9D29-73140FCA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F3E5-423B-464D-B7F6-4AF4ED8F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5904-88FE-47CF-BBC3-FA85FB6C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952-A6FF-4DDA-B658-286206C4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5C49-9753-4FCF-BCAD-751893FC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24F7-7A23-4200-8B54-17E2AD16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A7AF-61CE-4F4C-9DCB-78477884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097A-F326-4CCD-8E86-E675C254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E610-861C-4368-A678-FEA08CF4B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0 | Except for Sweden and Norway, the U.S. generally leads to world in saving the lives of premature inf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244520"/>
            <a:ext cx="8483760" cy="4368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00040" y="5375160"/>
            <a:ext cx="853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e: countries listed (left to right) from best to worst for infants with the shortest gestation perio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2209680" y="14479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ant mortality index (U.S. = 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00040" y="5764320"/>
            <a:ext cx="796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MacDorman MS and TJ Mathews. Behind International Rankings of Infa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tality: How the U.S. Compares with Europe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ional Center for Health Statis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ata Brie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23. Hyattsville MD. National Center for Health Statistics 200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0 | Except for Sweden and Norway, the U.S. generally leads to world in saving the lives of premature infants</dc:description>
  <dc:language>en-US</dc:language>
  <cp:lastModifiedBy>Jia Yao</cp:lastModifiedBy>
  <dcterms:modified xsi:type="dcterms:W3CDTF">2013-09-06T15:41:1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0 | Except for Sweden and Norway, the U.S. generally leads to world in saving the lives of premature infants</vt:lpwstr>
  </property>
</Properties>
</file>