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0EB2-5FBF-4215-85B4-FE340313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0511-6F72-4571-862E-44754404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990A-3F6E-4D6F-B72D-7269A200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966C-3C10-4EC0-A0AF-413BA4AF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51D7-0F4F-4266-92F9-8C66327F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449A-7E05-4539-8B6E-27665E30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3518-ECB8-4677-936C-EF78E655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B299-F842-4A1F-9129-A579E668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BAB0-2EEF-4FF4-8913-96B5CC75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1815-CFCC-4F4F-BDBD-6CE39AA8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7D91-7EBC-4BEA-AA50-F88D05F5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839-3F22-4196-B56C-4E6B8E28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98DA-F8DF-41D1-88A3-E5D64B1A7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00160" y="0"/>
            <a:ext cx="87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49Z</dcterms:modified>
  <cp:revision>31</cp:revision>
  <dc:subject/>
  <dc:title>PowerPoint Presentation</dc:title>
</cp:coreProperties>
</file>