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CFB2-4987-42B5-8081-DA44A3DA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4E7-5F11-4E77-A220-3985838A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5A2-FC44-4519-8AF2-ED029280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633-D3C7-4DC7-911C-01DE822B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8D7-74F0-4DC4-9FC5-6ADC5CDF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7F6-0A97-45C4-8C30-6412592A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4311-39E7-407E-B914-1B9B607C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9B0-1947-49BE-8217-DACF5BDB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2D0-B555-46AF-83F8-8AB6BC59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6C0-27EA-4DE3-85D9-467537C4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53C-E099-4884-9229-7CE38CE4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ADF-F2C1-4F38-9672-D4D9184C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29EB-D307-451B-92E0-8F308D676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4520" y="0"/>
            <a:ext cx="899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1Z</dcterms:modified>
  <cp:revision>8</cp:revision>
  <dc:subject/>
  <dc:title>PowerPoint Presentation</dc:title>
</cp:coreProperties>
</file>