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548-679D-4761-9E7A-CF463C5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A4F-9442-434C-89D1-4F50DD88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F98-ACD6-41B6-93D8-DE0A3E3D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CCD-CF61-4834-8B46-ADC5BDD4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5E7-C683-434B-B4AD-375F290A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066-2011-4A22-96C0-D7629C3D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2EB-3E81-401F-970A-1FFE5C3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46B-E28D-4510-8066-8F1B22F9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D9F-68AB-45DE-AFE0-5B635760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16E-D596-460C-BBDF-464EEAF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26E-75D5-42D8-9818-C1F024E8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BE8-9FD5-41E9-A6E8-58A9520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66DC-7A07-4989-B3F6-8BAF61BEC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3000" y="0"/>
            <a:ext cx="86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5Z</dcterms:modified>
  <cp:revision>22</cp:revision>
  <dc:subject/>
  <dc:title>PowerPoint Presentation</dc:title>
</cp:coreProperties>
</file>