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37D7-3FDE-4E83-83D2-73363AD8F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3D74-51FB-4EE1-890B-ABBD21183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273B-AA7D-462D-B3C7-7281539D8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0900-46EA-4442-9936-D72871FC6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ACC8-1C35-40A1-9A0B-70839AA65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9150-0E9C-4796-B3BD-8E6913E4F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4A7C-E973-4973-8CB5-1BE9A95EC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92DA-C1A1-49B3-9897-24C899F6B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7247-B2EF-439D-A43E-DFD172FAD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4920-5A98-48FD-893B-604635B97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F231-FB1A-444E-A171-0DE6880F0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FE65-CA3D-4618-842C-05161AC1B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1D856-6C19-40F5-9F63-D7A3A0E69F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324000"/>
            <a:ext cx="9144000" cy="62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15Z</dcterms:modified>
  <cp:revision>8</cp:revision>
  <dc:subject/>
  <dc:title>PowerPoint Presentation</dc:title>
</cp:coreProperties>
</file>