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43A-34CA-4FEC-87C4-8665A440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C33-1523-451E-879A-BFA6BBBE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5F3-99FF-4247-A3BE-9482E538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CEAD-EECC-4771-817A-BDC324E2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E55-517C-4BFF-B83A-40ECDE9B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ABB-3996-4CDD-94EE-4E4B9E12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59C7-D239-4A23-AFFE-D146C26E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657-8CB6-4A3B-8E5C-85A04395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D63-B5F7-4041-A697-CC5E99E7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F2C-0AEB-4A2F-9CDE-F96747B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931D-DB44-4EE2-9ACE-6B7D8CDC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379-4238-4247-BA7D-7655D8E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A216-E6C6-4B9C-BC1E-738CB5928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371600"/>
            <a:ext cx="903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7Z</dcterms:modified>
  <cp:revision>41</cp:revision>
  <dc:subject/>
  <dc:title>PowerPoint Presentation</dc:title>
</cp:coreProperties>
</file>