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7B80-4062-4E43-A1A7-5E057BCA2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74C0-0096-4DAA-AA41-2E1F77E2E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9b | Government Health Spending (all levels) as Percentage of GDP, 2002 and 20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Source: Kotlikoff and Hagist, Who’s Going Broke? Comparing Healthcare Costs in Ten OECD Cou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Tahoma"/>
              </a:rPr>
              <a:t>NBER Working Paper 1183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51F-1B6E-4286-B5C1-6B301C3C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DA6-A14A-47D5-90A3-42EFC1D9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681-4A15-4C12-93A1-E9615F91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95F-90CD-4519-AF81-502AF2FF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F2A2-CCDD-4440-9D91-B1C3ECA0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EACF-DDA3-465A-BD82-007CF53D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3A47-5088-4FF9-B608-2EF96F6B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CAEB-6E78-4EF7-A544-36B5DE64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16F8-1B43-46D8-AEFA-FEEE3A95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457E-5D5C-4866-B0FE-9B58F272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B6BC-5B8B-4BA3-9F4C-A8EB8C2C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361-EB07-43E4-A565-A2DB6730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8367-7938-4C92-92C0-AC1D14D0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B00C-0251-4C84-B313-10BA454F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EDE9-BD90-49B3-A5B9-241092EC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0931-D1BF-408A-A0DF-099B8802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64E0-5146-4F55-A0A7-2175C358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D1F-555B-4707-AC3B-87E979A4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529-2521-45E6-9B6B-F3B292CC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4B7-8234-4D66-BD27-40DB84F8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FF2-5058-4DA9-A617-736842E2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88E-AE74-4EEA-BF88-192EA350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245-55EC-40E4-A5F3-20300BEB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116-B705-4A4D-ACA0-59C0A390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0CEE-26CD-47DD-B403-F4AA18BD21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16ED-C04A-4AE4-8DA5-D10F565597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380880" y="1397160"/>
            <a:ext cx="8377200" cy="492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447840" y="5715000"/>
            <a:ext cx="869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igures calculated assuming age-adjusted health benefit rates grow at historic rates for 60 yea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b | But rapid growth in government-paid health care threatens to eradicate this margin of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286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76720" y="6095880"/>
            <a:ext cx="79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gist C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L Kotlikoff. Who’s Going Broke? Comparing Healthcare Costs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 OECD Countrie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BER Working Pap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11833. December 200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2209680" y="5334120"/>
            <a:ext cx="5486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overnment health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b | But rapid growth in government-paid health care threatens to eradicate this margin of advantage</dc:description>
  <dc:language>en-US</dc:language>
  <cp:lastModifiedBy>Jia Yao</cp:lastModifiedBy>
  <dcterms:modified xsi:type="dcterms:W3CDTF">2013-09-23T19:14:4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b | But rapid growth in government-paid health care threatens to eradicate this margin of advantage</vt:lpwstr>
  </property>
</Properties>
</file>