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1A50-4538-4785-A807-F9AD9B0A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DF57-CDA4-49EE-BB8D-6CEFF5B0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6750-3A83-4482-B23A-9215CEC8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6D03-F218-493F-A5F6-56220EAE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74B4-2766-4888-B3C2-01229E46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4C60-FFE8-4BEA-9024-E598A2B7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872D-D0D6-4C3C-90D6-49BB5F6A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91E8-0CC7-4C8E-95FE-B8C8E689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B6BD-B527-4E50-9736-7C3C8C23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79CF-1817-4AA5-B085-43B066D3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30E-597F-41D9-963D-ECBA183F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6BF3-1A29-40D7-8BB9-59ED20AE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26F6-F660-4FF0-8FAA-E3C86D5C5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7000"/>
            <a:ext cx="887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3Z</dcterms:modified>
  <cp:revision>31</cp:revision>
  <dc:subject/>
  <dc:title>PowerPoint Presentation</dc:title>
</cp:coreProperties>
</file>