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26AD-E048-4514-9AFE-0C71A6DF5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3897-F232-4727-9B71-0E777BA11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5C87-212F-47D4-A2E7-29A5D7F09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9C0B-6717-47DA-9F2B-A03F3DEE0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0858-98A8-4EBE-935C-22B090746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30B0-0234-453A-892C-3592CBC6D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EEB4-EB69-4D93-BE6C-A96B2A54B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83DD-9C36-4890-AE41-C775B1B8A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9EB4-D482-4728-9720-F7C0AD26D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0D39-C168-4D91-BB42-278792412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61FB-E18A-4E8A-9B02-02CAB3A76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9851-8070-4A54-A316-813E2CFC4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EB070-205E-4F1D-976F-40E9D5C802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-3240" y="1219320"/>
            <a:ext cx="9147240" cy="44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2:54Z</dcterms:modified>
  <cp:revision>31</cp:revision>
  <dc:subject/>
  <dc:title>PowerPoint Presentation</dc:title>
</cp:coreProperties>
</file>