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6D3F-E2CD-493C-BC42-CE8129BEC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1B28-FAE6-45C1-9C25-0F943DBB0D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c | ADMINISTRATIVE EXPENSES OF PRIVATE HEALTH PLANS AND TRADITIONAL MEDICA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DBC9-6E46-497E-9376-42A3E2F7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80C-92BF-449B-AB0D-3A963BC7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90DA-6443-47D3-B1A9-D2CCE435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A22-80A3-47DD-9886-A8861B33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8BFF-AB8C-4ABB-91F1-E699889C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69ED-7A22-4406-AE48-6A3951B2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3C7C-2CB6-4681-B6CA-D637FAC5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8AE8-C735-4A73-ABA9-BB284E11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F63B-01A8-43FF-8519-22E96852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25C0-2494-4195-95F6-B684E315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E8BD-2006-4236-AA8C-23168C11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543-4558-4E18-AC51-5983BB05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0D32-E85D-469F-840E-B2143EFF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571E-653F-48B3-A2C5-7A893441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3244-1A99-4A77-B3C8-04ACECE9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80B1-EAC0-4296-A090-2E7545C5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B3CC-67C0-4F90-8EDB-BE8611D4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8F71-A2E5-4166-9516-15ED10EC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272-0207-4DF6-8331-568CDC45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2D6-2182-4F79-8EDB-D43F5B1A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C199-35D4-47AD-960F-D867C684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D39-FF38-4006-A7F4-EAC6FE6B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7D15-8EBF-48A3-90E0-3E79D4CF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E55-7355-4C4F-AD15-47C57188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37D3-7842-4403-AF64-0980FB988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3DC7-3295-4E6C-BC18-7CB9857E68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c | On a per member per month basis, Medicare’s purported cost advantage over private plans is small or non-existent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Blu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c | On a per member per month basis, Medicare’s purported cost advantage over private plans is small or non-existent </dc:description>
  <dc:language>en-US</dc:language>
  <cp:lastModifiedBy>Jia Yao</cp:lastModifiedBy>
  <cp:lastPrinted>2002-05-16T21:44:34Z</cp:lastPrinted>
  <dcterms:modified xsi:type="dcterms:W3CDTF">2013-09-04T18:13:20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c | On a per member per month basis, Medicare’s purported cost advantage over private plans is small or non-existent </vt:lpwstr>
  </property>
</Properties>
</file>