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7F4A-24A1-40E2-9EF3-116E0E2BA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148D-D9C7-4ABC-95EA-530F671F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ECCC-F861-4AA8-B248-4E5DA975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DB78-800A-4F6E-8C4C-46DA0C22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FADC-15EA-4CF6-BD00-E336D37B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7667-FD1F-4EC4-ACDA-D5EDE893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5772-B1EE-49C9-922C-EE3081C4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F00A-CC64-4498-B382-C8EC46D4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8479-D216-4F45-8F5D-11A29C2E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C289-97EE-4EDA-937D-4E2CACB1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A7F2-0128-49D7-BC0E-0EE85640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1E6-2E90-4C11-8090-FE2A0B0F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7C27-8599-47D0-9EAE-B3A9CE4B1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36440" y="1371600"/>
            <a:ext cx="887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8Z</dcterms:modified>
  <cp:revision>28</cp:revision>
  <dc:subject/>
  <dc:title>PowerPoint Presentation</dc:title>
</cp:coreProperties>
</file>