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3CC-3309-4DFF-B612-9F492FE6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0BF-9C38-4ADA-8014-600EB099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493D-8684-45DC-A40F-5F209AD4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0EA-7763-4EEE-94F2-D017C253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6BB-584D-4C9F-9AB0-4260C4CF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08C-FE83-422C-9CBD-E98B35AA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BD89-2AC1-4E93-8453-754C1AC7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E4B-062C-4576-B8D1-5039BF2A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9304-3F9F-4EDF-BC97-96020C6A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7A2-B381-4503-BD01-D9AB10A8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299-711A-4A09-A588-1ACA1C96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623-5620-4C25-B9DE-F77F2579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6FD6-535F-468D-9573-CA0BFD5D6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6Z</dcterms:modified>
  <cp:revision>30</cp:revision>
  <dc:subject/>
  <dc:title>PowerPoint Presentation</dc:title>
</cp:coreProperties>
</file>