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CE3-7D1B-41B5-8947-B66F6D2E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A0A-8E79-4D22-966E-A56C83AA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3DE-6255-476C-A397-E16BA337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14A-1120-4892-9DA8-89E222D6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DD0-6216-40A2-B9E5-05BBD474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1A0-6F68-4D2A-B210-3FE57776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D51B-B8CC-4A21-AC71-8B532814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FD9-AE09-4320-8C60-97F361CE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299-186A-4907-AE54-7004C584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358-EB72-4E49-857B-5F3CCEDF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506-5A9D-49DF-B0DC-FD09DCD7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390-0FF6-48C2-8810-54BE6F26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023D-0C17-49E1-B4F5-6BACE4FC7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24080" y="0"/>
            <a:ext cx="649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2Z</dcterms:modified>
  <cp:revision>32</cp:revision>
  <dc:subject/>
  <dc:title>PowerPoint Presentation</dc:title>
</cp:coreProperties>
</file>