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3880-6F6F-4160-8582-91BFBEBD2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C4F9-50D4-4376-9509-3F49B86C95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5a | Percentage Distribution of Personal Health Care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4DA-43D0-4E02-B226-00AA472E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D81-BB72-4EAF-A4A9-5A7CBBE9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E59-91CE-4E63-933A-85E1C832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D3F-39DB-40E5-ACCF-CC1AF134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B110-07F3-4BA2-AE64-61388931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2986-E886-4F11-A158-F18AD790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A0CB-AB1B-4D45-BD25-6D515E18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DFEB-331B-4C09-8941-D0DDCF6F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78F3-CCE6-4F0C-8D23-1B6C2CE5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DF24-C1EA-48AF-8CBA-86A7390F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A9A0-F96E-4EDC-8616-DAA3F914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AD5-561C-4FB5-A81E-44C443C0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E105-7EEB-4F9D-8F3E-674BAD0B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3C57-E8DD-410F-B834-011C1B07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4986-30CE-4EAD-9996-A500DEE5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655A-D5DD-4850-A0F1-285DA6D6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E2A3-C7E6-49BA-80F7-4E3970EC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D3F-AEDF-4FB2-A783-3FB7C737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5A6-DD52-4C70-A066-AF7F662B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653-033C-44A1-86D1-D186A18C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E79-F2BC-4428-AC70-B0DA3353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C6B-9D8B-4E6A-9533-15A87B29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3DC-8FF4-4208-A17B-B708AC31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E98-CF38-48E5-AA56-6611BFE6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68D9-B561-4AA4-9AFD-0E124F70B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C212-5BB3-4A05-BD0E-52D8FDB96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a | 1 in 7 dollars of personal health care spending now are paid for out-of-pocket compared to 7 in 8 dollars 80 years ago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a | 1 in 7 dollars of personal health care spending now are paid for out-of-pocket compared to 7 in 8 dollars 80 years ago</dc:description>
  <dc:language>en-US</dc:language>
  <cp:lastModifiedBy>Jia Yao</cp:lastModifiedBy>
  <cp:lastPrinted>2002-05-16T21:44:34Z</cp:lastPrinted>
  <dcterms:modified xsi:type="dcterms:W3CDTF">2013-09-04T21:03:5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a | 1 in 7 dollars of personal health care spending now are paid for out-of-pocket compared to 7 in 8 dollars 80 years ago</vt:lpwstr>
  </property>
</Properties>
</file>