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50F-30AE-409E-9D49-2A9403D8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EE0-E8AC-4EEB-BC4B-B0CC40D9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86F-103F-4413-8CFA-0E05E33D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DC2-77FC-4F42-A59D-62C174D5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345-9504-4464-85D0-8E2630FB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F66-EB13-411B-ABE3-D7868D82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A71-1CA0-4898-9D0F-E306DF0F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30F-2752-4C1B-AE4B-B6B8325E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78D-D49B-4AA9-8EF4-9466FEB4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21F-C8C8-4309-B8B3-C0925E91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604-9947-4115-AE04-56B44A9E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81E-512A-4E64-B9E3-6CECF272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BCF-3B7B-43F0-B2DF-809C1D6D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52560"/>
            <a:ext cx="890748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3Z</dcterms:modified>
  <cp:revision>37</cp:revision>
  <dc:subject/>
  <dc:title>PowerPoint Presentation</dc:title>
</cp:coreProperties>
</file>