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9035-8CD3-4FB7-977F-2899FF72A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2B | HEALTH SECTOR EMPLOYMENT AS A PERCENT OF TOTAL CIVILIAN EMPLOYMENT IN G7 COUNTRIES, 1996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AF0-12C2-4E75-879E-02F959ACA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208-9838-4478-B801-B64D2B9C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343-25F4-492E-94CD-1FD2F31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A5EF-4A22-4008-9668-F98FBEBA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18D-1B0F-43D6-B5A2-A44FF74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4F9-4077-459C-BDA2-071F2D59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BEB-F7C1-4B79-8E89-505C33FF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389-C50F-4517-90D7-A69CD022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6E4-B00D-49BF-B1E9-6E1E58EC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E895-1D12-4A37-B766-4C68E7C9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B12-3D29-4DC1-87F2-82B11CE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F69-E4E6-4EAF-AF56-126647C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C06-4504-4027-BA50-2A031FB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ABA2-8791-44F4-BEB7-116111F3F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2b | U.S. growth in health sector employment relative to total employment has been roughly comparable to elsewhere in the G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(CAGR) in number of health /social work workers minus CAGR in number of all civilian workers, 1995-2008 (percent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2b | U.S. growth in health sector employment relative to total employment has been roughly comparable to elsewhere in the G7</dc:description>
  <dc:language>en-US</dc:language>
  <cp:lastModifiedBy>Jia Yao</cp:lastModifiedBy>
  <dcterms:modified xsi:type="dcterms:W3CDTF">2013-09-06T15:05:19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2b | U.S. growth in health sector employment relative to total employment has been roughly comparable to elsewhere in the G7</vt:lpwstr>
  </property>
</Properties>
</file>