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D41-73C8-4152-B1CF-BE7DAA01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7C7-047D-43F6-9763-D0C936C8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187F-E173-42EB-B315-49F6A6D5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E6A-BF7D-4B36-B2B5-89F35F31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8EE-AB47-45B5-B36E-530C7EB1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8D7-30BC-49DF-8D5E-E68BF45B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9D8-EEF6-4C5C-A2BA-42BE7895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BF7-C10F-4EDD-8FAC-932861E9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49A-AF4D-43C5-8C06-F03F9C25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B23-485E-421A-A76D-F295189E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3B2-550B-4B51-800C-F14BF485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D0A-EEFB-4B0C-B753-56912479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1A9C-10A7-436E-AA36-B3FB72A48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98320"/>
            <a:ext cx="912492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0Z</dcterms:modified>
  <cp:revision>30</cp:revision>
  <dc:subject/>
  <dc:title>PowerPoint Presentation</dc:title>
</cp:coreProperties>
</file>