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C771-65D8-4509-9EBE-FF035855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E56-3895-4A02-A24B-63426989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AA0-B32E-4E7A-8ABD-749C78D6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63D-0935-4193-A08B-5564BA62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2ED-58FB-42A7-AC4F-E01774AA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6C6-DCDB-41C7-A6C9-2570CB9B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271-E2F7-44CD-B7EB-58B64EE0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6F4-0F83-404C-8811-C22A9FE1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955-6F5D-484A-B1FD-8E869C2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226-F90C-46F4-8BF7-A73FE0F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C65-C8DB-4052-93F2-CE6CECD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783-7AFB-4530-B94E-CFD5809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0B0-73D9-48CA-99E3-D01FA3CAB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909000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5Z</dcterms:modified>
  <cp:revision>14</cp:revision>
  <dc:subject/>
  <dc:title>PowerPoint Presentation</dc:title>
</cp:coreProperties>
</file>