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BBD-6BC8-461D-9CC1-80E2D9817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b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FAFE-43A4-46C0-9978-E92A346F4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575-198E-4316-9AB1-DD424237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B9C-1D6B-4E75-B12D-589BB3A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C2F-5086-4020-BC9A-AF21366D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7B4A-80AA-4248-8DD5-EFEC0C19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45D-363D-4C4E-8906-4F43D3E2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233-EEA1-4FE8-BABA-7C22F789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C05-3A4F-4330-B2A5-40E739BA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2C9-E854-4791-8DD7-0EEDED8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8F6-98E2-43B3-9220-D72434DB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322-0026-4562-88B9-5B9CEF05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3747-661F-4AAE-9C10-7DA6BFD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897-036F-4EF6-934D-8ECB622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F361-F9E7-497E-90B5-9A6101B88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b | Relative to the price of hourly output, real hourly compensation in ambulatory health care has fallen since 1992; it rose in private business overa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871200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16680" y="14479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b | Relative to the price of hourly output, real hourly compensation in ambulatory health care has fallen since 1992; it rose in private business overall </dc:description>
  <dc:language>en-US</dc:language>
  <cp:lastModifiedBy>Jia Yao</cp:lastModifiedBy>
  <dcterms:modified xsi:type="dcterms:W3CDTF">2013-09-06T15:08:4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b | Relative to the price of hourly output, real hourly compensation in ambulatory health care has fallen since 1992; it rose in private business overall </vt:lpwstr>
  </property>
</Properties>
</file>