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2C97-1575-4923-9650-404C90D7F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B | POVERTY STATUS OF UNINSURED, PERSONS WITH PUBLIC COVERAGE AND PERSONS WITH PRIVATE HEALTH INSURANCE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8AC-0869-47A4-A3C4-25A8C13C0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B12-3E3F-499D-AFFB-3BB33D9D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2EF-7C8D-4B3E-BB8D-55303343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685-2843-428B-AC56-4E6009EE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204-BF58-4FE6-836B-16FE066B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BBB-DF81-44D3-A238-72238B92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9D7-C55B-47E3-932E-889DB46C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9DD-0335-4645-B0DF-5E3684D7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019-4000-4A39-9A61-3AE74AAB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044-6D74-4FB5-873D-0D1E8C3D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73D-3A27-44B9-9D83-943DB7FD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466-66F7-47E6-86AC-483C6FD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07F-21BE-468D-9EF1-C66856D1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0D4A-DB75-452A-A72D-39ED0A832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b | More than half the uninsured and three fifths of those with government insurance have incomes below 200 percent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58720" y="1092240"/>
            <a:ext cx="82933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057400" y="18288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85800" y="5943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individuals with public and private health insurance were placed in the public health insurance catego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b | More than half the uninsured and three fifths of those with government insurance have incomes below 200 percent of poverty</dc:description>
  <dc:language>en-US</dc:language>
  <cp:lastModifiedBy>Jia Yao</cp:lastModifiedBy>
  <dcterms:modified xsi:type="dcterms:W3CDTF">2013-09-06T15:16:5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b | More than half the uninsured and three fifths of those with government insurance have incomes below 200 percent of poverty</vt:lpwstr>
  </property>
</Properties>
</file>