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655D-2293-411D-B01D-614D30595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F6CF-B081-4A73-9E3C-29ED9FD1A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443F-5F5A-491B-883C-800614DE9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31FD-B840-4127-B337-A427B93BE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2991-6B2D-42C9-8F7F-3DC277F5A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DBD5-9E89-4267-BD62-E85F6718B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DD93-ABD4-49F9-A4CB-0F9B148FF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52FD-42C0-4A6B-9603-7965BD98E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4DE3-98B7-41A2-8BB3-3343147A0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2192-F12D-480B-8F77-594700E7A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3583-C97D-4897-A098-218250087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F114-8CE7-4A31-BE80-CBF0096EA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3F76D-A269-4C1C-B52F-42B39359A9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101520" y="1447920"/>
            <a:ext cx="894096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3:16Z</dcterms:modified>
  <cp:revision>41</cp:revision>
  <dc:subject/>
  <dc:title>PowerPoint Presentation</dc:title>
</cp:coreProperties>
</file>