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6C6-73BF-456D-8EDE-45DE8190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5D6-6183-4D72-BEE3-58B14CE8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F39-751E-40F4-AE42-02739E31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7D2-CED9-4EF0-AE9D-4DCD7D37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61D-6316-4597-94D7-3687DD8C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394-6454-47A2-BDED-CF1019BC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F4D-3648-4700-8E4D-152AB8DE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759-AF94-4B6F-BC20-E1D9394D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E91-6539-4E97-8362-CCADC49F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28A-EFFE-4A99-93B0-F22FBEBE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5EE-0E57-4D20-AEB1-0D701BD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8DF-F655-4210-B436-8A5D617D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2164-E63C-4C55-8545-C8B868C01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2Z</dcterms:modified>
  <cp:revision>6</cp:revision>
  <dc:subject/>
  <dc:title>PowerPoint Presentation</dc:title>
</cp:coreProperties>
</file>