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65F5-356D-4D12-B542-C06C576BEB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5B | TOTAL MEDICARE EXPENDITURES AS A PERCENTAGE OF GDP, CBO AND MEDICARE TRUSTEES, 2010-208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EE48-6B9E-4425-8552-477413BAA4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7AF0-9090-489C-A446-25E36A9CC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6FF7-EF0F-4427-A9EA-9F4B98EE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4439-D263-44CD-9B4E-BC334C65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1E11-6345-4623-88E6-2012F68E8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A315-C94A-47B9-A549-1D173750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B52C-34ED-40FA-A575-1E688564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EB3A-1F64-4A70-AD5B-F928C32B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E26C-7F17-438B-A474-554571E4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A592-59B6-4CE9-B878-595C4C4D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2641-AF87-41EE-9EF9-B30D7E72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B764-C8E9-41AB-A0AA-703D67B4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E082-B9E7-4B2A-9885-C18A4069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0726-0906-4793-A083-161A23528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5b | Official forecasts of Medicare spending differ dramatically due to different assumptions about GDP growth and health spending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15920"/>
            <a:ext cx="83311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703440" y="134928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otal Medicare expenditures as a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5b | Official forecasts of Medicare spending differ dramatically due to different assumptions about GDP growth and health spending growth</dc:description>
  <dc:language>en-US</dc:language>
  <cp:lastModifiedBy>Jia Yao</cp:lastModifiedBy>
  <dcterms:modified xsi:type="dcterms:W3CDTF">2013-09-23T19:14:24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5b | Official forecasts of Medicare spending differ dramatically due to different assumptions about GDP growth and health spending growth</vt:lpwstr>
  </property>
</Properties>
</file>