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7B92-088C-431A-A5D1-8859F28EAD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F263-A71A-4E81-8420-A440D7C3A91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5a | EXPENDITURES ON CHRONIC CONDITIONS FOR ADULTS AGE 18 AND OVER, BY AGE, 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7283-D6F8-4B1A-9AB6-4E1ECD29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6E60-E5AF-4EC1-B054-B1EA1CD7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32DA-06B5-44BE-ABAC-63B9DEFD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CF9C-62B2-4570-B9AE-791AAE56B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BFB1-1E2A-4429-B5CA-462DDBE7A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7BE5-82BE-46C3-9A47-5E815864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1404-DFC5-4E79-96B0-E994DD3F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6206-2CDE-458D-B021-6E15FAF4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0BA7-DB31-4EDA-B80C-CADAD2A9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BEC0-0EEC-403E-85BE-565BCA3E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D035-F7D8-494F-B88E-6680A649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E2A0-135F-4B6D-88C2-64131ED5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509D-ABFB-4FB6-AA92-4FFEFFE6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5090-314C-4444-92C0-D8581586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B1BE-5C99-41E9-86BC-971EAD9D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14CF-82BD-4CA9-95A8-64EC0138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2EFD-D2E2-483D-A584-40260CAC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6545-EC6D-479C-8788-AF4B39D0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AE84-2648-4513-B9B5-0947FD96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887E-5CFA-4EE4-9B78-3283C1E2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7E3D-6B16-4D67-9617-76E4B89F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4510-AD09-45FF-BC1E-C40DFD7D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3DEE-BCD7-4498-83D7-242249DE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891D-AE45-462B-9815-18691F75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5408-D317-4F06-8164-612A0996B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AB65-0CF7-4D8B-9167-7FA573EC61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5a | About half of adult health spending is for chronic conditions; 90 percent of spending is on adults having at least 1 such condition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5a | About half of adult health spending is for chronic conditions; 90 percent of spending is on adults having at least 1 such condition</dc:description>
  <dc:language>en-US</dc:language>
  <cp:lastModifiedBy>Jia Yao</cp:lastModifiedBy>
  <cp:lastPrinted>2002-05-16T21:44:34Z</cp:lastPrinted>
  <dcterms:modified xsi:type="dcterms:W3CDTF">2013-09-04T18:13:25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5a | About half of adult health spending is for chronic conditions; 90 percent of spending is on adults having at least 1 such condition</vt:lpwstr>
  </property>
</Properties>
</file>