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CBAE-3872-44F9-B39C-968439CF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0856-1F17-429E-B0EA-3A13D418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3577-A8D7-4E9A-BDF0-B735E374E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8426-80FD-44EC-953C-AB2E26617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EB38-4966-4F51-B406-1900008A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D309-CBED-4DE4-B53D-CF9DB136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58BC-D1CB-494B-9967-568DA68F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8197-BCFA-427A-A38B-9421D4C0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2C25-7A4B-4EAC-A6A0-17BAC002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1252-8E35-4739-8DC0-D5536567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B65D-6F8B-4229-A27A-3A28E62F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9BFE-377D-4B75-859F-3A850F57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90A2-36D9-473D-B6B2-56DE37BF0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237960"/>
            <a:ext cx="9005760" cy="63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2Z</dcterms:modified>
  <cp:revision>26</cp:revision>
  <dc:subject/>
  <dc:title>PowerPoint Presentation</dc:title>
</cp:coreProperties>
</file>