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97C-D83A-40A1-A51B-AB89847D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CBC-896B-43FB-A663-018D8CBB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7FD-52ED-4CC5-AE66-6859615A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B73-232F-44C6-81F3-6E122AF8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49F-32E7-4EAC-AEC0-079B2364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452-A3DB-4E00-924B-A4E49568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2DD-BE3D-452E-8C87-F15669FC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006-2D61-48EF-8369-CFE3C3BD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58D-D879-42A6-B970-8E456EC8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8D3-AA6D-4E0B-927C-FABD9288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3E9-53A7-46B0-B011-411D8E9D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FB0-B824-4603-A02E-5E5DCB32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72CB-DA93-42A0-8706-A37B57DBC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1Z</dcterms:modified>
  <cp:revision>39</cp:revision>
  <dc:subject/>
  <dc:title>PowerPoint Presentation</dc:title>
</cp:coreProperties>
</file>