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4709-9C38-45EF-82CB-1835D655F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b | Projected Year of Medicare Hospital Insurance Trust Fund Insolvency, 1990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5168-7EAF-4AFA-83E7-0736728F6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B49-0FB6-4C6B-A2F7-96C05B36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809-E716-47E9-8DE4-6F820034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292-09D0-491A-B725-90E0EA6D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FF8-DC50-4A36-BC77-31D0925D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1ED-DE3F-4F32-B3EB-CE068E89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4E3-953E-4070-B7C2-9CF14FF0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797-FD1A-478C-9322-9905ED17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C8C-9DD1-4941-9990-B4A8C502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250-BBEE-43E9-AF29-6669A491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C44-341F-47AB-A99F-B06EA3A0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E6A-0988-4CC3-90A6-E62BDEBD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917-0520-4C80-AE0E-90039D5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59D4-17A8-4EA8-9ACD-8F0529A89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3b | Projections of Medicare Trust Fund insolvency have changed considerably over the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25680" y="1447920"/>
            <a:ext cx="65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year of Medicare Hospital Insurance Trust Fund insolv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85800" y="60199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ar of Medicare Trustees’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b | Projections of Medicare Trust Fund insolvency have changed considerably over the years </dc:description>
  <dc:language>en-US</dc:language>
  <cp:lastModifiedBy>Jia Yao</cp:lastModifiedBy>
  <dcterms:modified xsi:type="dcterms:W3CDTF">2013-09-23T19:14:1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b | Projections of Medicare Trust Fund insolvency have changed considerably over the years </vt:lpwstr>
  </property>
</Properties>
</file>