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3C92-2971-4EE7-9658-FE2861CA9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A | Alternative Measures of Concentration Among Health Insurers Across Metropolitan Statistical Area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373D-BE5D-42BE-A429-722D2E270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C11-723D-4272-A4C1-EA1EE3E5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601-F92F-433D-AC41-AA23AB09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4DA-BA30-4CCF-8FF6-081471C8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FE8-8321-4C52-8E61-A1D093D7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CE7-EBCE-41EC-8494-42E6EE30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C62-FA1C-4F09-9D69-098F36FA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09B-046C-4684-A570-081E299E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C85E-8DDC-40C6-A465-0FA1E85B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561-FA66-4B21-B8E7-340ECFEE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875-0C56-4304-98F5-247EA748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99D-4054-4C16-8BE0-1D1CE25E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651-6C0E-46B5-B14D-66575F89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0EBD-B0A6-4957-A1A4-8004D6150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a | By conventional measures, many metropolitan areas appear to have very high levels of insurance company 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176040" y="1558800"/>
            <a:ext cx="8788680" cy="5359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09480" y="1447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(MSAs) with concentration level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3960" y="6095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American Medical Association. Competition in Health Insurance, 2010 Update. Chic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10. Managed Market Survey © 2008, HealthLeaders-InterStu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a | By conventional measures, many metropolitan areas appear to have very high levels of insurance company concentration</dc:description>
  <dc:language>en-US</dc:language>
  <cp:lastModifiedBy>Jia Yao</cp:lastModifiedBy>
  <dcterms:modified xsi:type="dcterms:W3CDTF">2013-09-06T15:22:53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a | By conventional measures, many metropolitan areas appear to have very high levels of insurance company concentration</vt:lpwstr>
  </property>
</Properties>
</file>