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34D5-6C52-4288-98C3-4EDB39E489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2384-AEB6-4AF7-87E2-D208505F9BA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3.1b | Percentage Distribution of Personal Health Expenditures, by Sponsor, 1987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3DE5-A6D0-4C3C-95F8-31A082D10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537A-8460-4578-AA60-3C80118B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4BE2-F6DE-444F-B3F7-D9521998B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743C-9192-480C-8F5F-BA0A48282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371D-3F14-488B-832D-74A42EE74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C8ED-A57F-493F-A1B9-60E28190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8A1B-2A02-4869-8BCD-0814D5BF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A40D-859D-48B8-8C9F-4ED826C2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E49C-89EB-4970-BB6F-F832E0CD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0A22-A491-4061-85E4-EEB3BDA3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6BA8-5936-465F-823B-DB39A603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66EA-EE8A-46BA-979B-990078AD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B06B-482A-47CA-A16D-16528137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4822-3471-48CB-BB1B-F92599EE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ECF1-E2B4-420E-A6AB-F87DF721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2D38-93BE-475B-A37B-1AAD34537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A36C-CCEB-492A-95EF-D49D050A9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5D04-74C0-4730-9DA6-B0E50378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36F6-0841-4B11-9A06-39AA0FB2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5057-C7CA-4004-B95F-77000F3D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33B4-C4CB-4995-8213-2A94D6A8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7F98-2461-412B-B27D-696CCB13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E6C2-9DDE-4096-8CC9-F44CFF43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D60B-1664-4472-880E-CC85B499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C2DF-4FEA-4E4C-98C6-BFB65B410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00EA-D920-4E04-A5FF-1D3E321D70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81000" y="787320"/>
            <a:ext cx="906624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676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1b | Accounting for each sponsor’s share of health revenues results in a much more stable federal share of spending over 2 decade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1b | Accounting for each sponsor’s share of health revenues results in a much more stable federal share of spending over 2 decades</dc:description>
  <dc:language>en-US</dc:language>
  <cp:lastModifiedBy>Jia Yao</cp:lastModifiedBy>
  <cp:lastPrinted>2002-05-16T21:44:34Z</cp:lastPrinted>
  <dcterms:modified xsi:type="dcterms:W3CDTF">2013-09-04T21:03:42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1b | Accounting for each sponsor’s share of health revenues results in a much more stable federal share of spending over 2 decades</vt:lpwstr>
  </property>
</Properties>
</file>