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6DD-3277-4EAD-8F0E-9A57F2B4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AF5-BC0C-4FDC-B49E-280D17CA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A21-D14D-4F42-AB65-CCBF1720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5C0-1363-4913-9CFE-686AEE75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C48-647F-4E2D-B9A9-4683E7DA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DC8-204F-4FF3-A5A1-10C16FC7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EE1-1C50-4920-84C8-AB064CBF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B74-BAF1-448B-9770-7C7CBB37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B70-645F-48CB-89F2-9622AD72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C000-1AA5-45DC-B509-6BCD7CD2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926-D61D-4F92-9AAB-C0B9C5B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3B7-9E20-41AD-BA48-FE04062D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146C-7A76-43A7-9EEA-A1F19A94B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7480" y="838080"/>
            <a:ext cx="896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5Z</dcterms:modified>
  <cp:revision>45</cp:revision>
  <dc:subject/>
  <dc:title>PowerPoint Presentation</dc:title>
</cp:coreProperties>
</file>