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7537-503A-44FA-91A5-24AEF56A60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1.2A | ANNUAL COMPENSATION PER FULL-TIME EQUIVALENT WORKER, HEALTH SERVICE INDUSTRY AND OTHER MAJOR INDUSTRIE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4E43-1CBF-4D13-89CA-136BABFF3A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2454-31FA-4760-8F21-A415F802C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A107-AED9-4483-9D48-23C95CD4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9286-96F0-430F-8047-DBA3CA79C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C8E3-6B7B-4F86-84F4-E3AB9114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84B4-59CB-473B-9D5B-77C945ED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AA2A-B843-4EC7-95CF-B11F9EA0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FC93-FC14-44C1-908A-26103493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AF3C-5099-4AF7-AF35-48CE93CF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ABC5-99AD-4519-8FFE-A05A877F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DBD3-35EC-41DD-9948-17A92294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D002-F350-4BC0-86E3-F8736F93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7076-F49A-4B2E-BC6A-C09D1ECB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7FA7-FAB3-4522-86A0-90382CE572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2a | Average compensation in the health care industry is higher than in the rest of the service sector but lower than for public employe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279360" y="1015920"/>
            <a:ext cx="101599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2a | Average compensation in the health care industry is higher than in the rest of the service sector but lower than for public employees</dc:description>
  <dc:language>en-US</dc:language>
  <cp:lastModifiedBy>Jia Yao</cp:lastModifiedBy>
  <dcterms:modified xsi:type="dcterms:W3CDTF">2013-09-06T15:08:36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2a | Average compensation in the health care industry is higher than in the rest of the service sector but lower than for public employees</vt:lpwstr>
  </property>
</Properties>
</file>