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71A9-7576-4857-BDD7-76A9414F1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3B | PERCENTAGE OF METROPOLITAN STATISTICAL AREAS WITH CONCENTRATED OR HIGHLY CONCENTRATED HEALTH SECTOR MARKETS, BY TYPE OF MARKET, 1994-1999, 2000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5561-10B4-4E2A-89F9-B53B4CB07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09C-D281-4635-82AA-5BABD8EE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689-2880-4489-803C-C2035AA3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486B-3C86-4CC1-BDA2-0269043D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A33-60AC-4981-86A7-A76ECC12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602A-903A-4D64-970D-7B5C3E41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01B2-997D-434D-86E7-0B45EECD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00B-152D-4FA8-BDDD-F2C615A7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31C8-36BA-44B8-B697-EC062D91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981E-684A-4CAD-85FA-07A06891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89C7-5BC9-4EF2-A5CF-0666AD81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3D2-8B43-4D67-9C30-CCE40B13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E580-3039-4AB0-BEBA-5D7B87F6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F839-399D-4CD0-A194-0CBD30D5B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2b | It appears that concentration is rising in both the hospital industry and HMO indus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57200" y="1523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Metropolitan Statistical Areas with concentrated or highly concentrated mark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17600" y="57913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hen YC, VY Wu and G Melnick. Trends in Hospital Cost and Revenue, 1994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5: How Are They Related to HMO Penetration, Concentration, and For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 Ownership? Health Services Research 2010; 45(1):42–6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7200" y="4572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at the time of this analysis, the threshold for “highly concentrated” was a Herfindahl-Hirschman Index score of 1,800 or above; “concentrated” is defined as an HHI of 1,000-1,800. Since August, 2010, the FTC has the first threshold at a score of 2,500 or above and the second at 1,500-2,50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2b | It appears that concentration is rising in both the hospital industry and HMO industry</dc:description>
  <dc:language>en-US</dc:language>
  <cp:lastModifiedBy>Jia Yao</cp:lastModifiedBy>
  <dcterms:modified xsi:type="dcterms:W3CDTF">2013-09-06T15:22:54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2b | It appears that concentration is rising in both the hospital industry and HMO industry</vt:lpwstr>
  </property>
</Properties>
</file>