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8B31-6736-49A3-B24C-81FABFDF2D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1A | REAL PER CAPITA TOTAL GOVERNMENT EXPENDITURES AND GOVERNMENT EXPENDITURES ON HEALTH CARE: 192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776C-BA0F-48D1-88FB-5999D21849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2C1E-8108-4740-81A0-E893ECC5F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8864-3A99-4D55-B652-6D1B3D3C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726F-DD5D-4AA6-B7DC-76B84D6EC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AB95-7785-43C5-892B-B00D2C551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93E4-BBD4-4DE6-9CB8-A7EA9AA9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7BCE-51ED-487B-8523-2C219FA0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F1D9-B417-4532-8C66-3594E1FC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1832-D454-4820-9D23-1D2DD0B1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8358-BE56-46C0-9E67-BCC458D8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8056-C69F-4DC3-871F-882CB6CB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3F03-0029-4ADE-B2CB-333DE33F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A42E-D669-4198-A271-C19671D2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F2A0-2E1A-4125-B288-EF2F6498D2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1a | Real government spending on health has increased 30-fold in the past half century; the increase is 17-fold in per capita term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283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68240" y="1447920"/>
            <a:ext cx="657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dexes of real government spending on health using chained GDP deflator: 1960=1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1.a | Real government spending on health has increased 30-fold in the past half century; the increase is 17-fold in per capita terms. </dc:description>
  <dc:language>en-US</dc:language>
  <cp:lastModifiedBy>Jia Yao</cp:lastModifiedBy>
  <dcterms:modified xsi:type="dcterms:W3CDTF">2013-09-06T14:00:47Z</dcterms:modified>
  <cp:revision>156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1.a | Real government spending on health has increased 30-fold in the past half century; the increase is 17-fold in per capita terms. </vt:lpwstr>
  </property>
</Properties>
</file>