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4A3D-8C51-44A9-8088-0C702CE2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563B-B84E-470A-B576-878C5DB6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635F-BC69-4598-B350-B1D406B0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A1D4-B413-4E12-ACD8-8623E2CF9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0E5D-9637-4E35-AEC7-BDB8293F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C92C-7FCF-48A4-B459-F2F7FFDC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37F0-7B64-4DD5-8B63-7F4B92A7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0392-0C87-4341-B044-BD73D64A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5B9A-0EB3-403A-9A19-55188B4D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09EB-16CC-4428-B6D0-E67C3600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5314-099A-45EF-914C-414BA78B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878-150C-43D0-B2AA-F822E16E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DB21-D63D-4F02-BD9E-0F459E923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6160"/>
            <a:ext cx="906768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28Z</dcterms:modified>
  <cp:revision>20</cp:revision>
  <dc:subject/>
  <dc:title>PowerPoint Presentation</dc:title>
</cp:coreProperties>
</file>