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2FE-A910-45CC-BDBF-5F61863C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095-1E2A-4449-97E8-C58A7AA3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D18-12C0-491E-ADCE-8E0F1B4B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CAB-1965-42DC-94BA-9B4D17AD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FDA-679B-454F-BFCE-1ABA625D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892D-938F-4F8E-B1FB-FD0CC32E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899-F27C-4372-B5EE-F3FF6F86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CA8-E334-44B1-813B-CB5261D4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67C2-A394-46E2-A4F4-7C8ED0B7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168-AB22-4481-86A2-FFBDB323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0FE3-5413-499A-856B-76CB3D84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0ED-4721-4E54-A02F-FC67832C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BA0E-6001-4618-9210-6EAC520FD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2Z</dcterms:modified>
  <cp:revision>45</cp:revision>
  <dc:subject/>
  <dc:title>PowerPoint Presentation</dc:title>
</cp:coreProperties>
</file>