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B1BF-29DE-4923-9354-4CF9641392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4 | PRIVATE HEALTH INSURANCE COVERAGE OF CHILDREN UNDER AGE 18, BY FAMILY POVERTY STATUS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176F-7357-49DE-B444-08D69166CC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9497-F74A-40D9-9BF4-3422940CF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81A0-DAAB-4FB1-8F26-5E9CDFDF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69F5-DEBD-4A29-A40A-F3F44646B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FA74-EA18-488C-9F81-27949ED1B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E540-354C-4EEC-B94F-919D8B20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C778-1BA8-4620-8B83-B298C762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DDA9-638C-48C0-9E13-8B401DA6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B9BC-DE0A-4DDB-829E-999D4F4B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3897-1338-4E80-BF6E-FC884518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040D-AD78-4C07-BCA1-55BEB1DE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410B-C886-43D7-AD32-114ACB5B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5CF5-081C-485A-B9F9-50331EA7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F98F-7156-4219-B489-3F162484C5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4 | Children below poverty are only one fourth as likely as the general population to have employer-sponsored health cover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3716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individuals who have coverage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4 | Children below poverty are only one fourth as likely as the general population to have employer-sponsored health coverage</dc:description>
  <dc:language>en-US</dc:language>
  <cp:lastModifiedBy>Jia Yao</cp:lastModifiedBy>
  <dcterms:modified xsi:type="dcterms:W3CDTF">2013-09-06T15:17:01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4 | Children below poverty are only one fourth as likely as the general population to have employer-sponsored health coverage</vt:lpwstr>
  </property>
</Properties>
</file>