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E7BB-6B1D-421E-B740-17BB7B71B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5C64-4772-430A-BA61-340528522A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b | Percentage of Personal Health Care Expenditures Paid by Medicaid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B50-394B-4511-B6E8-6FE1ACC8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07C-5CF5-4DB4-B0F5-1528589C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219-865F-4B8D-804D-1F797FAB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1B60-27BD-4368-9981-59163F99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568F-EA21-43B8-82BD-D03450C4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9D80-F1CC-498D-9C3E-345CF6EF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A3CF-938B-449A-8D05-138F610E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BC5B-F493-47F7-B4AF-A409B2D4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1092-F33D-4610-89A7-8B5C22D4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95A5-8255-4340-977A-FDA73FAA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A281-D96C-402C-A224-1FC102A8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800-C0A8-4597-9C51-D8E6378D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467-29B1-4F06-B4DA-B7D8B96E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780D-0FC9-41EB-855C-F42955FF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B03B-8D4B-444E-952F-E8B220F7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68D5-A3DD-4423-91EE-C842CA2C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937A-695A-45A9-B27E-D3A6BD4C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70B-D17F-4B7F-AA3E-D87CC82F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D69-CF3B-4779-8FA9-8E65B6E3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445-BCC4-4FC7-97D8-12A64EAD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587-4E78-48D8-AC2C-81176180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078-57E3-466F-AF22-0CD23EBD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7F7-A385-41A6-934A-14CF4004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980-AE18-423C-85DC-FE3A782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0112-17B3-490D-BD17-AFAE4F12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7331-7B0C-42DA-86BA-7D99646A0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b | Medicaid covers about two fifths of the nation’s long term care spending, but a much smaller share of acute care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b | Medicaid covers about two fifths of the nation’s long term care spending, but a much smaller share of acute care spending</dc:description>
  <dc:language>en-US</dc:language>
  <cp:lastModifiedBy>Jia Yao</cp:lastModifiedBy>
  <cp:lastPrinted>2002-05-16T21:44:34Z</cp:lastPrinted>
  <dcterms:modified xsi:type="dcterms:W3CDTF">2013-09-04T21:04:0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b | Medicaid covers about two fifths of the nation’s long term care spending, but a much smaller share of acute care spending</vt:lpwstr>
  </property>
</Properties>
</file>