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DB13-33F9-4B1D-AC26-5505F90B4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0E9B-AD81-405B-A9FE-DBA7890B5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.2 | Components of Health Expenditure Growth, 1966-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ABB-1B42-4C83-9443-CBCB5630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043-562D-49AB-83FD-D2BBD928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F2D-FABF-47A5-9A01-2D61B6DE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0BE-D111-4943-9CC7-C569813E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267D-3C7F-4C40-8EFB-1AD49FAA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560A-43DD-4585-8043-221586EA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5348-DF74-4E0C-8E07-0521F580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685A-CF18-4DBB-86CC-E172FD86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2EFE-927B-4324-BDC7-6D2762F4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B9BD-ED14-4A94-B4A8-5267AE5F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4112-AC40-4EF8-A1E9-A0EE8D80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F6D-7FEE-4C5B-BFEE-C3F176C2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1CE1-EF03-4C5E-8574-A6C021F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68F7-4AE4-4B7B-B1EC-857AD644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A4FE-976D-4EEC-9FB6-E45779BA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C5E1-7164-4FAC-A470-D31FF25F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5E50-2AB4-4849-9419-F0DB2196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4C0-EB15-4D67-BEBF-CF9678D2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8C5-90AC-499C-8842-E69F6776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11E-62FA-4EE9-8C1F-1A81F5E6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4F9-0E63-4C56-9FE8-B34C09AA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7A3-65B2-43D6-B1D2-9435080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268-A43C-460D-BAF5-C923CD36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DB9-F764-4E5E-939E-A7635C33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4C58-C09A-4026-9023-388ABD998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A356-C68E-4E29-82D4-3581860A1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2 | The role of technology on health spending growth per person is sizable regardless of the time-frame and assumption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2 | The role of technology on health spending growth per person is sizable regardless of the time-frame and assumptions used</dc:description>
  <dc:language>en-US</dc:language>
  <cp:lastModifiedBy>Jia Yao</cp:lastModifiedBy>
  <dcterms:modified xsi:type="dcterms:W3CDTF">2013-09-23T19:14:1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2 | The role of technology on health spending growth per person is sizable regardless of the time-frame and assumptions used</vt:lpwstr>
  </property>
</Properties>
</file>