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64C6-69CF-46C6-9209-185DADD51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3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ercentage of Bankruptcies Related to Families with Medical Debts, 1994-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C6EC-F0C3-4557-9D6A-7543CD3E6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179-5C10-4BAB-88D0-82A86251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AAC9-FF05-4EDE-82BA-E12C6081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10B-EAEC-470D-AED9-8AAA2616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7D47-16F4-47D3-B128-F797A21C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061-7A8B-4BBE-95FF-CA71E87E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E4D-660A-48D3-BC02-0F181504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545-2CB8-4DE6-8FE8-CA890B2F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3E4-05A8-4CBE-8E67-3C7F1140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E86-8E0C-4A3B-9F3F-5AFEB403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4E3-4314-43A6-BFDD-106742E3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2FE-C477-4205-B3D2-F66D52A4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F84-194B-43B5-9360-D62F48B5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7A33-E669-4EF5-B9BE-6A3484D40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3 | About one quarter of bankruptcies are related primarily to medical debts; medical debts are a factor in just over one thir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5597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17600" y="575928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hur A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edical Bills and Bankruptcy Filing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 Institu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ei.org/docLib/20060719_MedicalBillsAndBankruptcy.pdf (ac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8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533520" y="16002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bankruptcies related to families with medical debts, 1994-9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3 | About one quarter of bankruptcies are related primarily to medical debts; medical debts are a factor in just over one third </dc:description>
  <dc:language>en-US</dc:language>
  <cp:lastModifiedBy>Jia Yao</cp:lastModifiedBy>
  <dcterms:modified xsi:type="dcterms:W3CDTF">2013-09-06T15:26:05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3 | About one quarter of bankruptcies are related primarily to medical debts; medical debts are a factor in just over one third </vt:lpwstr>
  </property>
</Properties>
</file>