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25-D63E-46B6-97BF-D039AE56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89C-8793-4520-BE31-EDFC13E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4F9-20C5-468C-8338-2EB8DCAD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014-12A1-4B55-AE49-B32ADC7A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438-86EE-4F21-8478-4A0679C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768-BC6F-4ABB-9798-79E75361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751-8BF4-43D5-AAF9-1A1800B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753-2F8D-46D7-A006-9F5238C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563-C3DB-4736-B4A6-E0321963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B0E-1923-46A8-96D3-9B1209C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74D-91E8-454F-B95C-10FC7511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DBA-D209-4A73-8D45-366415AD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5A2-9949-4D1C-9A5F-21B94EA85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8920" y="49320"/>
            <a:ext cx="8902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7Z</dcterms:modified>
  <cp:revision>39</cp:revision>
  <dc:subject/>
  <dc:title>PowerPoint Presentation</dc:title>
</cp:coreProperties>
</file>