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91E0-AEE6-49D2-9AB3-EE627D2CA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7A | TRENDS IN PROFITABILITY: RETURN ON REVENUE AMONG FORTUNE 500 PUBLICLY TRADED FIRMS FOR PHARMACEUTICALS AND MEDICAL PRODUCTS &amp; EQUIPMENT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E1A1-F211-4169-944E-2975123D6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D27-5767-4E08-88C0-E094A14D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D6A-42C6-4F8B-B342-1FF0A58D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C3E-5DA7-41FA-A7B1-E5A768C1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992-43F9-4011-9774-7ED8CFAC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0FC-D35B-4F7E-9C3C-3F27B4A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CA9-AC25-42B4-BD92-75421750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D53-25CE-439F-A8BB-B2E7356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E9E-F7D8-4EFC-A043-03656C2A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1B6-9849-4147-ADFB-B4A96841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184-B284-4204-9226-0CEB31A6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4F6-0010-4A2D-A04D-D7FA75A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DFB2-A29F-4DC9-BC54-40312894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9EE3-03A8-4FA1-812C-D7F5D00A8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.7a | Pharmaceuticals and medical devices typically rank in the top 10 among all industries in their return on reve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08680" y="12193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OR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75440"/>
            <a:ext cx="8343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R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7a | Pharmaceuticals and medical devices typically rank in the top 10 among all industries in their return on revenue</dc:description>
  <dc:language>en-US</dc:language>
  <cp:lastModifiedBy>Jia Yao</cp:lastModifiedBy>
  <dcterms:modified xsi:type="dcterms:W3CDTF">2013-09-06T14:29:0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7a | Pharmaceuticals and medical devices typically rank in the top 10 among all industries in their return on revenue</vt:lpwstr>
  </property>
</Properties>
</file>