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7B9-B314-4A2A-9FB2-360BC1D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B6B-2FD7-4A9B-8CC5-C9AFC8C6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3008-8AAD-4A17-966D-C2618EE8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C69-031F-4100-B588-08254BB4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F4E-A37B-49E2-A014-175183F8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DF2-D604-4CF1-B129-E06A464F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A66-B181-4F37-A5DA-58FD7CAF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A6B-3821-4E63-94A1-E75EDAE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450-932E-457B-A10C-237A97D9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E62-6CD1-42B5-8841-BE994C09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35A4-0521-48BC-8CCA-F0FFA071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B3B-4F99-497C-A18A-89FC6FED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A795-B159-473E-BB19-7A97E329F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228600"/>
            <a:ext cx="9061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8Z</dcterms:modified>
  <cp:revision>31</cp:revision>
  <dc:subject/>
  <dc:title>PowerPoint Presentation</dc:title>
</cp:coreProperties>
</file>