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B406-1E35-4958-8A03-34928434A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3A | PROPRIETORS' AND RENTAL INCOME AS A PERCENTAGE OF NATIONAL INCOME FOR SELECTED INDUSTRI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C0B1-6149-4B3A-9B44-CAA0A06DD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982-B4BB-4779-B5A7-263B19D4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1AE-DD20-4360-92D2-ED4D6ABC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B47-0935-4CB4-8EC7-6E06BDAB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59B-0517-4E23-A8B8-A1A9C8F3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404-77DE-49E2-8E48-D5D62454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3F8-7F94-4954-ABF8-475DD3F2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8EA-AA1D-438A-A6A7-3DE0445D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2FA-745C-44D0-A4B7-C3D74B6E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7D3-A855-4674-92A6-8FA453A3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957-7146-48A1-BF5B-3BB22E0E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08E-BF1C-4359-9B62-6018EFAD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77D-1129-4394-B5A1-85C6AA1F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EDDA-5A1F-4049-8B20-12A44DEA0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3a | The share of health-related national income accounted for by proprietors’ and rental income has declined dramatically over 5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523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sector-specific national income to proprietors’ and rent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3a | The share of health-related national income accounted for by proprietors’ and rental income has declined dramatically over 5 decades</dc:description>
  <dc:language>en-US</dc:language>
  <cp:lastModifiedBy>Jia Yao</cp:lastModifiedBy>
  <dcterms:modified xsi:type="dcterms:W3CDTF">2013-09-06T14:16:56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3a | The share of health-related national income accounted for by proprietors’ and rental income has declined dramatically over 5 decades</vt:lpwstr>
  </property>
</Properties>
</file>