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F451-914A-4267-9C8D-24F0298E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AD9F-1FEA-4BAC-8B7E-AE7571DD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BA89-874F-442C-9E06-0FD4C07D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8302-5AFB-480B-8425-5F224934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26DB-B6CA-4D86-9ED2-23B47B6A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0493-A801-4FFA-A43D-10B0098F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8DC7-A94A-43B4-99F1-100B5008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D7E6-1F0B-4F6B-8D6B-DC2B41DA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FEA5-6F54-471F-980D-E14479AF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1814-93F4-49F5-AED2-1071500F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066D-3E0D-491B-B18E-DB37F2E2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52DD-85F2-4BBD-AE58-543D8927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89DC-DE67-49DF-A1EF-11654799C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6668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1Z</dcterms:modified>
  <cp:revision>37</cp:revision>
  <dc:subject/>
  <dc:title>PowerPoint Presentation</dc:title>
</cp:coreProperties>
</file>