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F654-7182-48D3-964E-4340A29F1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533-971A-4D7F-A9E1-D3D6DA91D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4E3-A6E0-4FDA-9A97-943AB06C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76F-1519-42B6-BE80-4824A55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BF5-065C-4BCD-934A-1D5BA1EA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AFA-683F-4DD9-8B60-43DB4BFE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8CD-7DDA-48E4-896F-D167B1F1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5A6-11C9-4DB3-98CF-A61FBA5E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081-0596-41E6-A245-CA471DE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DCE-365A-4C3E-BC48-97F3A9A0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825A-98E9-441C-8F22-DDB2F22D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405-C099-4359-A4E6-ED29B2D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974-122F-460A-9AD0-3F4FA7F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483-5CC2-49BD-BBF7-2BA90F7B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F75-3E88-4EDB-B8C7-E622894A9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dc.gov/obesity/data/adult.html" TargetMode="External"/><Relationship Id="rId3" Type="http://schemas.openxmlformats.org/officeDocument/2006/relationships/hyperlink" Target="http://www.cdc.gov/obesity/data/adult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9_17.png"/>
          <p:cNvPicPr/>
          <p:nvPr/>
        </p:nvPicPr>
        <p:blipFill>
          <a:blip r:embed="rId1"/>
          <a:stretch/>
        </p:blipFill>
        <p:spPr>
          <a:xfrm>
            <a:off x="762120" y="4572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876240" y="50472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14b | Percent of Adults Age 15 and Older Who Are Obese, United States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83720" y="6067440"/>
            <a:ext cx="71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enters for Disease Control. 2009 State Obesity Rates, available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erweight and Obesity. 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cdc.gov/obesity/data/adult.htm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0:47:58Z</dcterms:created>
  <dc:creator>Jia Yao</dc:creator>
  <dc:description/>
  <dc:language>en-US</dc:language>
  <cp:lastModifiedBy>Jia Yao</cp:lastModifiedBy>
  <dcterms:modified xsi:type="dcterms:W3CDTF">2013-09-10T20:48:40Z</dcterms:modified>
  <cp:revision>1</cp:revision>
  <dc:subject/>
  <dc:title>PowerPoint Presentation</dc:title>
</cp:coreProperties>
</file>