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BAAA-F8BA-476C-939E-E3060A22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BE9-2026-42F9-A1FB-6071C17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BAD-CAF1-428A-842F-13E99046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12D-4940-4FE1-88A2-E08D5046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1B2-1B35-4A59-83EE-356D0273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920-7A4D-4FF0-B911-F6B0D104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388-DF54-44BF-AAEB-639EF314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4BD-0E4D-438D-AFE1-4AD54BF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9B6-89A3-4144-B910-F43A1349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06B-5238-48CF-BB44-D6EFD1E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9AA-7D43-4990-9E23-C10D3FB0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5C1-20EE-435A-83AF-0C051119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FCE4-B265-4AFA-969D-61357A384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6Z</dcterms:modified>
  <cp:revision>37</cp:revision>
  <dc:subject/>
  <dc:title>PowerPoint Presentation</dc:title>
</cp:coreProperties>
</file>