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0EDD-B885-46D4-8C89-E0FA1DA40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1A | AVERAGE ANNUAL GROWTH IN EMPLOYMENT FOR HEALTH SECTOR AND TOTAL U.S. EMPLOYMENT, BY DECADE, 193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105-33CA-4856-A30C-DDE27842F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46C-EA3D-4DBF-8099-C16C7CD3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616-20D1-45DE-9C7B-75EBECD8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D09-B677-405E-912F-88D05772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1E5-006D-4078-BF9B-01E2EFAF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6CB-1704-41CB-897A-6434163B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924-3A46-49F2-A145-0CE139F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4B7-BB53-4E2A-ACE5-408718D1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686-3528-451B-985C-630BECA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EEA-35EE-42D3-BCE1-A5682456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E1C-4BD2-4FFA-B9F1-4DA37962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6CA-7AAA-44AA-8C54-5525EB4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362-A0D7-472F-A308-E34A97B0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A994-7D17-44A9-B970-9B81C2E5B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1a | For 8 decades, growth in health services employment has greatly exceeded growth in all workers and those in private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3716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number of full-time-equivalent employees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562720"/>
            <a:ext cx="849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all growth rates calculated through the end of the last year shown in each interv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ervices includes private sector ambulatory health services, hospitals,  nursing and residential care facilities. It does not include pharmaceuticals, medical devices, health insurance , or government hospital work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1a | For 8 decades, growth in health services employment has greatly exceeded growth in all workers and those in private business</dc:description>
  <dc:language>en-US</dc:language>
  <cp:lastModifiedBy>Jia Yao</cp:lastModifiedBy>
  <dcterms:modified xsi:type="dcterms:W3CDTF">2013-09-06T15:03:43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1a | For 8 decades, growth in health services employment has greatly exceeded growth in all workers and those in private business</vt:lpwstr>
  </property>
</Properties>
</file>