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986-38EF-4722-953F-F3B267AF5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B | F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D57-6B61-49E1-8AA2-477F4C9FF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980-C64E-40C5-B872-E6D938EC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F85-53B7-4229-B4A4-7F822928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452-9C61-4E2E-8BAB-BECA9DEC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2E8-038C-4A27-A596-057CF3C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6EC-2952-4AF6-AD74-94607017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045-F367-4ADE-8B5A-F00422DF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90B-C954-447F-8A2B-63B16D68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327-184B-480E-A591-9A0B262F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D65-E532-43BC-8169-43ACFF6C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ABB-DBBB-4D4D-A540-C486A578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DF9-A59D-4DB1-9EB5-DE5D1D3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625-81F4-445D-BB0B-7FD46999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32B4-7DB7-48C2-ABB3-A457275FA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b | Females tend to be concentrated more in healthcare support occupations than healthcare practitioner or technical occup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b | Females tend to be concentrated more in healthcare support occupations than healthcare practitioner or technical occupations</dc:description>
  <dc:language>en-US</dc:language>
  <cp:lastModifiedBy>Jia Yao</cp:lastModifiedBy>
  <dcterms:modified xsi:type="dcterms:W3CDTF">2013-09-06T15:04:0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b | Females tend to be concentrated more in healthcare support occupations than healthcare practitioner or technical occupations</vt:lpwstr>
  </property>
</Properties>
</file>