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4833-A31B-46EA-8D1C-7C810AAE8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c | Ratio: Median Chief Executive Officer Compensation Compared to Average U.S. Worker Compensation, 194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9C53-5110-4DCF-A79C-89691CF7F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DFE-928A-426F-8073-30EBFCE3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FA5-3160-4CD6-BFCD-A8EF49AE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6C6-9794-4571-971C-3F5C0FFA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BB8-88EA-4B4E-AA0C-BA8F44D7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46B-1338-4F12-B824-EAC4C307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EB4-71AE-4D7E-84FD-599C423D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730-1218-44DC-9BDF-50DAB86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3CA-5A58-440D-8141-277882C5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F3B-650A-4B9D-A26A-1E652130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2E4-F1C4-47E3-8CCD-D878D13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BB4-F893-4AF6-896A-D58160EC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103-CBE8-449E-8F02-1C7BFF2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5168-A710-4486-841B-BCE04EC48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c | Rising returns to physician education have occurred during a period that CEO compensation also has been rapidly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99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6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median chief executive officer compensation compar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erage U.S. worker compen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5495760"/>
            <a:ext cx="811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New York Times. The Wide Divide. April 6, 2006. http://www.nytimes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pages/2006/04/09/business/businessspecial/20060409_PAY_GRAPHI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ml?ref=executivepay (accessed November 12, 201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c | Rising returns to physician education have occurred during a period that CEO compensation also has been rapidly rising</dc:description>
  <dc:language>en-US</dc:language>
  <cp:lastModifiedBy>Jia Yao</cp:lastModifiedBy>
  <dcterms:modified xsi:type="dcterms:W3CDTF">2013-09-06T15:09:0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c | Rising returns to physician education have occurred during a period that CEO compensation also has been rapidly rising</vt:lpwstr>
  </property>
</Properties>
</file>