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86B8-0F18-4EA3-A8E1-6B36FBB71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B053-DD38-441B-A4DA-C59D72E3CD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8a | Major Sources of Payment for Personal Health Care Expenditures, by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1D3-B8AF-470A-B3A3-63723B7A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401-B00D-4D55-9ED9-087F85F5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E8A-F643-4EAD-90A4-A8368D98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B97-8E61-4BE2-BAC0-6808367E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9F85-3675-4E19-A859-347AA658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823F-C091-4DAB-86BA-A2D3D433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D03F-7B2C-403D-9635-CFE8415D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95C3-4E48-4201-8D34-38B9821A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A863-E104-4185-82B7-02FEB9FE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4B8A-2CAC-4905-B127-4F217E2B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6C54-8E38-49E4-B232-9DF22668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40E-0C2C-421B-BDFF-CEE10A1F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3F8D-FDF6-45FA-9B80-ED52372E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95D4-E0F2-45A0-B15B-4C82709C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D23E-95FF-403C-AF71-79994B2A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BF16-B5CF-4220-BFA4-6F7F02CB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7079-A31F-42B9-B97F-2D4F6DC1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8C6-1147-478D-B330-F45569A6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0B8-6302-445B-8B6D-F0BB5273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317-0B41-478F-90E2-EB5503CB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AAA-5A25-4248-8E21-9DA76C66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3DE-5B21-4FA6-B53D-668B1698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925-E125-4854-A9A1-A050539D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D40-63D4-4E56-96BD-2368117B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0D93-193A-4A15-9D56-177C1316E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6A15-13FE-4137-A56B-0B73FECE6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8a | Less than one eighth of Medicare spending is financed through beneficiary premiums, but this varies greatly by componen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8a | Less than one eighth of Medicare spending is financed through beneficiary premiums, but this varies greatly by component</dc:description>
  <dc:language>en-US</dc:language>
  <cp:lastModifiedBy>Jia Yao</cp:lastModifiedBy>
  <cp:lastPrinted>2002-05-16T21:44:34Z</cp:lastPrinted>
  <dcterms:modified xsi:type="dcterms:W3CDTF">2013-09-04T21:04:1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8a | Less than one eighth of Medicare spending is financed through beneficiary premiums, but this varies greatly by component</vt:lpwstr>
  </property>
</Properties>
</file>