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D57-DE66-45D5-A910-ACA4DD10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1C0-F175-41DA-BFD3-96148CBB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ABD-8D5B-47C2-8D51-7151CB11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86A-A96E-41DB-B761-323CD396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33C-6104-4EB6-8535-5F35684C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60A-E131-4943-978D-525F9497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C882-0F67-4CE4-8C8D-548D7520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FB5-69A9-447A-BDA9-A037D8F8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6F9-3F58-4A5B-8FB9-7C3EE8C5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39E-31A5-46B8-BB84-4DA877A1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535F-C55A-4AAC-8111-9116B9D5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310-9C7A-4551-A996-B83F7EE2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A080-7A44-488F-A4AE-89A68E217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355680"/>
            <a:ext cx="91076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7Z</dcterms:modified>
  <cp:revision>37</cp:revision>
  <dc:subject/>
  <dc:title>PowerPoint Presentation</dc:title>
</cp:coreProperties>
</file>