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F3D-FC26-460E-A661-EE5E8A99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69F-ADA5-4DBB-B51A-114726B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6136-1D13-4574-A06D-5E9853E3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CB2-6BA2-440D-9EDF-784A1432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F80-462E-4478-BA63-2440AD22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3C4-E3A5-48F2-B205-C572A16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785-1FF5-4AE2-AB74-CC3C4A69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D84-4FF9-4919-8C91-73ABA59E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76C-12D6-4A0E-A9EC-26F9A6E7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F2C-8ED1-44DF-9AAD-AB89C07A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1C0-E161-4846-A080-66A0DE1E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DC0B-31CE-4958-A51E-03DACBAF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EC3F-6253-4D79-883B-EE4AC6898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3Z</dcterms:modified>
  <cp:revision>38</cp:revision>
  <dc:subject/>
  <dc:title>PowerPoint Presentation</dc:title>
</cp:coreProperties>
</file>