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D821-3F53-416A-9828-AA3EF47E5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3A | UNEMPLOYMENT BY SEX, OCCUPATION AND INDUSTRY, 196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C489-3512-48BF-8D8B-F75D167EC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3FA-159B-4B3A-AFD6-5FEB33B6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EDA-8979-4123-85BF-4B8F8675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2C9-7920-4920-B07E-83C79E95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E09-1DCC-4EFD-B272-436BFADA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53A-66F4-4B78-8F0D-088705AD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742-0D84-4E28-9BE9-4C4F7A9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37A-214E-4F16-9C11-81E93631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D30-4D45-493E-BBE6-933AFE48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26B-D173-418C-ABC7-81D06831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B6E-C9DD-4124-BFFD-789CEF02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622-5F25-4CF4-B9BF-C2E70222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4A0-53F0-493F-B901-0E2CBE0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8398-02E7-4C82-B0A9-57B006871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3a | Unemployment rates among males working in health services are lower than for males overall; this has been true for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5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4749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unemployment rate within industry (perc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09480" y="571500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employment figures are for experienced workers only, not new workers 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ose reported as being "Not in Labor Force" because of school, an inability to fi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, or other reas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3a | Unemployment rates among males working in health services are lower than for males overall; this has been true for decades</dc:description>
  <dc:language>en-US</dc:language>
  <cp:lastModifiedBy>Jia Yao</cp:lastModifiedBy>
  <dcterms:modified xsi:type="dcterms:W3CDTF">2013-09-06T15:28:10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3a | Unemployment rates among males working in health services are lower than for males overall; this has been true for decades</vt:lpwstr>
  </property>
</Properties>
</file>