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9D20-F754-4CC9-A8BB-9DAA4EC1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DAF-608D-4127-BD99-9E13DBBF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019-020E-4627-9863-AE0FF481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BCE-CB7C-4AAA-AF8C-B2F8903B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157-6E96-465E-BC1A-9A18B686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B67-76C2-4938-88EA-734475E3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58C-6ECA-4549-88FD-5AEDB04A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2B7-33CD-4100-B27C-91954B48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AD7-BC0A-431B-9088-724C8B36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580-084E-495C-B5B8-671953E0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CBE-D3EC-45D3-AABD-ECAFB2D1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7817-BBF4-4AF8-AD68-B1B53FF1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F2D3-78D5-480E-882A-2B7A099C2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5Z</dcterms:modified>
  <cp:revision>31</cp:revision>
  <dc:subject/>
  <dc:title>PowerPoint Presentation</dc:title>
</cp:coreProperties>
</file>