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CEDA-856B-4B36-B518-B98A93320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978D-DD7A-404A-815E-D40D5A620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2714-FFBE-4D14-B84A-9E004F330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117C-119D-43F7-BCC7-F8796C207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65DC-F032-4E05-B08A-3C36B28E5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5406-39DE-4DAC-A779-BC509407B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D8D2-3C33-4BD7-9754-B44132E6F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C772-E05D-46D9-8A31-F7E75BE34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2A56-EC25-4127-8FB8-B051CABED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4EB7-2EA4-47CE-A60A-4D9D4B8C9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A6C4-F42E-4B42-A8D1-378AAE36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9B0E-AEDE-4885-8470-21F186BAA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66077-2FA6-4C87-81B6-C233BAE41A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28600" y="76320"/>
            <a:ext cx="870588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4:59Z</dcterms:modified>
  <cp:revision>31</cp:revision>
  <dc:subject/>
  <dc:title>PowerPoint Presentation</dc:title>
</cp:coreProperties>
</file>