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9BF5-2CCB-4EC1-851D-DFA41EB3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FFE5-BE1A-4F48-85A5-608E96B4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4F0C-E68A-4CEF-9982-45B1544FD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1A40-3A54-4606-AAC0-1B2A98EC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B15C-777F-4CDA-81C4-5035125F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0273-C7B4-40E3-AB3D-6B25AE3C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72A6-E232-4515-9AE1-E78DF1C3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965D-3596-4F6C-881A-39D1AAEC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4CB5-CB44-4287-ABC4-08D7E1BC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D66A-1925-4A48-B745-65DBA219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0E3A-F13C-4F28-9E7F-574EE7A1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71C6-DEDD-4423-AE2F-D2556483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AB2F-E7BF-40BB-B5AE-AAEB97DEB4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1Z</dcterms:modified>
  <cp:revision>37</cp:revision>
  <dc:subject/>
  <dc:title>PowerPoint Presentation</dc:title>
</cp:coreProperties>
</file>