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CF5-AD3B-4DE0-92C3-557F8D40B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6A | SPECIALISTS AS A PERCENT OF PRACTICING PHYSICIANS IN G7 COUNTRIES, 1994, 2000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B573-D726-40AB-82B8-76B8920F0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143-E61C-4E0B-A56C-D8CEA901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C44-D965-48E5-8180-A576B339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237-E4C1-468C-8E04-A7A634B1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2EF-8CD0-411B-8A70-828EE050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BF4-7B3E-4568-B82F-B56156B8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4A6-8849-48A8-AD2C-15CDB854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AC7-4220-4881-A77B-1582DE7F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3E5-EEAC-4696-96F1-EBF4CF6F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F10-2042-48CB-8EE2-55F2F67F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CF7-4D2C-492D-BF5A-042ADA10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DC9-4BBE-4C53-9E21-D45A3E5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DBF-3B9F-48E3-A8E3-474E2091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48BE-F3C1-4CA1-BB9A-CF2A44AE9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6a |  The U.S. is not alone in relying heavily on specialty physician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sts as a percentage of practicing phys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29460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6a |  The U.S. is not alone in relying heavily on specialty physician care</dc:description>
  <dc:language>en-US</dc:language>
  <cp:lastModifiedBy>Jia Yao</cp:lastModifiedBy>
  <dcterms:modified xsi:type="dcterms:W3CDTF">2013-09-06T15:40:5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6a |  The U.S. is not alone in relying heavily on specialty physician care</vt:lpwstr>
  </property>
</Properties>
</file>