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6A3-C624-4912-A643-20E2A537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E1F-6969-4074-8E9D-742C92F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A0D-1744-4313-ABE9-29C010DA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AA3-0542-4DE1-BA93-A6D98583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A17-AC7C-4824-A68B-5F9B644D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A59-E22D-4E20-975D-AB60024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F78-BF9C-48DC-ACC0-CE65886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0D1-E354-472E-BFE5-80CCBB5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599-DDF3-479A-8489-0F8AA97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B6D-5744-445C-A04D-B03C70EC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D6E-77E2-4495-885C-06CF68FD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13C-F907-425B-A5A3-6881ED41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8AD-16A0-4F28-A524-FD5AFD63F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5Z</dcterms:modified>
  <cp:revision>31</cp:revision>
  <dc:subject/>
  <dc:title>PowerPoint Presentation</dc:title>
</cp:coreProperties>
</file>