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60F1-95D9-4539-93A9-4B49B43FA7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0.5A | AVERAGE ANNUAL WORK HOURS FOR SELECTED COMPONENTS OF THE HEALTH SECTOR,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3961-741A-432D-9143-A558DAEC7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567-4F7C-4754-A945-0E688FAD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83C-FAEA-4F6D-A0DC-CA60CA77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F00-3C04-47B9-981E-C6BC61BA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522-919B-4840-9F13-6F23EB57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805-E21D-4006-A7C9-C6462AA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A9A-F9C2-4A36-A720-994637F3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F36-A6DF-4A40-AE06-7CF6DC26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E1B-B96A-4279-8ADA-9C1701DB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C93-5998-4AC2-8B20-ADC7B361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935-7380-46BF-B85E-53065C13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D65-F21E-499A-AB87-9535249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5D7-9E78-40F1-B797-3E5C138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7661-D625-4C6F-88DE-952A4B146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0.5a | Across the health services industry, annual hours per worker are shorter than in private business or general econom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549440"/>
            <a:ext cx="856008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verage annual hours of work per employe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4:15:29Z</dcterms:created>
  <dc:creator>Kristy</dc:creator>
  <dc:description>10.5a | Across the health services industry, annual hours per worker are shorter than in private business or general economy </dc:description>
  <dc:language>en-US</dc:language>
  <cp:lastModifiedBy>Jia Yao</cp:lastModifiedBy>
  <dcterms:modified xsi:type="dcterms:W3CDTF">2013-09-06T15:04:11Z</dcterms:modified>
  <cp:revision>12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0.5a | Across the health services industry, annual hours per worker are shorter than in private business or general economy </vt:lpwstr>
  </property>
</Properties>
</file>