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9BE3-D5C1-420E-A7E6-0B5C68A16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6A | UNFUNDED LIABILITIES DUE TO MEDICARE AND SOCIAL SECUR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89D7-072D-4730-A9CE-2DA08329A3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598-98BD-4608-BB5E-398FBDC5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008-1DD0-44AC-A5F8-51C3ECC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4FB-0373-4E3B-B1FB-73A3AEC6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A69-D239-42D2-8B20-873A6266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830-A122-4388-A99A-91B371F3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132-2012-4329-88A7-DCE26D60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F23-265D-4B75-9DFD-43264D3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DCE-889E-4CA9-9B2B-BEF7D947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A9E-998A-45B6-BF9D-58E88B43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EF0-365C-43FF-ACCF-1CC123D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298-FD1B-4F99-82E2-865EEB4E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590-D24C-47EF-B1CB-82EA3EF2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49E-D60B-44DC-81EF-F4600DDE0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6a | Even assuming the health law works as intended, unfunded liabilities for entitlements will exceed $80 trillion over the long 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et present value of unfunded liabilities (trillions of 2009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533520" y="529596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for Medicare Part B, Medicare Part D and Medicaid, unfunded liabilities are calc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ssuming the 2010 share of GDP represents current willingness to pay for these programs. 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rease in spending above this share is calculated as an unfunded liability for which hig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es must be paid eventu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6b | Even assuming the health law works as intended, unfunded liabilities for entitlements will exceed $80 trillion over the long run</dc:description>
  <dc:language>en-US</dc:language>
  <cp:lastModifiedBy>Jia Yao</cp:lastModifiedBy>
  <dcterms:modified xsi:type="dcterms:W3CDTF">2013-09-23T19:14:26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6b | Even assuming the health law works as intended, unfunded liabilities for entitlements will exceed $80 trillion over the long run</vt:lpwstr>
  </property>
</Properties>
</file>