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87B-5046-493B-AF2F-ECA1AD7E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1C5F-96CB-4D93-A374-72C3A3A9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25F-EA23-4720-9FA6-A2F7A61F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148-F5CD-4E06-9206-E3CD83D8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ED4-9A2D-42DE-8839-9CEF12E5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669-7955-41D6-B025-CABD6A2B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1A0-CD8A-4F1F-93F7-547EADD9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813-76AC-498C-B9DD-8E28A7D5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D3C-E757-4221-91E9-F45D049C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B18-38C7-4EE2-A722-C09D9C24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711-89D1-4E54-BAB4-1C726E75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B53-E7B7-4863-B97C-7A1F8E63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CC50-1F06-4F30-B245-0D27C53D3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236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3Z</dcterms:modified>
  <cp:revision>22</cp:revision>
  <dc:subject/>
  <dc:title>PowerPoint Presentation</dc:title>
</cp:coreProperties>
</file>