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8AB-DA9A-40B5-B843-FDB1B956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F54-942A-40D6-BA55-57D9875C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A1C-FDF8-4C2F-85B6-31EF10E7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EC2-1D3C-45FD-A0AD-67F2EB93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EEE-FCB3-4BFC-8871-E35EC9BF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C98-9EF1-40BD-BB43-A617F395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021-5803-4951-8761-4A122EF8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C70-9D5E-4CB3-A2C4-AC45B49D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67A-B09C-44FF-8F28-AFBB663E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904-A620-4E2E-B97D-810EA81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E5A-874A-45D3-A80C-EF405F8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F49-BF73-4071-A447-93E0EE6D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6DF2-5CE0-4C06-9768-561EC0830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9072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9Z</dcterms:modified>
  <cp:revision>20</cp:revision>
  <dc:subject/>
  <dc:title>PowerPoint Presentation</dc:title>
</cp:coreProperties>
</file>