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231-C006-497C-98B6-FE96B349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6DF-2AA4-4416-A91B-387E7705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73A5-43A8-42DE-B14A-7CA242E8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144-B314-440E-B27F-6004462E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6B4-80BC-4D4C-8821-144D4C39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86BC-327A-4D8F-814B-071BAAB9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6A1-631A-4886-A69E-5BD59549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C71A-E783-4503-93BA-8D84DE86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3D4-FCAF-4B57-AECE-6E90DC1B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B5E-E8CB-42D5-9A82-289E05A6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E49-25CD-43D7-A536-1E0F64D1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3CE9-F7D8-44D5-88FB-3C8FA5BB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8D6F-9379-4C8D-9CA1-EA6E5CF07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3080"/>
            <a:ext cx="914400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4Z</dcterms:modified>
  <cp:revision>14</cp:revision>
  <dc:subject/>
  <dc:title>PowerPoint Presentation</dc:title>
</cp:coreProperties>
</file>