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AB1-EEF5-4441-A641-CC47666F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457-2825-4694-8FBE-3EFFED66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C87-3492-4F36-B3CA-329F33B1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525-E9AB-48BD-92A6-CFC86460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A27-97A8-4FBD-A38F-5E038B4C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C93-AF3B-407D-BC84-F2802E40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683-4284-44EF-BFBF-70231569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04E-B281-4271-A3A3-CC51B2B6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50C-87A8-4796-9144-C676B087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78F-84D4-4244-BBD4-0CB51FE7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121-4C14-4EA0-849C-82FD0B52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FEA-06BF-4D2F-96DD-97849930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C5C3-DAE4-4CE8-B860-54143012C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39720" y="0"/>
            <a:ext cx="786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9Z</dcterms:modified>
  <cp:revision>37</cp:revision>
  <dc:subject/>
  <dc:title>PowerPoint Presentation</dc:title>
</cp:coreProperties>
</file>