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9801-21E6-4CEE-8B17-5D97141A1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2A | DISTRIBUTION OF PHARMACEUTICAL R&amp;D EXPENDITURES AMONG TOP 10 OECD NATIONS FUNDING PHARMACEUTICAL R&amp;D, BY COUNTRY, 1990, 2000 AND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FC98-3771-45C5-B3BF-52121B1DA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5D8-6070-4FDE-9A02-5C325381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B71-B3D7-4B9E-A307-3AEEEB9A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CE6-5161-4AD3-A303-9389630B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48D-D4D5-404C-84F3-8EA183A8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752-3AE0-458A-AC70-218ECD97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943-38A5-4F46-B588-5FAD0C14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7EF-7EFC-4973-A9E1-FCF7A361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0F0-C345-46EB-B358-996B115B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6A8-5B8E-4208-B561-865A80F2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119-9828-4944-9C68-AA9AC3C1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953-59AF-438C-981D-A8A966AA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4CA-0651-42B0-928A-79A9A9B9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9968-5B62-461C-A7BB-6C8FD89EB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2a | Among the top 10 global funders of pharmaceutical R&amp;D, the U.S. accounts for more than half to two-thirds of total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09840" y="472428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p 10 global funders of pharmaceutical  research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ranked by 2006 R&amp;D expenditures in U.S. dollars P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56640" y="137160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aggregate R&amp;D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47840" y="5486400"/>
            <a:ext cx="79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ata not reported for selected years in selected countries. Shares are of summed totals for countries that reported d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2a | Among the top 10 global funders of pharmaceutical R&amp;D, the U.S. accounts for more than half to two-thirds of total spending</dc:description>
  <dc:language>en-US</dc:language>
  <cp:lastModifiedBy>Jia Yao</cp:lastModifiedBy>
  <dcterms:modified xsi:type="dcterms:W3CDTF">2013-09-06T15:33:55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2a | Among the top 10 global funders of pharmaceutical R&amp;D, the U.S. accounts for more than half to two-thirds of total spending</vt:lpwstr>
  </property>
</Properties>
</file>