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9FC-F2FD-4127-A647-A7CBB9A0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B63-9EAE-458E-9A60-2F47BC45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5AA-64A1-4492-A240-96089949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2D0-0FAC-47D4-812C-6E083B60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55A-DBAC-422B-B553-85BF2174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7A1-5B07-461F-B48B-8DF3260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17F-CCA8-4588-8111-AD4F88E7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9D6-53C7-40EF-99ED-362664E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6C6-FED2-406A-9800-7958D65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B60-BCA9-4939-9DF4-1B6EE4C9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931-6BEA-4FC7-AA8A-2BAAEBA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0C7-2687-4554-AE6C-D46B2B9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4782-B7A1-426C-B19F-5929B1608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7240" y="76320"/>
            <a:ext cx="908676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50Z</dcterms:modified>
  <cp:revision>39</cp:revision>
  <dc:subject/>
  <dc:title>PowerPoint Presentation</dc:title>
</cp:coreProperties>
</file>