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C10-2218-4E8D-8695-A0F3BA15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C98-93DC-4E45-88DF-1B8833A6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CB9-117B-441E-BAFB-5E4A8480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639-B784-49E9-AE77-FA255933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3B1-8902-4A24-9AA7-6BBB0E49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A00A-0C62-4C10-9B5D-D1BA861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EC4-BC9D-4CDA-A151-A5DAB840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92C-6772-4E58-BB52-FD5CB04A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6A9-6EA5-4039-AEEF-F56FA95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9C2-606B-492C-8D0E-845F9D56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B6D-6890-43DA-B09E-DA01CDF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4A0-5054-4AAC-9D7E-820E850E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21F-B59E-4179-BECE-7BB9802EA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09000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0Z</dcterms:modified>
  <cp:revision>31</cp:revision>
  <dc:subject/>
  <dc:title>PowerPoint Presentation</dc:title>
</cp:coreProperties>
</file>