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3D4C-4B31-4D63-A16B-C400269E9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1D8B-2C78-4393-9997-147DD6C07E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2b | TAX SUBSIDY AND PREMIUM AS A PERCENT OF AFTER-TAX INCOME, BY INCOME CLASS: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ECC-A297-4005-86E3-23470AD7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935-804A-4881-89CD-6E4FF315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741D-743B-4C4F-A794-48203C4C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FA9-DE24-4BBD-9828-4FA36F84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08F2-886F-452A-8F2A-D1936475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F03A-3586-4FB7-B764-8DFF7E5A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E55E-E2E2-414D-8CC7-42C41860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E29D-0075-473F-8FAB-F7380234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337C-F43A-4BB3-9D01-A07E6660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67FC-E1CD-4C52-A9C0-480C74B2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B4B6-E8FF-4C63-8C05-2FA50DBE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8EA-2493-47F5-BF44-8F93575F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5C00-7716-496B-9A04-B9D159F7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DA01-4EC3-4CCE-8292-BAB6457D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BF46-08B7-43F7-A5FF-9D9E007E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8861-9939-4699-8852-0F1A0B8D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96A7-1C0E-463C-B0D6-BA12795B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2FD-53EA-49E2-9570-6626F888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558-DD40-4078-8E54-C50F2502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8E8A-AF5A-40BB-AA30-7292BE2C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A8F4-3AB3-4F93-AC34-C3C78AAC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B6B-82B8-4780-AA69-6AC2CB4A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FD32-1E07-4322-BE94-E5B129B8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34D-318E-498F-826D-1F79DB57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5E1B-C909-435D-911F-00FC5B8A0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778A-FA8A-48A7-BF17-79188D7D0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2b | The share of income needed for health insurance rises sharply as income declines; the tax exclusion mitigates this only slightl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44600" y="787320"/>
            <a:ext cx="852156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1240" y="5867280"/>
            <a:ext cx="9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Burman L, S Khitatrakun and S Goodel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x Subsidies for Private Health Insuran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o Benefits and at What Cost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bert Wood Johnson Foundation. 2009 Upd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ceton. July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2b | The share of income needed for health insurance rises sharply as income declines; the tax exclusion mitigates this only slightly</dc:description>
  <dc:language>en-US</dc:language>
  <cp:lastModifiedBy>Jia Yao</cp:lastModifiedBy>
  <cp:lastPrinted>2002-05-16T21:44:34Z</cp:lastPrinted>
  <dcterms:modified xsi:type="dcterms:W3CDTF">2013-09-06T13:50:43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2b | The share of income needed for health insurance rises sharply as income declines; the tax exclusion mitigates this only slightly</vt:lpwstr>
  </property>
</Properties>
</file>