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031-F1D1-462C-B053-71DDAAA7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DC8-9C90-4ED2-867D-54921C17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309-A3CD-4DF6-A1E2-2DDEB3F8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442-81BE-4DCC-BEE0-33DD0705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752-9652-456F-88B1-0594D773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6D81-E0C2-40CA-A426-0B6AD730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653-32F5-4E93-8E6D-33236FA7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B87-E95F-413D-9980-030B9007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547B-452B-47CA-9A1F-C5F8C217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4AB-11D2-4050-80C5-D5D4631E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BA3-8B5A-466E-B9B8-C7786809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2A6-AD3C-4164-BD73-1551A4E6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04CC-236F-4CC0-A7AD-39F603C79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160"/>
            <a:ext cx="915984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4Z</dcterms:modified>
  <cp:revision>8</cp:revision>
  <dc:subject/>
  <dc:title>PowerPoint Presentation</dc:title>
</cp:coreProperties>
</file>