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65D-4475-4B4D-9346-DE5B6FFB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BD2-E4F1-4C0E-B198-FC3B9AFD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89A-D64A-4C8D-A210-DF2B3E37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739-C610-4881-82D0-07DD9C08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A06-3544-4DA9-87BE-F70B1FD6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78E-C01C-4757-BA00-58CBD83D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0A2-07B2-4933-B1F5-6AD79A5B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ABA-034B-4A64-AC25-C9FCF839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D86-190C-4159-AF97-08529706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62B-88B7-4357-9003-BC8DFDE7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148-136E-4BE6-88C7-EBAE6427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DFA-5BEE-4B14-BB22-A9B3743C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B411-4E61-4B3A-9CE2-6B4CBB1FA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3Z</dcterms:modified>
  <cp:revision>8</cp:revision>
  <dc:subject/>
  <dc:title>PowerPoint Presentation</dc:title>
</cp:coreProperties>
</file>