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1DB-1562-47F1-BA69-20539976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E97-269C-4A32-819E-3769D4F9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1711-2DD2-45B7-8B6D-D0520143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54E-C4BA-4824-A102-967DEF28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FBFE-432E-49D9-A642-4C7D50E9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641-51B2-49B6-87CC-2050B211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BF7A-0F3C-49AD-BAA2-8A9B14F0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4CA-8099-4F3B-AF2E-7E68B9AA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77B-0159-411B-8187-D7250438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1FB-8C95-4A21-8BF7-611C5A84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A57-7E7E-45E2-87EC-BB989C12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4914-28C2-42D0-8A71-19346288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EE14-C382-4C6C-B782-A6117B886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3920"/>
            <a:ext cx="913752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1Z</dcterms:modified>
  <cp:revision>10</cp:revision>
  <dc:subject/>
  <dc:title>PowerPoint Presentation</dc:title>
</cp:coreProperties>
</file>