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B2F-6707-43C5-86C0-5469828C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3CF-783B-4860-BB6D-63ED926E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375-2124-4318-85F8-4F3985B5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ACB-DDD8-414A-9B48-0AABBCDF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578-3AFB-44AB-8C1A-297A0614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E71-A565-4F2C-A87D-8D48F935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810-1308-4DFB-A540-DE683231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80A-1099-4B05-AE66-E4858C64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FAB-4785-4777-861C-81B3342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E34-A138-40FD-BA91-9F83AFD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551C-598A-4AB1-A463-90953915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55C0-C149-41EB-AD5E-11D3D531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22A0-8DFA-4290-B63B-047182906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1000" y="457200"/>
            <a:ext cx="8982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0Z</dcterms:modified>
  <cp:revision>39</cp:revision>
  <dc:subject/>
  <dc:title>PowerPoint Presentation</dc:title>
</cp:coreProperties>
</file>