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5B52-D488-46E9-A894-ADD0EC31AD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1.4B | RATIO OF COMPENSATION FOR HOSPITAL NURSES TO COMPENSATION FOR ALL WORKERS, U.S. AND SELECTED OECD COUNTRIES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3A52-4493-4E47-A973-DAA7F8D441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FB66-81D3-4B21-A9B6-FDCDDBC68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B36C-0243-4372-90FF-1873BA25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DADF-086D-4D84-8DDC-B7C7AF691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2429-4B54-46AF-98A5-EE2E7EE57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A199-00C8-46FE-B5CF-388DDF8A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BF4A-89AF-449A-A394-F8676118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3B7B-6F48-45F7-8421-197B0C6A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4070-0D65-4894-A659-BA2A30B9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0278-E587-4611-830F-A7687FAF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0D1E-5999-4E4A-B177-4AAF17D6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2324-1349-4B63-86DC-7B5B6438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AFB8-9252-48B2-A3D6-8993A768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8F8C-FB76-46D3-8C00-00195B936D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1.4b |  American h</a:t>
            </a:r>
            <a:r>
              <a:rPr b="1" lang="en-US" sz="2700" spc="-1" strike="noStrike">
                <a:solidFill>
                  <a:srgbClr val="000000"/>
                </a:solidFill>
                <a:latin typeface="Arial Narrow"/>
              </a:rPr>
              <a:t>ospitals nurses are paid more than twice the average worker wage, but the same is true elsewhe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549440"/>
            <a:ext cx="871200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14080" y="1752480"/>
            <a:ext cx="790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tio: annual compensation of salaried hospital nurses relative to all workers, 20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4b |  American hospitals nurses are paid more than twice the average worker wage, but the same is true elsewhere</dc:description>
  <dc:language>en-US</dc:language>
  <cp:lastModifiedBy>Jia Yao</cp:lastModifiedBy>
  <dcterms:modified xsi:type="dcterms:W3CDTF">2013-09-06T15:08:52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4b |  American hospitals nurses are paid more than twice the average worker wage, but the same is true elsewhere</vt:lpwstr>
  </property>
</Properties>
</file>