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0B2A-5258-4E1F-B640-D87DF8E2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8A | HEALTH CARE SPENDING AS A SHARE OF AVERAGE ANNUAL PERSONAL CONSUMPTION EXPENDITURES, BY HOUSEHOLDER AGE, 1984, 1996,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030-F4CB-41AE-AFDB-C9661C4BB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921-D4EF-4946-8E81-4B7AD538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B8D-FAD4-4458-8BF7-48765EA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4D5-91C3-440A-8495-82683B1A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C77-17FB-421C-A1FD-30869F83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EE3-8BD2-4D42-9E77-3FDC6D8B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F92-CDC6-4225-BB1C-FDEF08B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4DC-25B3-4469-9401-63A0F290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B37-8293-4CC4-906F-EB38A6DE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B34-89A7-4994-A07B-13A41E4A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7B0-31CA-40E0-A77C-278675DA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244-83B1-4213-AB57-0A868AC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510-FD0F-473E-8181-4EC366D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A056-C5E6-46BE-83B5-7145BD00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8a | The share of consumption spending devoted to health has grown faster in elderly households than non-elderly househol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2235240"/>
          </a:xfrm>
          <a:prstGeom prst="rect">
            <a:avLst/>
          </a:prstGeom>
          <a:ln w="0">
            <a:noFill/>
          </a:ln>
        </p:spPr>
      </p:pic>
      <p:pic>
        <p:nvPicPr>
          <p:cNvPr id="50" name="Chart 6" descr=""/>
          <p:cNvPicPr/>
          <p:nvPr/>
        </p:nvPicPr>
        <p:blipFill>
          <a:blip r:embed="rId2"/>
          <a:stretch/>
        </p:blipFill>
        <p:spPr>
          <a:xfrm>
            <a:off x="406440" y="3149640"/>
            <a:ext cx="8331120" cy="18540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3"/>
          <a:stretch/>
        </p:blipFill>
        <p:spPr>
          <a:xfrm>
            <a:off x="406440" y="4521240"/>
            <a:ext cx="8483400" cy="2387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8a | The share of consumption spending devoted to health has grown faster in elderly households than non-elderly households</dc:description>
  <dc:language>en-US</dc:language>
  <cp:lastModifiedBy>Jia Yao</cp:lastModifiedBy>
  <dcterms:modified xsi:type="dcterms:W3CDTF">2013-09-06T14:06:34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8a | The share of consumption spending devoted to health has grown faster in elderly households than non-elderly households</vt:lpwstr>
  </property>
</Properties>
</file>