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1819-F6E0-478A-B270-D4A2F4745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5CAC-32A1-4E12-9403-BD4B9292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F929-B096-4D19-9CB8-B7873D03A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AAF4-0D6E-4A4A-A418-8F78F2D06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8FDC-AC62-4A9A-B9A3-183F6109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1E0D-DEDF-46D4-BC63-C1280569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40CC-9ECE-4981-B17B-2C493785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9428-FE50-4BA0-84FE-19F38AE2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1C1E-E767-46DE-AED8-AF140625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B472-E1B7-4201-96E2-B5F585E7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BBAE-1560-49E8-95F3-C9360BCF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EB5A-87D4-400E-8CE7-AD496B8F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33D3-F80E-465A-B1E5-64B0D9FCC3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25280" y="1295280"/>
            <a:ext cx="8893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51Z</dcterms:modified>
  <cp:revision>26</cp:revision>
  <dc:subject/>
  <dc:title>PowerPoint Presentation</dc:title>
</cp:coreProperties>
</file>