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2AF-7C49-4766-BD96-DDC13474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80B-5FB3-4EB3-A4DA-049F1BCF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51F-8D1E-41FF-8B7A-81A3BDE0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B8A-A2F6-4E12-8C14-78FD1B19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F6B-3E67-4665-8218-FA74DD22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740-EB10-40BA-9B90-1ED4AFF4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51F-173F-450B-B397-88155AFF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3A6-BC45-4AAD-B44D-36221910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701-10E9-4E98-9205-550D7BC0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AFB-4AE7-46AC-BEAA-F398833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6D8-7268-4CBB-B4CF-7C76A80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CA2-492B-442F-BD5A-1C033E2A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4870-47D1-4A51-BDB6-7C038F4E7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8Z</dcterms:modified>
  <cp:revision>14</cp:revision>
  <dc:subject/>
  <dc:title>PowerPoint Presentation</dc:title>
</cp:coreProperties>
</file>