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72CC-87C6-430B-BA03-EE3EDA27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8B8-13F4-4DA1-80E0-35552338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B7E7-41EE-44EA-BFE2-A53F898F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750-80D8-4B90-A129-A4DBF09A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21E5-6072-490E-86AE-1955D3A7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D3E4-6917-4FAD-81CE-1E193570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A90-C9F1-485E-BA7B-D54C0A5B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AD45-79D5-444C-A62B-9EAE4F54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645E-5384-4FED-A735-3A8B19AF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CCF4-CCD4-479F-B1CC-D27E226A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BA2-C9B3-4E8B-881D-9ADF20FF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C9D-9B21-4060-B198-93D2AB25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36AB-4D24-4CAB-8032-FEF80ADC6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480" y="152280"/>
            <a:ext cx="9023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3Z</dcterms:modified>
  <cp:revision>10</cp:revision>
  <dc:subject/>
  <dc:title>PowerPoint Presentation</dc:title>
</cp:coreProperties>
</file>