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B63A-A94F-4A52-81D2-9334166A8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B | YEARS OF POTENTIAL LIFE LOST BEFORE AGE 70 PER 100,000 POPULATION VS. HEALTH SPENDING PER PERSON, U.S. STAT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5B1E-BC98-48F6-A5C3-0B18E1F0C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7F9-DA5F-4980-9270-D0A6A801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5D6-2240-4187-848B-BD99495F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2A0-215B-4313-BE51-D7D66B3A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395-DFD8-4D29-A15D-D7537F90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A5B-FB98-4AFE-A9B6-EF8AD5DD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9A5-4BC4-4229-9ED4-8B34F3EC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274-13C6-44B7-B2B8-7B7FEF8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8086-5B30-479E-9556-C42E281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BFA-9887-4537-8535-767C227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031-2B14-49BF-9366-A9823F4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AC8-CBE3-4CBD-B9F9-E292DBBE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4BC-3178-4362-A5A8-40ED6C9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1210-E28F-415E-9F15-A80290839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b | But there also are wide differences in years lost due to premature death across states even at identical health spending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243000" y="1397160"/>
            <a:ext cx="8761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286000" y="5943600"/>
            <a:ext cx="55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resident in 2004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b | But there also are wide differences in years lost due to premature death across states even at identical health spending levels</dc:description>
  <dc:language>en-US</dc:language>
  <cp:lastModifiedBy>Jia Yao</cp:lastModifiedBy>
  <dcterms:modified xsi:type="dcterms:W3CDTF">2013-09-06T15:40:41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b | But there also are wide differences in years lost due to premature death across states even at identical health spending levels</vt:lpwstr>
  </property>
</Properties>
</file>