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2544-67F5-480B-83B3-05ED4543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4299-258F-47AB-B03B-60B9018A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4EED-1092-49F9-8674-13F13686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7E51-1FC7-47BE-B56E-4A7A4542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1332-8E71-44AA-A7A7-393D66A9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37BF-4101-4E13-8B41-72898510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356A-CB28-4250-A4E5-B1012DB9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85AE-D5D8-4BC4-8B47-71D19198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01D6-7D4D-431F-B225-900EBC3E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C3DA-89CA-44D9-96AF-64E9602E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757D-B558-4C43-B54A-3A20284B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DBE6-734F-4534-8EB5-F856A944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99EC-CE44-4B7F-B006-F98DA7F82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91960"/>
            <a:ext cx="9144000" cy="62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9Z</dcterms:modified>
  <cp:revision>8</cp:revision>
  <dc:subject/>
  <dc:title>PowerPoint Presentation</dc:title>
</cp:coreProperties>
</file>