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E94C-BFF4-4A38-B048-E8681263D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F883-C571-4ACA-A7E5-C597C184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38D7-1213-4558-A5AD-4F684D794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788B-79A7-4ACB-B099-2C3856A7F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0D96-4FA2-4251-9FA6-E33C48A1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D23F-35AC-44B0-9E3F-BB12E3A8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0EC7-88A4-4DAD-A1A8-2DC0EE00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5898-0B12-442E-85B3-AA36682A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099C-E1AC-4E87-95BB-DF6DF239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D4A3-DAF4-42FF-9CE7-ED26B7B0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DDB5-739C-43CF-8026-1126842F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6CFB-B684-4237-86D4-55FDECA6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145B-EFB0-4770-A337-C626AB14E9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4920" y="0"/>
            <a:ext cx="897264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31Z</dcterms:modified>
  <cp:revision>35</cp:revision>
  <dc:subject/>
  <dc:title>PowerPoint Presentation</dc:title>
</cp:coreProperties>
</file>