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C15D-AC96-42CC-B879-AD8DBD4E9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1.1 | TRENDS IN EARNINGS AND SUPPLEMENTS TO WAGES AND SALARIES, 1948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BE71-8235-4384-9A96-9AF51657F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E1A-48B8-4743-AA06-5E2CEE9A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D45-B012-4C32-8AFB-DA1C587E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BDD-1F01-4BF8-8E92-5C177306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338-15D9-4860-833C-2BDB8310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680-6F47-472D-A81E-7949B76F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F7C-37F1-4510-8520-062BC339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EB7-EF43-4E25-8B0B-E7BBB16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40D-38D8-4698-8AF8-613DBB35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B9E-1290-424B-8474-11DDE730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B34-BF03-4A7F-A4CE-AF22219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964D-0B9A-457B-9BD3-25A4B95E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390-6613-42D7-AE96-FB18CE95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AD4-7BA6-4E36-889C-A9381C709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1 | Rising health-related supplements are an important reason real hourly earnings have grown less quickly than average compens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858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ation-adjusted hourly wages index using personal consump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nditures deflator (1948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1 | Rising health-related supplements are an important reason real hourly earnings have grown less quickly than average compensation </dc:description>
  <dc:language>en-US</dc:language>
  <cp:lastModifiedBy>Jia Yao</cp:lastModifiedBy>
  <dcterms:modified xsi:type="dcterms:W3CDTF">2013-09-06T15:08:3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1 | Rising health-related supplements are an important reason real hourly earnings have grown less quickly than average compensation </vt:lpwstr>
  </property>
</Properties>
</file>