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B5C1-24A0-426F-8FB6-62D25EE41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6.1 | AVERAGE ANNUAL CHANGES IN HEALTH EXPENDITURES DURING ECONOMIC CONTRACTIONS, 1948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0ECA-A535-4F4B-858D-1F8F6E184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11B-F909-45BF-8416-56C1EEB9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C20-30D5-49CA-A628-55955CA4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0D2-43BC-4FBB-958D-AC789756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831-3D37-48F9-AB99-1039072E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2C0-D105-4CB6-B1D6-E4FFCE3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F20-8A26-4F53-A509-CC32DCFC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4F9-6907-42AB-BB3F-6643413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CA1-FA9A-4CF8-9C90-5B14586A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661-E116-460B-8775-3FEAAC6C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10D-5757-4810-8667-CCDFB52C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719-75CF-42C3-A264-672480AF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0BC-F087-44D3-9F64-31A9ACE9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A4D-5D66-44FC-B2C4-1791C210F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6.1 | Aggregate health spending growth appears to be largely independent of fluctuations in the business cy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106668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1960" y="6172200"/>
            <a:ext cx="80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=rec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5:25:35Z</dcterms:created>
  <dc:creator>Kristy</dc:creator>
  <dc:description>16.1 | Aggregate health spending growth appears to be largely independent of fluctuations in the business cycle</dc:description>
  <dc:language>en-US</dc:language>
  <cp:lastModifiedBy>Jia Yao</cp:lastModifiedBy>
  <dcterms:modified xsi:type="dcterms:W3CDTF">2013-09-06T15:28:06Z</dcterms:modified>
  <cp:revision>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6.1 | Aggregate health spending growth appears to be largely independent of fluctuations in the business cycle</vt:lpwstr>
  </property>
</Properties>
</file>