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0D20-2A9E-46B0-8655-E7C37CA99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7B | PHARMACEUTICAL WHOLESALE PRICE INDEXES, RELATIVE TO U.S. PRICES (US=100)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43C4-D1E0-4973-88B0-434817DD8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585-F92F-4E79-8CC2-D70DBC86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AB8-AC45-48C4-865C-EE94444F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72F-7DA0-4360-9EE4-3A51971E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DF2-7FC3-4483-B1BD-E0A8F6F4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5B2-E488-4A42-B319-2FC07577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759-E7B7-4A6A-967B-03AE7239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5EC-FB5D-4CE8-823A-6526D21F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9D5-79F9-496C-9B0C-47EA198F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CA3-C661-49BA-918E-61BD54C9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28E-3D57-4C05-AB23-13A75CD4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1A9-F99A-4DC8-8AD4-E99E36F9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AE2-94EC-47CF-A0AD-642D4AFA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6242-BA84-41BE-B17C-FBC9DF214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7b | Manufacturer’s prices generally are higher in the U.S., but U.S. pharmaceuticals are generally more affordable due to higher incom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 price indexes: 100=U.S.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64920" y="60199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anzon PM and MF Furukawa. International Prices and Availability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s in 2005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221–3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7b | Manufacturer’s prices generally are higher in the U.S., but U.S. pharmaceuticals are generally more affordable due to higher incomes </dc:description>
  <dc:language>en-US</dc:language>
  <cp:lastModifiedBy>Jia Yao</cp:lastModifiedBy>
  <dcterms:modified xsi:type="dcterms:W3CDTF">2013-09-06T15:41:03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7b | Manufacturer’s prices generally are higher in the U.S., but U.S. pharmaceuticals are generally more affordable due to higher incomes </vt:lpwstr>
  </property>
</Properties>
</file>