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1E277-E12B-4F96-95BB-659A9AF1A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9E89A-38CD-4ABC-A5BB-E397372D5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1D1F8-ABF6-430B-885A-F85FFE2F5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3640F-0EFB-472D-B46D-AEF1C0716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FC4C2-58A9-4EB1-89BC-DD14AC580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837FC-D73F-40D5-935B-F5483A82A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4D39C-AB59-4034-8608-6ECAA5B31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137B0-8704-4255-95F1-AEFC5B79D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492F1-65F0-43A8-B1B9-C0CF7551D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E3C93-F0B3-4243-9B86-AA79650B0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567B5-8827-42C8-BB30-FBA6B08F8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62596-8384-4DFB-A321-F35B477C5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8155C-589C-4586-B669-CE6DB7E35F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20520" y="304920"/>
            <a:ext cx="9123480" cy="62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3:23Z</dcterms:modified>
  <cp:revision>14</cp:revision>
  <dc:subject/>
  <dc:title>PowerPoint Presentation</dc:title>
</cp:coreProperties>
</file>