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345D-31B8-4CA7-885B-D648E4451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6A | LIFE AND WORKING-LIFE EXPECTANCIES FOR MALES AGED TWENTY YEARS, 1900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77D0-1A85-4DE8-A13A-D50C5325C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1CF-0481-4DC9-AA25-C9414D49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5C4-D709-409A-9ADB-E68C72A1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3A7-0A53-4896-B43A-BF22447C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C72-E4D6-4843-A401-964674E2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A76-A485-470B-9EB7-F4B89022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606B-A054-43DC-BC07-021BF313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294-B7BA-4620-964B-9EEBC08B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C3CC-5C6D-415F-97B6-019B0A19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FD7-7560-41A5-B55C-20E29A4B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B14-C02B-4000-A65F-BEBAB8F5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9B2-36AD-4EBA-A389-CA3273E9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104-36F4-4073-A507-8E66F7D3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CCD9-CDE8-4DE6-AA26-66141BBF7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6a | The health sector helped contribute to increasing male life expectancy over the past century, yet working-life expectancy decli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dditional years of life expectancy at age 20, 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6a | The health sector helped contribute to increasing male life expectancy over the past century, yet working-life expectancy declined </dc:description>
  <dc:language>en-US</dc:language>
  <cp:lastModifiedBy>Jia Yao</cp:lastModifiedBy>
  <dcterms:modified xsi:type="dcterms:W3CDTF">2013-09-06T15:04:16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6a | The health sector helped contribute to increasing male life expectancy over the past century, yet working-life expectancy declined </vt:lpwstr>
  </property>
</Properties>
</file>