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267-9446-47CC-830C-A5741B1B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5A9A-3894-4E45-8E77-CAC65C97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81DD-2897-4586-921A-D143466A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8178-9D39-4154-8938-D5A3926F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1E2-432B-4C4D-8A5D-3C961243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691D-C1CB-4432-A99B-2F5BB40E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3F0-3795-4830-832F-E5C4F55D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FEAF-1920-4B4C-B263-1602C6F2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F04C-47E3-4034-BF62-918AC007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4A78-9DDE-4A0F-AB55-7D2B0174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9A53-ED81-45D0-A4F8-C7392B95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C6A6-270F-41F4-87E8-13FD1477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30A8-5B66-4D2A-9C57-0674420FE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360"/>
            <a:ext cx="91551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5Z</dcterms:modified>
  <cp:revision>20</cp:revision>
  <dc:subject/>
  <dc:title>PowerPoint Presentation</dc:title>
</cp:coreProperties>
</file>