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8AB1-FFFE-43CE-8C47-A665E855C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5066-47E2-436A-B5DB-7BCE18B89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D2BD-41DB-433E-9B6F-1A0A5A251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C36A-A8F6-4735-A107-6E0693345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B823-6D2B-4D41-8C70-C5813F31F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D1A2-17BB-4396-B220-78FD74D9C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3E5F-335A-4721-A1D9-85F18157F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C0EF-CCC8-44D5-84DA-2D263E7A5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2B6B-5E49-4465-8E7B-C8ED8864C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EBBC-DE32-4FD9-8CFC-6F7E57B4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D311-5507-4334-89D8-8C522F97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004D-136C-478F-9709-08D4A00F4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CF401-6ED0-4DFC-BD67-25FF1CA689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5160" y="533520"/>
            <a:ext cx="90136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8:20Z</dcterms:modified>
  <cp:revision>37</cp:revision>
  <dc:subject/>
  <dc:title>PowerPoint Presentation</dc:title>
</cp:coreProperties>
</file>