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FBE-D736-4D7C-B8F6-3206941C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7FE-E450-406A-9F53-23E8DE55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A74-C763-4300-BC9B-4935544F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B4C-4021-41CD-94DB-16720721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38C-8B1D-4E29-A6C1-CD3B2522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5E4-4A64-453C-A4BC-552DD936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892-BB3B-4606-8A94-8DA90118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4E8-4F2D-4DB1-83FE-7EE9C9D1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9AD-C2EB-491C-BB3F-275B65EA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865-9B4E-4F69-9DC2-16469261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78D-3DF3-4C0C-8672-481488A8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C90C-195D-4E2D-87B0-F1E0A06E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3CAF-F649-480A-8BEB-63BA2B414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080" y="1523880"/>
            <a:ext cx="90518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4Z</dcterms:modified>
  <cp:revision>31</cp:revision>
  <dc:subject/>
  <dc:title>PowerPoint Presentation</dc:title>
</cp:coreProperties>
</file>