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C14-09A3-4912-B239-4E012B89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14A-4058-4CC0-862C-FB60820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98A-B252-42AC-AF67-7A4CD040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738-DA35-4F19-B48E-5DC0DC23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E92-6513-42A7-92ED-010002E3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47D-C166-4272-943E-2E7F2A57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732-7F7F-4C64-AF49-F5710B3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D6C-8FC3-4557-A063-B8C137EF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972-4E3D-44D9-8E39-B0A98977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B3A-35CB-46A9-B261-EA10A54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823-5680-40AB-8138-9209B1E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ABA-9A85-42D4-9C53-ACC7C4A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17CA-6070-4E6B-815F-56D8CC10E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9115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7Z</dcterms:modified>
  <cp:revision>22</cp:revision>
  <dc:subject/>
  <dc:title>PowerPoint Presentation</dc:title>
</cp:coreProperties>
</file>