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BE9E-094C-44CC-B63E-C234B219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219-FE74-4CF9-B90E-2E1F0896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BE0-AB1D-488C-B80B-91B0A63F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394-4279-40E3-B409-8BC0945D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EF0-6AF4-47DB-9EAB-5EA829BB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424-64D4-4E6B-80DD-81DD11EF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FBD-EAA5-4D6F-AD7B-C695EE4C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6A3-9528-4CAC-B3F1-03FEB832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BF2-9FEE-4990-A4A5-AF53019B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607-7428-40DC-8B8B-39D91FDD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9F4-8160-40F8-86A5-4CBB2310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CE8-58FB-4326-84A2-7ACBF28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61F0-8D67-4A51-8702-5E84A564A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160" y="990720"/>
            <a:ext cx="9121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0:52:45Z</dcterms:created>
  <dc:creator>Jia Yao</dc:creator>
  <dc:description/>
  <dc:language>en-US</dc:language>
  <cp:lastModifiedBy>Jia Yao</cp:lastModifiedBy>
  <dcterms:modified xsi:type="dcterms:W3CDTF">2013-09-06T20:54:08Z</dcterms:modified>
  <cp:revision>1</cp:revision>
  <dc:subject/>
  <dc:title>PowerPoint Presentation</dc:title>
</cp:coreProperties>
</file>