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E099-822A-49CF-9209-E9064B7B38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7a | Multifactor Productivity Growth in Health Services, 1990-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B2CC-71C8-4E2D-A596-7F162CBC1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B82B-2502-4BBE-9D95-48D78F0C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613-5C31-4424-951D-95D3897C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B4F1-1F90-4A74-B45D-388FD633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46A7-E873-4BCA-9EE5-15DBD110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0EFF-E435-409F-A34A-6232D47B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A09B-3A79-4C9C-A49C-25C4B28B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71F6-7B23-4B71-B4C5-CB91EE97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B792-E476-4B49-A5C6-B258C45B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529D-5CC5-47BB-AC57-E37296BE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7D28-2DF1-4B64-AEAF-3A38A068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0702-753F-426D-9D30-06F7FD16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C475-74D6-4FD4-AD3D-2DFECB84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BC5C-FC85-489B-8595-1860EF952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7a | Multifactor productivity growth has steadily increased in ambulatory care over two decades but still is negative for health fac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143000"/>
            <a:ext cx="195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rate of change in multifactor produ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7a | Multifactor productivity growth has steadily increased in ambulatory care over two decades but still is negative for health facilities</dc:description>
  <dc:language>en-US</dc:language>
  <cp:lastModifiedBy>Jia Yao</cp:lastModifiedBy>
  <dcterms:modified xsi:type="dcterms:W3CDTF">2013-09-06T14:59:35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7a | Multifactor productivity growth has steadily increased in ambulatory care over two decades but still is negative for health facilities</vt:lpwstr>
  </property>
</Properties>
</file>