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EB0-AC8D-496A-A60B-B151E441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0F5-E541-4806-A461-F17A1AAE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9CF-4827-4557-A44F-833C098F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50F-AAC5-478E-B7A1-39D4237E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269-2211-4300-B058-418DD666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ED5-7D51-4FE9-BEF3-675D3C38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B23-BE0F-41D4-8454-D9C48DB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A0D-8BA8-44B5-9E0D-819D15C8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EE4-27AF-4001-A3FD-C3E12D30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1F0-51D8-48CD-BDE3-7BFC1FD5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1EF-876A-40B6-B40F-FAD4C50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4AE-9BA0-4F15-8515-B3A241F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C8C4-FF47-4EA3-8C06-BF7E477A3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380880"/>
            <a:ext cx="90518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25Z</dcterms:modified>
  <cp:revision>31</cp:revision>
  <dc:subject/>
  <dc:title>PowerPoint Presentation</dc:title>
</cp:coreProperties>
</file>