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D85-91C4-4B88-8BA0-6BD9580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1C82-52BA-4E6D-84A7-BAF9B17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6A6-2325-43CE-AC35-BE05CD19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7D1-E138-466C-9322-F62259E0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260-34E1-497A-A5F8-B4B81741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486-3B73-4350-8D46-B719709E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D5C-B663-4924-B865-A6DCF090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926-79B8-46E8-98BB-0393B6D2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8CB-BB15-470D-9334-109F5991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672-8D15-4503-B0A7-797929F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DC0-544F-4BD8-A587-EA1DB432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59E-8EC7-4E94-A327-EFA50DB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6FF1-79C0-4A0E-870F-662DD5D39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65160" y="0"/>
            <a:ext cx="721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5:23Z</dcterms:modified>
  <cp:revision>31</cp:revision>
  <dc:subject/>
  <dc:title>PowerPoint Presentation</dc:title>
</cp:coreProperties>
</file>