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46DE-6D54-40D3-A033-6726A35C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B62-CB72-4097-90DA-0827D460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EED-0D2B-4762-859A-992066EB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64A-6AB9-40E1-B88A-0351C4DC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A57-C42B-4C3C-A873-7E7664D6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5F5-7810-49FF-AF2A-F320410C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840-044E-4D3D-991F-B64142F7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6EE-3EE6-4F34-B4E3-F2A818D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CFE-889C-4EEA-808F-5AEAA457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011-0720-4529-85F5-3FA2A1F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77A-F92F-47AD-82D6-1B6DDB78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A90-EC6E-44EA-9FF5-7FCBC45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DB43-AD1E-48C4-A60B-CD3E7AAB0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42920" y="1066680"/>
            <a:ext cx="88581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4Z</dcterms:modified>
  <cp:revision>39</cp:revision>
  <dc:subject/>
  <dc:title>PowerPoint Presentation</dc:title>
</cp:coreProperties>
</file>