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CEC9-E60E-440A-9F38-2103EEF50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0E68-9F36-41A8-B09E-1AEBAD47E5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3a | Personal Health Expenditures as a Percentage of GDP, by Source of Payment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813-D90F-4297-9A95-0F4AD683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B19-73E1-407F-858A-15A0CE24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4AD-CFEF-4343-9C80-FFF24D10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4A8-927A-4E85-82C2-8FFFA371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DB5F-6450-4CA2-A0AF-CB7FA059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C057-E144-43D4-8238-1149B838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0328-7441-4599-894E-3DB7B8D5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17D-6356-49FD-8E8E-99915AD4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5458-0FAF-41EE-9DF9-06C33003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D22-C265-4A67-8D25-4C41905B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1BF6-5997-4BB0-A2B4-CB74BCA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72F-316E-4272-9ECC-24CD54DA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D076-5635-40EC-855C-AAD76BE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CC05-1D99-4AA9-A82F-3B675BE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509D-C68D-4924-9716-67B509D9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14EE-DEBB-4645-8B8D-97B7E441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566A-A555-4CCA-9737-01C6D9E7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CFA-FAA4-403A-8707-C8F0B060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678-26C3-4AA7-ABEB-B7772D7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604-0C5B-4EAD-857D-C773DFFE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2E6-B496-4279-8A0D-35E2E04F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8F4-6E26-421B-86D2-636C663F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767-AE59-43F1-A45D-38323E3F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B17-8A5D-48EC-AAEF-DDA9BAE3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10AA-FF17-4B7F-9467-D662CEA73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9E01-C5C6-46CE-B7C4-F12D286D0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3a | Since 1949, all of the growth in the personal health spending </a:t>
            </a:r>
            <a:br>
              <a:rPr sz="2400"/>
            </a:b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share of GDP has come from increased payments by third parti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4273200" y="160020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3" name="Straight Arrow Connector 6"/>
          <p:cNvCxnSpPr>
            <a:stCxn id="92" idx="1"/>
          </p:cNvCxnSpPr>
          <p:nvPr/>
        </p:nvCxnSpPr>
        <p:spPr>
          <a:xfrm flipH="1">
            <a:off x="4038120" y="1784160"/>
            <a:ext cx="235440" cy="44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4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3a | Since 1949, all of the growth in the personal health spending share of GDP has come from increased payments by third parties</dc:description>
  <dc:language>en-US</dc:language>
  <cp:lastModifiedBy>Jia Yao</cp:lastModifiedBy>
  <cp:lastPrinted>2002-05-16T21:44:34Z</cp:lastPrinted>
  <dcterms:modified xsi:type="dcterms:W3CDTF">2013-09-04T21:03:48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3a | Since 1949, all of the growth in the personal health spending share of GDP has come from increased payments by third parties</vt:lpwstr>
  </property>
</Properties>
</file>