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776B6-73A1-4F30-95B0-62FD401DEE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13B | ESTIMATED DEATHS IN UNITED STATES, BY UNDERLYING CAUSE, 20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05FE8-92FA-4EE0-8F85-4DDC493379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E7C6-9AA0-4053-A636-66D45F793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6C93-7424-4534-91C0-6B7F4098E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CF24-B375-4026-AF7B-1154E77CE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8D3E-7E72-4C23-A627-171773303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F819-1C52-42C6-9F0A-5FEE679CB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5357-4BCB-4FDF-B950-4544FE93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BF12-3A52-47CE-AD19-5FBC1A0C5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04CB-2633-4341-93CE-66340291B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7786-AF8D-4973-A2C4-3C84E0796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A741-69E9-4B6B-B8BC-59261272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C23C-9041-4BC2-B06F-32C0A84F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7058-FDEA-4AF8-B1FE-8150C07B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63738-1A5A-45B7-A4F8-934E93D762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19.13b | Changes in behavior/lifestyle would have a sizable impact on mortality rates in the U.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092240"/>
            <a:ext cx="901692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5181480" y="61722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tal U.S. deaths (200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13b | Changes in behavior/lifestyle would have a sizable impact on mortality rates in the U.S.</dc:description>
  <dc:language>en-US</dc:language>
  <cp:lastModifiedBy>Jia Yao</cp:lastModifiedBy>
  <dcterms:modified xsi:type="dcterms:W3CDTF">2013-09-06T15:41:24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13b | Changes in behavior/lifestyle would have a sizable impact on mortality rates in the U.S.</vt:lpwstr>
  </property>
</Properties>
</file>