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0E8D-56B8-4792-A377-03A8465D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35AB-ED0E-47FE-AA9B-31E33B1B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5CB3-308C-4A3C-B8AF-86A61CF5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6F5B-4498-4597-AB90-93461956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5522-CB27-445E-928F-39F17F7D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3180-570F-4099-BFAA-9BBE0FF5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149F-C600-49D6-B5A9-6C8F04DD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B2A3-BA83-4A0F-8EEF-583D9936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0EDE-5AA7-41D6-A531-AB3BDF5B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8E5A-0BFF-4A99-9DCE-22E6E1CB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486B-06D0-4AAF-817E-554A0CBC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8520-A00F-405F-A097-F5807088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F5C1-6603-4F12-B02E-6C95B67D1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3680"/>
            <a:ext cx="909468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0Z</dcterms:modified>
  <cp:revision>12</cp:revision>
  <dc:subject/>
  <dc:title>PowerPoint Presentation</dc:title>
</cp:coreProperties>
</file>