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EDDA-16C9-4B25-9631-37C0FB9B5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ED2E-03F1-4608-BB35-FA790DDE98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4a | Federal and State Expenditures for Health Benefit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190-A204-49C0-B8E9-5A87C3CC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985-DB8F-447D-8855-E4681386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57FE-6C86-416D-8D56-075764C3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8F26-7D41-4EE9-AC07-A811C320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F3ED-F93C-429A-B412-0DFC1EF7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1F82-A1C1-4FF2-8D40-4DADC721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FA4B-D66A-47E2-99D9-ABB56033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F70B-4906-4706-B135-859AF1AB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87BA-6B81-43D1-B4D1-435885C7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11C0-151D-4BD8-B58B-CA9CACDC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9FD3-718F-480D-87D9-52605217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0D0F-F0F1-4B87-A646-D6707EDB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6B1B-3624-4083-AD0F-D65ACDEE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5D4A-CC8F-477A-862A-6306BC54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AE8E-6800-4439-8759-44CE2A40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E8B5-2736-4461-9D0B-24C66DBD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7C10-67A6-4E9D-B1EA-3A49C169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8A7-63D0-4132-8F0F-46618E99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754-4C07-4915-93F8-40A97E6D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D263-D741-45B7-B4CD-0E2A27B8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E38-9A42-4776-9204-F1278F66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9F5-03CC-4EB4-B73D-4D6C67D7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7519-7A14-487D-8B17-1AD9B0DC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751-ED9F-456C-BAF0-76B0C1B6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CECB-6FBE-4B58-BFD1-9E1FA4C7C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0B54-6604-4F91-94C3-358294E760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4a | More than 90 percent of tax expenditures used to subsidize health care relate to the tax exclusion for employee health benefit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635040"/>
            <a:ext cx="9198000" cy="6578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4a | More than 90 percent of tax expenditures used to subsidize health care relate to the tax exclusion for employee health benefits</dc:description>
  <dc:language>en-US</dc:language>
  <cp:lastModifiedBy>Jia Yao</cp:lastModifiedBy>
  <cp:lastPrinted>2002-05-16T21:44:34Z</cp:lastPrinted>
  <dcterms:modified xsi:type="dcterms:W3CDTF">2013-09-04T21:03:52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4a | More than 90 percent of tax expenditures used to subsidize health care relate to the tax exclusion for employee health benefits</vt:lpwstr>
  </property>
</Properties>
</file>