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772A-8CD3-40B6-B723-22BEBCCD9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C | TRENDS IN PROFITABILITY: RETURN ON EQUITY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F821-4DB2-4D21-B73E-C5E1CD3C8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8C5-DB92-406D-BC69-45723BC0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69BA-1B41-457B-A6F0-D0500582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2A5-C3F4-4F49-A79C-97384A6D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DFE-A221-4CED-9686-2725A06A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9FF-9312-4B02-B52E-3382B42E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507-219F-497F-A383-2EBFF80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D9D-729C-4F2C-9846-967C7428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07D-8620-41A7-9DB4-DF80170C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01C-AEF3-4A81-86D5-9D4C9F23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6D6-40AB-4CE1-A26B-C338CBD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1CC-B510-4420-83CA-39AF6741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312-153C-410E-B53E-BF9D4447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1BC2-EF6D-40B0-B3EA-61C6A4C94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7c | Both pharmaceuticals and medical products have somewhat lower industry rankings on return on equity than other measures of prof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78880" y="1143000"/>
            <a:ext cx="66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1440" y="5345280"/>
            <a:ext cx="834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11). While the number varies slightly by year and profitability measure, roughly 50 industries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c | Both pharmaceuticals and medical products have somewhat lower industry rankings on return on equity than other measures of profit</dc:description>
  <dc:language>en-US</dc:language>
  <cp:lastModifiedBy>Jia Yao</cp:lastModifiedBy>
  <dcterms:modified xsi:type="dcterms:W3CDTF">2013-09-06T14:17:1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c | Both pharmaceuticals and medical products have somewhat lower industry rankings on return on equity than other measures of profit</vt:lpwstr>
  </property>
</Properties>
</file>