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BFDE-E811-4AE5-941B-E3A5DE2B3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0A38-DD0C-4D79-9083-B2666232C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88E5-4195-4D0B-B59F-87990D962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1B3E-CE76-40EE-9B1F-B3946245E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3DF6-713A-45D9-9350-CD89773CB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590C-015E-49AD-87B2-9B2CBA49B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94B8-5564-4770-BED3-456EA32E5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50F7-BF18-47CF-AFBB-DDFC001BD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CABB-AC27-49E0-96A7-304F28DCF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BEC5-64E0-4857-9EF2-31234D5A6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018C-5106-4278-8AD2-1E5787AF5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7B31-70BD-4850-BF0F-D6D8851BC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E0A21-B8A5-40FA-A04A-55E28EC1EE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109440" y="1143000"/>
            <a:ext cx="89251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3:35Z</dcterms:modified>
  <cp:revision>14</cp:revision>
  <dc:subject/>
  <dc:title>PowerPoint Presentation</dc:title>
</cp:coreProperties>
</file>