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EE505-79B8-4AA3-BC30-D14388719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E2E80-DFFB-4B08-9B6C-B103639DB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9E9EF-6A60-44D8-864D-192A80E93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54AB2-3AFB-4EC6-BE47-9A9952C9E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E6BFF-94D2-492D-A521-501FE1415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F4200-3FFD-430B-BF2C-35B734C18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3251D-4F56-49C1-9710-560B3F9AF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D78A0-7224-4D38-99B7-46982ADA2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9880E-84EC-47FD-9E83-007DD277C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4454E-280B-40A8-A878-AEAB1331F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169F2-9E2A-4C0F-96EA-02294C31B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D30E3-0A79-4860-8EE6-5197C894D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0C9F4-0C7C-4440-8A1C-A9DE5BC277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50760" y="0"/>
            <a:ext cx="9042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20:26Z</dcterms:modified>
  <cp:revision>37</cp:revision>
  <dc:subject/>
  <dc:title>PowerPoint Presentation</dc:title>
</cp:coreProperties>
</file>