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B7C1-9DDB-46B0-A4B4-CD815781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0D29-D7EF-4B2D-82EC-635F7261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6CA0-B389-4C56-B304-A01D22BA9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B8F0-38FF-4099-99AC-CE9315222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CFA2-9DE9-44C9-AA1E-9F39F778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C53B-ECE2-43E6-9DEF-0617A0CD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9185-2521-493D-AFEE-2769FDB9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E13B-8D83-4AE3-9B50-BE9A21C8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CDD9-362F-40CC-AB49-AE400B57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9ADE-E8E2-4261-B218-DBC1F835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30DF-935C-438C-AD7B-7EA762D7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902E-D901-4D24-850C-5F46F1C7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7807-E4C6-4E5B-99DE-1F4E794D0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49200"/>
            <a:ext cx="914400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1Z</dcterms:modified>
  <cp:revision>14</cp:revision>
  <dc:subject/>
  <dc:title>PowerPoint Presentation</dc:title>
</cp:coreProperties>
</file>