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729E-EE3C-43CA-86F5-13B29D536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CAEF-1CA7-40F8-886B-9E95231933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1b | EMPLOYER CONTRIBUTIONS FOR HEALTH INSURANCE AS A PERCENT OF ALL EMPLOYER-PAID FRINGE BENEFIT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BD3-D086-43F9-B2A2-7B442C93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E902-1D7E-468F-B63B-B5090481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BD13-BA9E-4E86-8E12-38739B62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C942-C9D9-4D22-A2C9-5D8C51B6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184D-75FA-4557-AB2B-75CC6D07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15B1-6483-4A3E-9637-7806AA8E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C752-6242-405C-AAF8-9F54A741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BA27-5E94-48FA-A363-8A04A75D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4CCD-7ED9-4E46-B444-7F1E4409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0D8F-EA02-4FAF-8BD4-84634D12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E239-197D-46E1-87C3-3A14275E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936B-FFA8-4957-A102-37FD0A8D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3242-4484-4D85-971D-5FA9037E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01A0-3DF3-406A-9878-3A767D87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296D-3296-489B-A61C-2A2F8FB9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A1A4-E8B8-4582-A42F-C0C60199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5C54-B858-4C67-9181-13381912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6F7C-7A08-4434-BDAC-5F2F4F72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DF38-D520-40AB-AB5D-38C564EE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2E8D-BC14-4790-B11C-AC0705C4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A8FB-8EC7-4E67-8CBE-C67CF3DB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8EA-C171-4B67-9D94-CAF329F7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B53-4D82-462D-B922-C67D11F8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5FC4-6FC9-4901-B5FC-2FF6C82B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ED47-C29A-4BDA-A9FB-B80690CAE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EF81-7ED1-41A1-B170-2E794D25F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1b | Health-related employer contributions have absorbed a growing share of supplements, now accounting for nearly half the total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1b | Health-related employer contributions have absorbed a growing share of supplements, now accounting for nearly half the total</dc:description>
  <dc:language>en-US</dc:language>
  <cp:lastModifiedBy>Jia Yao</cp:lastModifiedBy>
  <cp:lastPrinted>2002-05-16T21:44:34Z</cp:lastPrinted>
  <dcterms:modified xsi:type="dcterms:W3CDTF">2013-09-06T13:49:59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1b | Health-related employer contributions have absorbed a growing share of supplements, now accounting for nearly half the total</vt:lpwstr>
  </property>
</Properties>
</file>