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4EAA-D5EC-46DC-83F9-F924948B5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c | Output per Hour and Output per Unit of Input Indexes (1987=100), Medical Equipment and Pharmaceutical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2FCA-C58F-439D-937B-3A3F82427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B53-C403-4E6B-9B95-40A64C37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FEF-6F14-4C9B-83C3-DEA84067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B71-A65C-4D3B-A47C-358F41E1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3DF-1381-4C94-B904-96A3FE19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42B-9381-47A3-BC51-42CDA0A4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E93-56F9-4D9D-9612-6E240C62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040-F0C4-4C38-875A-3565A241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C95-158B-45DC-9B1B-9AD66E13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D2E-D121-49BD-A37B-822C8AB4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7BA-321D-4AA6-ABE7-FBF3E908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3F2-7591-45A3-A61F-40A9DB10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146-001D-4B9B-93B1-2AA6331C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8529-7292-4B99-B0C1-EACE8AB19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c.  Productivity has grown much faster in the medical device industry than the pharmaceutical industry, where output per unit of input is f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c.  Productivity has grown much faster in the medical device industry than the pharmaceutical industry, where output per unit of input is falling</dc:description>
  <dc:language>en-US</dc:language>
  <cp:lastModifiedBy>Jia Yao</cp:lastModifiedBy>
  <dcterms:modified xsi:type="dcterms:W3CDTF">2013-09-06T14:59:1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c.  Productivity has grown much faster in the medical device industry than the pharmaceutical industry, where output per unit of input is falling</vt:lpwstr>
  </property>
</Properties>
</file>