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BF47-ABBB-4D2B-B26A-ECA6C53B9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C | RATIO OF ELDERLY PER CAPITA HEALTH SPENDING TO AVERAGE ANNUAL EARNINGS OF PRODUCTION WORKERS IN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3F42-8559-47B9-B597-BF2E91E36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9F38-D76F-4319-9F30-3EB4CC92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FB0-D3A0-49BB-AE41-4A68B6C9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9EA-0587-46CA-A82D-48A594D2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38F-D392-4375-985C-AAA06E71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312-6C1E-4AEB-81E0-A513FD00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588-7E6A-4217-AFD8-049FF25C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167-43B7-45D2-8504-F2528D1C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E17-19FE-4124-B870-72348609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FFB-640B-4A56-94CA-A6A3FDBD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9591-DACD-4492-8E35-954D5D4C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AB8-4909-4068-920D-04C14F6F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619-5FDE-4DB9-8453-8750BC10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C5CB-76C0-44BB-8478-8BD22895A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c | Relative to competitors, U.S. health spending per elderly person is a much higher share of average manufacturing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47840" y="1643040"/>
            <a:ext cx="83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lderly health spending as a percentage of average annual compensation in manufacturing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c | Relative to competitors, U.S. health spending per elderly person is a much higher share of average manufacturing compensation</dc:description>
  <dc:language>en-US</dc:language>
  <cp:lastModifiedBy>Jia Yao</cp:lastModifiedBy>
  <dcterms:modified xsi:type="dcterms:W3CDTF">2013-09-23T19:14:3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c | Relative to competitors, U.S. health spending per elderly person is a much higher share of average manufacturing compensation</vt:lpwstr>
  </property>
</Properties>
</file>