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189-3AED-4D13-A556-3411B66E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8493-046C-4988-96F3-24A92160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91AB-CBB8-4290-87A8-5F326548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C33D-418A-4DC8-B342-563F79C1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44EE-FC1E-47BB-81EB-ED6F0B62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92C0-0D7C-4533-A9BF-C0E7A394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04C-41CD-4EED-8E6F-51CCA542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5942-408A-4410-A7C6-9B4ECC5F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810A-91A1-4B07-9518-0FB1204D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1658-3584-4AE5-8148-A5E68E45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D2E-1BCE-43A8-896C-545F28D4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2A1-3A34-4583-B8F8-3478BB90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1904-4893-4DB1-B573-F1980EFE3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3120" y="0"/>
            <a:ext cx="853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2Z</dcterms:modified>
  <cp:revision>31</cp:revision>
  <dc:subject/>
  <dc:title>PowerPoint Presentation</dc:title>
</cp:coreProperties>
</file>