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9411-0385-4B4A-8880-1BA4E96B5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79F-1F1B-41F0-9967-7107C4726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80C-AAD3-4EF7-A26E-D933B33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8B9-5B9A-43C0-A20E-24D1BCF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2A7-27A3-4F12-9350-A61990A3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66F-F71A-43CD-BFF5-87507DA6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703-BDC2-4E67-A70A-6FE6B9C1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FCE-ADB2-4A43-B8B9-7DDB9F9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BA3-0218-47C1-96C3-D8053849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C51-7213-485F-8057-619381B6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84C-DE94-4898-BC96-989DED62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5AE-EFF5-4DFB-99D9-1494C09B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0D9-F566-4FE7-A476-88E74F4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7DE-D6E1-4417-B69D-EDB013D8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1715-E17E-42DB-90E9-24E1BA586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b The funding shortfall for major entitlements will amount to more than one third of taxable payroll within eight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788320" cy="5429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143000"/>
            <a:ext cx="1600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unfunded public sector liability as a percentage of taxable pay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57200" y="57150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unding shortfalls for Medicaid, Medicare Part B and Medicare Part D are calculated assuming the share of federal revenues devoted to these programs in 2007 represents societal willingness-to-pay for them. All figures based on CBO’s alternative fiscal scenar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a The funding shortfall for major entitlements will amount to more than one third of taxable payroll within eight decades</dc:description>
  <dc:language>en-US</dc:language>
  <cp:lastModifiedBy>Jia Yao</cp:lastModifiedBy>
  <dcterms:modified xsi:type="dcterms:W3CDTF">2013-09-23T19:14:28Z</dcterms:modified>
  <cp:revision>64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a The funding shortfall for major entitlements will amount to more than one third of taxable payroll within eight decades</vt:lpwstr>
  </property>
</Properties>
</file>