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78B0-30F8-414B-BC0F-21BB67C24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b | Health Spending per Dollar of Wealth, 195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A7D8-8696-4212-AB9D-73558B70A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B10-9285-4DAF-97EF-2026DD61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72A-9195-42ED-B1FA-5A966EE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329-C867-4E75-8A98-EA8BF69E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5C9-2AF0-4AE7-9305-627C9C8A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80F-0BBA-4A7C-8EFE-FDD8C58B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439-A34A-4E2B-B2F4-F0BCC350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F11-A09E-4067-B268-B9326858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76F-7442-4D1A-A17A-184D760B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4ED-BF66-4069-A455-A5E59961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AE4-DAE5-431B-B9AC-30A29B75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735-B5A5-41AF-BA6D-4C95F87D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BBA-4771-496E-BAA2-270000D3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ACD7-3392-4C9E-BABA-C52504DC9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b | Health spending per dollar of wealth has almost quadrupled over 6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ealth spending per dollar of net worth held by households and nonprof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b | Health spending per dollar of wealth has almost quadrupled over 60 years</dc:description>
  <dc:language>en-US</dc:language>
  <cp:lastModifiedBy>Jia Yao</cp:lastModifiedBy>
  <dcterms:modified xsi:type="dcterms:W3CDTF">2013-09-06T15:26:01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b | Health spending per dollar of wealth has almost quadrupled over 60 years</vt:lpwstr>
  </property>
</Properties>
</file>