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B3D2-E913-4DCA-8643-1C71951B5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2.1A | CONCENTRATION OF MEDICAL EXPENDITURE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7882-9FE7-44B8-917E-1BC1D8654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F506-6764-4B65-8AA9-2EA5FB95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1DE-9A0C-4D92-B68C-F74332E1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27B-A9EC-4BAB-9AA2-DEC4F05D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12A-AA29-4FD0-BE5F-3E14E41B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F3F-4720-47B8-9D86-14184AB3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2136-3B0E-4B2C-A8E1-0F1C9439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295-9ABE-4A57-890D-0B8D7A29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1005-A07C-4AA5-9362-DC8D6AD7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C6A-1804-4A99-AFCA-469B715D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11F6-D0C2-4373-AD1B-2B1E0878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2F8-BD08-411C-A74A-683227FC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4F7-6BEA-4A34-9D75-15F8CC94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14EE-7475-4E55-84AD-F7BD6917E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12.1a | Only 1 percent of the population accounts for about one quarter of health spending; 5 percent account for nearly hal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-50760" y="977760"/>
            <a:ext cx="8788320" cy="4902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529160" y="1160640"/>
            <a:ext cx="37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health spending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70360" y="1160640"/>
            <a:ext cx="32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stimated per capita spending (20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5486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percentages are for the civilian, non-institutionalized population based on Med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enditures Panel Survey (MEPS) data for 2008.  2011 per capita spending has be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lculated from 2008 figures, adjusted to account for increased personal health spend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and to reduce differences between MEPS and National Health Expenditure estimat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523880" y="50292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tribution of population ranked by annual per capita health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0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1a | Only 1 percent of the population accounts for about one quarter of health spending; 5 percent account for nearly half</dc:description>
  <dc:language>en-US</dc:language>
  <cp:lastModifiedBy>Jia Yao</cp:lastModifiedBy>
  <dcterms:modified xsi:type="dcterms:W3CDTF">2013-09-06T15:12:4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1a | Only 1 percent of the population accounts for about one quarter of health spending; 5 percent account for nearly half</vt:lpwstr>
  </property>
</Properties>
</file>