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58F-F624-4D0D-8E86-6562C3FD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0AD-F970-4A12-AE10-A693412D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FBD-0EBC-407F-8156-812435A6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AE4-C315-4849-8D6C-88EA6864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DAA-B245-4A93-8CB3-8411EAA2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320-C7A6-47C4-9F89-BC66151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24F-6F7C-4C4A-80AA-7FFE199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189-6959-4C9B-AB30-FA1E2FDF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657-97CE-47D2-8C75-379342BB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EAB-EADA-45F8-AE91-0318A10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E51-6A46-485E-A466-BB4E7621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7E6-5A4C-45C0-914E-24D4651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505D-FC58-4D0E-829A-417BF3EBD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3480" y="1066680"/>
            <a:ext cx="9077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6Z</dcterms:modified>
  <cp:revision>37</cp:revision>
  <dc:subject/>
  <dc:title>PowerPoint Presentation</dc:title>
</cp:coreProperties>
</file>