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A6A-9E9E-4027-B382-6496C105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072-38D2-4F8C-A421-56B2B590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351-E474-4148-B5BC-C4674F40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909-969C-45DA-BB31-E6B57481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7ED-D846-43B0-8B71-19F46D7E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B01-54BE-44B1-A50D-9E7D5E21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CB8-E01F-4056-BF00-0E87EECB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840-C764-4EB5-83A2-B33E603F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089-D95F-4217-960A-AF24CBD9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853-5F34-4D2C-8C6B-625EF4A3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2C8-4043-4029-9FA6-01813251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63A-4FCB-4555-B472-37B3E59C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E53E-4C61-4F41-A36F-50C7B5DD6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1Z</dcterms:modified>
  <cp:revision>43</cp:revision>
  <dc:subject/>
  <dc:title>PowerPoint Presentation</dc:title>
</cp:coreProperties>
</file>