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2B65-96A0-4E1F-BAD6-F472D4D8F7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8.1A | TOP MEDICAL INNOVATIONS BY COUNTRY OF ORIGIN, 1975-2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6026-223E-431F-A9DF-3781F52CEB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ADCA-A789-4C05-999C-69EA4DB43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9519-0600-4238-B9D8-49964E82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D203-9167-43DB-B510-2E9761FC6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09CC-CC12-47B7-B6F7-E9072DAEF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8536-FA6C-42A7-B163-61BF6D48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7EDB-4BB8-4A6C-9E5C-D12551AE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6939-1A9D-40C7-AC0D-75597730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C350-926C-41A7-B7D6-E0C675F0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4F86-2C31-4FBE-9BA3-4AB11C0D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3928-A10C-47E2-8C46-93413BDE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F7CC-B3AA-4602-855B-A0572C64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92C1-5371-43AD-85D0-0526B781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B0A0-71A9-4655-8B76-2CDEE34929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8.1a | The U.S. has less than two-thirds the population of EU and Switzerland, but has produced about 50 percent more top medical innov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549440"/>
            <a:ext cx="92455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49800" y="1600200"/>
            <a:ext cx="405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top medical innovations, 1975-2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41080" y="5759280"/>
            <a:ext cx="839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Whitman G and R Rand. Bending the Productivity Curve: Why America Leads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ld in Medical Innovation. Cato Insitute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olicy Analysi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654. November 18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9. http://www.cato.org/pubs/pas/pa654.pdf (accessed August 10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7:43:19Z</dcterms:created>
  <dc:creator>Kristy</dc:creator>
  <dc:description>18.1a | The U.S. has less than two-thirds the population of EU and Switzerland, but has produced about 50 percent more top medical innovations</dc:description>
  <dc:language>en-US</dc:language>
  <cp:lastModifiedBy>Jia Yao</cp:lastModifiedBy>
  <dcterms:modified xsi:type="dcterms:W3CDTF">2013-09-06T15:33:51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8.1a | The U.S. has less than two-thirds the population of EU and Switzerland, but has produced about 50 percent more top medical innovations</vt:lpwstr>
  </property>
</Properties>
</file>