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5F2C-5199-4096-84DA-9F3CD2282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B | PRIVATE HEALTH INSURANCE COVERAGE OF ELDERLY 65 AND OV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F22-DBE2-49B8-823C-DCED2FDA8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BC6-FF84-4C87-B2A1-03CFC7A2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A13-756A-4AC5-B6B8-BC81CE7A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61C-C9B4-4333-B2C7-9EF19763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DE9-076F-42EC-8BF8-12D70B6D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1DB-E6FE-4AAC-9BBE-666B8F0E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59B-5159-4D35-BF5C-03313307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35B-AE5D-4F3E-87BD-E71A6690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FEC-30F5-41A3-ABB7-B9BEACDA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42D-75F9-4837-97FE-710CFB6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F88-0D2D-46C0-BFD2-C70B2031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7A3-9813-4C30-A4A9-F6B3D25C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531-B900-45E6-8ADD-7B3D407C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196-326B-483C-B20C-AB169F418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b |  A large fraction of the elderly has supplemental Medicare coverage through employers or non-group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168560"/>
            <a:ext cx="92455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20574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b |  A large fraction of the elderly has supplemental Medicare coverage through employers or non-group plans</dc:description>
  <dc:language>en-US</dc:language>
  <cp:lastModifiedBy>Jia Yao</cp:lastModifiedBy>
  <dcterms:modified xsi:type="dcterms:W3CDTF">2013-09-06T15:17:05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b |  A large fraction of the elderly has supplemental Medicare coverage through employers or non-group plans</vt:lpwstr>
  </property>
</Properties>
</file>