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FF0A-BF4F-4FB0-B42F-2BA3B057A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0303-F254-4965-8947-24DA8810C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A3B1-9D4C-4069-9F36-2056F1646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FD5E-764C-49F6-BAED-252987845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77DC-8076-44D4-97EA-9A0BEB9BB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4DF8-B9BC-43BD-B4D1-CE7500762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4474-E3F5-4CB1-A2FE-E13B0291F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B4B8-5334-4512-BCBD-8A39267D0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1B7D-A0EB-411B-A24B-6DAA4312F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1D54-0149-4629-8FFF-E585ABB7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EFA6-402C-4684-9905-0B0086B0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6815-0570-43C0-8838-3CF6971B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3CD51-CA69-422D-9E09-7F3370CBD6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9320" y="76320"/>
            <a:ext cx="909468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17Z</dcterms:modified>
  <cp:revision>20</cp:revision>
  <dc:subject/>
  <dc:title>PowerPoint Presentation</dc:title>
</cp:coreProperties>
</file>