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302D-EB53-4366-9757-4843DB466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9CC2-E829-465A-A96D-9511DF6CDF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5b | AVERAGE EXPENDITURES FOR TREATMENT OF ACUTE CONDITIONS, BY CHRONIC CONDITION STATUS AND AGE,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C0C-D89F-4342-A5AF-36F68D7C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BB7-88E9-4C7B-A7D7-1A0FDE92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156-F083-431D-914B-FF805033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C04-850F-40B9-92AF-715CB1F9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80AC-7EEB-4167-ACD9-E69BA4F0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B84D-5569-4154-989A-C5CF3568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AA6A-4475-4D9A-B44C-FAEAD393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D4D9-9D0A-4E29-8E4F-C17DBAFE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9BD5-9885-497A-B5DD-07A709E0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7246-8C5F-41D5-A700-704027F3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4A56-ACCF-47C4-B179-956C62CB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107-FBA0-499A-A12A-3EAD67E8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EE9D-7BFA-4F07-A3D2-37F955D5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7A06-285D-4017-B69D-FF738421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F496-C8FA-4AF7-BF4B-C10160C5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0FA5-C733-4E37-9C44-73DF0FD2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064D-93AE-4CA0-9AE1-51D6C0D7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2C8-5A96-407D-8BEE-C103B31E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3BE-0F87-497E-9447-C26F2233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ACF-F228-4D53-9603-A6BBA444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F206-6B97-43ED-AC7E-B0FD812A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B20-8CB9-4904-B764-B8221C45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A59-7724-4A72-9CE6-FCECCD38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6A5-0D83-4A8A-B4BD-364A5204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23AA-79A1-4316-929F-9789E2632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6D40-CEB8-4962-B89C-1907E215FC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5b | Compared to those without chronic illness, annual health costs are 2 to 3 times as high for adults with one or more chronic condition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304920" y="5810400"/>
            <a:ext cx="293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: Machlin S, JW Cohen and K Beauregard. Health Care Expenses for Adults with Chronic Conditions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5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tatistical Brief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#203. May 2008. Agency for Healthcare Research and Quality. Rockville MD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meps.ahrq.gov/mepsweb/data_files/publications/st203.pdf (accessed November 14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5b | Compared to those without chronic illness, annual health costs are 2 to 3 times as high for adults with one or more chronic conditions</dc:description>
  <dc:language>en-US</dc:language>
  <cp:lastModifiedBy>Jia Yao</cp:lastModifiedBy>
  <cp:lastPrinted>2002-05-16T21:44:34Z</cp:lastPrinted>
  <dcterms:modified xsi:type="dcterms:W3CDTF">2013-09-04T18:13:27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5b | Compared to those without chronic illness, annual health costs are 2 to 3 times as high for adults with one or more chronic conditions</vt:lpwstr>
  </property>
</Properties>
</file>