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7F5B-93D5-469D-AB58-87CCD1FA5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9A | REAL PER CAPITA NON-HEALTH SPENDING, BY HOUSEHOLDER AG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10BA-1BDE-45C5-B043-152D0ADAB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FA0-D7FA-4914-BAD2-B8362BAC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433-2C89-4601-B7BA-3876BD73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F8E-87F7-4A10-91A6-B5F5082B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C1B-05E6-4FE2-8CA2-9F0A9DC2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F811-B1F5-40E0-B55D-B42D06BA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E900-8E96-4519-8472-119B385C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0480-67CE-4EF7-826D-D679739C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9966-2251-44B3-8324-D6C6FBBF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6295-12D8-48D6-98A4-FB0CB8B3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D7D3-B132-4963-86F6-125E0A93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19AA-898D-45E7-A709-4BB4E097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8E8-CD68-40A5-B3A4-86A40316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F59F-2183-4924-8D57-3F494A84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0200-45AE-4BC9-AAAC-689EA54A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DAE7-21AD-4B33-A32C-311D4B09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EC05-14ED-4DBA-B16D-95C96DFB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ADB3-9CF7-4882-88C3-7BA8910F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1B2-E032-4DC5-ACBA-146AC538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CC9-C859-4E1C-A4AD-1BF50700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249-1D10-404B-8A7C-F3D584A2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72C-8347-483D-A54F-AFB3474D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628-BB0C-4759-ABC7-C75F6D79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0E5-26FD-4719-8693-397E14A7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D25-5738-429B-BADC-6FBE8C7E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4918-5171-4794-8263-FF10FD5C35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2810-529F-4887-831C-2D0265BF14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9a | Real per capita non-health spending currently is higher in households headed by elderly people; this was not true in 198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388800" y="1092240"/>
            <a:ext cx="8348760" cy="1854000"/>
          </a:xfrm>
          <a:prstGeom prst="rect">
            <a:avLst/>
          </a:prstGeom>
          <a:ln w="0">
            <a:noFill/>
          </a:ln>
        </p:spPr>
      </p:pic>
      <p:pic>
        <p:nvPicPr>
          <p:cNvPr id="91" name="Chart 4" descr=""/>
          <p:cNvPicPr/>
          <p:nvPr/>
        </p:nvPicPr>
        <p:blipFill>
          <a:blip r:embed="rId2"/>
          <a:stretch/>
        </p:blipFill>
        <p:spPr>
          <a:xfrm>
            <a:off x="388800" y="2921040"/>
            <a:ext cx="8348760" cy="1473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762120" y="1371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572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094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hart 9" descr=""/>
          <p:cNvPicPr/>
          <p:nvPr/>
        </p:nvPicPr>
        <p:blipFill>
          <a:blip r:embed="rId3"/>
          <a:stretch/>
        </p:blipFill>
        <p:spPr>
          <a:xfrm>
            <a:off x="388800" y="4292640"/>
            <a:ext cx="8634600" cy="2082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990720" y="61722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al per capita non-health spending (thousands of 2009 dollars using GDP price defla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1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9a | Real per capita non-health spending currently is higher in households headed by elderly people; this was not true in 1984</dc:description>
  <dc:language>en-US</dc:language>
  <cp:lastModifiedBy>Jia Yao</cp:lastModifiedBy>
  <dcterms:modified xsi:type="dcterms:W3CDTF">2013-09-23T17:02:0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9a | Real per capita non-health spending currently is higher in households headed by elderly people; this was not true in 1984</vt:lpwstr>
  </property>
</Properties>
</file>