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4DEF-BE0D-4C34-BED1-FF21B3B6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A05-E1CA-4B01-8E33-068C735C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8A5-2AFA-4507-9725-1780591B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73E-D8DE-4BA2-B42A-02FF386D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2F0-DF01-48D1-8F18-7FA23C4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DBA-5817-4F61-97A6-5D4DA47B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DD8-D5CF-43C2-ADCF-FD6395D9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931-B82C-4ACC-8ED8-A7510A1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D99-0B87-4B90-A357-238F0A31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D8E-6B2A-4377-AAE1-9457E27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09E-88FA-4B22-A339-618F9D9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025-208D-43E5-B029-6B5ABA56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EAE6-BF7B-4351-A5F0-C1DABEDEE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30Z</dcterms:modified>
  <cp:revision>20</cp:revision>
  <dc:subject/>
  <dc:title>PowerPoint Presentation</dc:title>
</cp:coreProperties>
</file>