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6A3-F010-4A9F-90F2-D67D3E7B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F46-2AF3-498C-9036-B2A3553C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272-09DF-43DC-B174-301A21ED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CEF-3258-4E3E-969E-5CB2960F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FFB3-592C-493E-A984-B9667482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076-FF31-4F9F-9D9B-BC3271A0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423-F04F-40D2-96DC-F8A6FDA5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109-8E2A-42A2-81AE-1142BB82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2F2-376E-4B84-BC15-FD2B81AC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00F-9C15-4838-B0CE-5CB6DC75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ED0-C52B-47B3-9941-D2DA3BBC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328-CBBB-4623-A01D-CB9C900A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45CA-C98D-4E87-9616-37C16BDD1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20520"/>
            <a:ext cx="9117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20Z</dcterms:modified>
  <cp:revision>20</cp:revision>
  <dc:subject/>
  <dc:title>PowerPoint Presentation</dc:title>
</cp:coreProperties>
</file>