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471-5F52-4738-A1D2-69A0664E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1EF-F212-4356-88F1-C4177720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232-8B1F-4ED1-A8E1-EA043905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B65-11D4-4CCD-8F02-95246990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2CC-4749-4432-BC11-E0FB11E0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B42-D0D9-4E7C-99CC-6203D313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4B5-C062-4589-BB9A-24783401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4F3-2B70-4F2A-AA88-01266C31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578-0ABA-4645-BF09-86C1D2CC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A1E-D811-458A-9F6A-CE1EF98B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354-1161-4EAE-9B17-DB968F65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CBB9-A47E-4DE4-8F10-6EBD4968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8F59-10F7-4E0B-854F-0285A7D04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1:04Z</dcterms:modified>
  <cp:revision>31</cp:revision>
  <dc:subject/>
  <dc:title>PowerPoint Presentation</dc:title>
</cp:coreProperties>
</file>