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F4C74-DDB2-4FD0-BD52-F49EBD391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72C78-5BD0-4DB1-A6DD-C2DF00FBF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6555D-DF7D-41FF-9812-D61248D2B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8A794-A83C-4FC9-93C7-2760F2D83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7AA12-A753-42A3-AA53-F5D36A142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A3D73-A180-4251-92AB-FF7FC3BEF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F8CA8-7A35-4E2A-A14D-2D9B14DD5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05119-F3A7-4592-B9E4-EDB9DF78F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28957-7711-4B82-8979-15C8F89B9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65C87-B71D-44B9-A380-55E6B0661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61F38-7D16-4EDE-B1E8-1DFE48985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47F3F-C359-4F97-BC6C-02736019C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E3450-A8E5-4E56-8CB4-1F85E48232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-1440" y="228600"/>
            <a:ext cx="9145440" cy="639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7:40Z</dcterms:modified>
  <cp:revision>22</cp:revision>
  <dc:subject/>
  <dc:title>PowerPoint Presentation</dc:title>
</cp:coreProperties>
</file>