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30A0-3594-4B5E-A6C6-429E09A53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C | COMPARATIVE INDICATORS OF MEASLES, DPT AND FLU VACCINATION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27E4-2F55-42D4-855B-21B0FCAAB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240-82D4-4C64-BCB8-B4DB505F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550-DCD7-4755-A682-3550AAD8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43D-9814-449F-9F60-9E154CDA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F3F-6402-4305-82FF-1A4F5148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7A1-6F0E-4D6C-8798-6FBFD742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2E2-0CA5-4CA4-A997-ABF742E1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462-5E48-4E7A-BF06-9EB3559C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83F-B6BB-4AB1-A536-5DA34588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5A3-0FFF-493E-8A7D-BB27A065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C96-A3EB-4F2A-9433-4A47BC4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AFA-417A-4E35-B514-A95B461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44B-1FA4-4C01-B8EC-A189A8F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2599-20F4-4D54-A326-A03725130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c | Immunization rates in the U.S. are generally comparable with those in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88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c | Immunization rates in the U.S. are generally comparable with those in other G7 nations</dc:description>
  <dc:language>en-US</dc:language>
  <cp:lastModifiedBy>Jia Yao</cp:lastModifiedBy>
  <dcterms:modified xsi:type="dcterms:W3CDTF">2013-09-06T15:40:5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c | Immunization rates in the U.S. are generally comparable with those in other G7 nations</vt:lpwstr>
  </property>
</Properties>
</file>