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7C02-27BD-4260-A89D-17774AEDB4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7A | INCREASE IN MANDATORY FEDERAL HEALTH SPENDING AS A PERCENTAGE OF GDP, 2010-208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3733-B84C-46F3-BE88-3CCDB0B292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AC90-6237-4D78-B29B-0AB189557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B81F-7FAF-4E7F-A395-D382B499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A29F-D37A-4225-BF65-6795A73FF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89B4-DA48-461F-8A6D-C938C2E38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85D4-989F-44E0-8CBA-B302DED2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FEE8-3EF7-4ECB-BD39-4C8148A9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9F05-2854-43B1-8D90-0A301C87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5B10-C826-4338-A2C9-C3138E23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C94C-DE8E-4A02-A357-80D4948A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E103-7242-48D3-BFC0-F4673F46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19B3-7A51-4D79-9ADA-1140D1BB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850F-37AF-48E7-8D26-B4093223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140A-12A9-45DC-B455-80296C8CFE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20.7a | The projected 75-year increase in mandatory federal health spending exceeds revenues from the three largest sources of federal tax reven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82760" y="1244520"/>
            <a:ext cx="825480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457200" y="144792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7a | The projected 75-year increase in mandatory federal health spending exceeds revenues from the three largest sources of federal tax revenue</dc:description>
  <dc:language>en-US</dc:language>
  <cp:lastModifiedBy>Jia Yao</cp:lastModifiedBy>
  <dcterms:modified xsi:type="dcterms:W3CDTF">2013-09-23T19:14:32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7a | The projected 75-year increase in mandatory federal health spending exceeds revenues from the three largest sources of federal tax revenue</vt:lpwstr>
  </property>
</Properties>
</file>