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FF20-401D-4682-A5E6-A3CECAB27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10.2A | HEALTH SECTOR EMPLOYMENT AS A PERCENT OF TOTAL CIVILIAN EMPLOYMENT IN SELECTED INDUSTRIALIZED COUNTRIES, 1995, 2008 </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46D6-F5C5-4A3C-9530-1B11579601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0E937-A111-45FB-AD16-ECEF76B92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76241-555F-4E0D-8C6D-19E2F677E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CFD5E-6AF8-439D-8C15-16319E6F5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BB205-024A-4CE4-B2E3-FA1025EDE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B67A-D4E8-4E4C-AA20-953F0288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BEB9-72E6-49B9-BB6C-84F3478E5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B892-D8E3-4439-BFB0-B5E3F4F66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33D60-DDB9-4808-BE51-AD9FC653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DB24-3583-4237-BCDE-F85167222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1570-E762-428C-85DE-4EDF8581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89D96-BD09-4F7D-9507-6084D61E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21EF-534A-4D88-8B8C-9319EDE05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5452-7F0D-47DC-AC7C-66096ED2C2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10.2a | Employment in the health and social work sector is a higher share of total civilian employment in the U.S. than in other G7 nation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549440"/>
            <a:ext cx="8331120" cy="4902120"/>
          </a:xfrm>
          <a:prstGeom prst="rect">
            <a:avLst/>
          </a:prstGeom>
          <a:ln w="0">
            <a:noFill/>
          </a:ln>
        </p:spPr>
      </p:pic>
      <p:sp>
        <p:nvSpPr>
          <p:cNvPr id="50" name="Rectangle 4"/>
          <p:cNvSpPr/>
          <p:nvPr/>
        </p:nvSpPr>
        <p:spPr>
          <a:xfrm>
            <a:off x="533520" y="15238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lth and social work sector employment as a percentage of total civilian employment</a:t>
            </a:r>
            <a:endParaRPr b="0" lang="en-US" sz="1800" spc="-1" strike="noStrike">
              <a:solidFill>
                <a:srgbClr val="000000"/>
              </a:solidFill>
              <a:latin typeface="Calibri"/>
            </a:endParaRPr>
          </a:p>
        </p:txBody>
      </p:sp>
      <p:sp>
        <p:nvSpPr>
          <p:cNvPr id="51" name="TextBox 5"/>
          <p:cNvSpPr/>
          <p:nvPr/>
        </p:nvSpPr>
        <p:spPr>
          <a:xfrm>
            <a:off x="500040" y="4772160"/>
            <a:ext cx="8396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Health and social work includes human health activities, veterinary activities and social work activities. For the U.S. and Japan, the 1995 figure is imputed from 2003, which is the earliest reported data for this measure. In France, data refer to employees only (excluding the self-employed). This underestimates by about 10% the total number of persons employed in health and social services.</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
        <p:nvSpPr>
          <p:cNvPr id="53" name="TextBox 7"/>
          <p:cNvSpPr/>
          <p:nvPr/>
        </p:nvSpPr>
        <p:spPr>
          <a:xfrm>
            <a:off x="641160" y="6227640"/>
            <a:ext cx="57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urce</a:t>
            </a:r>
            <a:r>
              <a:rPr b="0" lang="en-US" sz="1800" spc="-1" strike="noStrike">
                <a:solidFill>
                  <a:srgbClr val="000000"/>
                </a:solidFill>
                <a:latin typeface="Calibri"/>
              </a:rPr>
              <a:t>: OECD. </a:t>
            </a:r>
            <a:r>
              <a:rPr b="0" i="1" lang="en-US" sz="1800" spc="-1" strike="noStrike">
                <a:solidFill>
                  <a:srgbClr val="000000"/>
                </a:solidFill>
                <a:latin typeface="Calibri"/>
              </a:rPr>
              <a:t>OECD Health Data 2010 </a:t>
            </a:r>
            <a:r>
              <a:rPr b="0" lang="en-US" sz="1800" spc="-1" strike="noStrike">
                <a:solidFill>
                  <a:srgbClr val="000000"/>
                </a:solidFill>
                <a:latin typeface="Calibri"/>
              </a:rPr>
              <a:t>– Version: June 20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14:15:29Z</dcterms:created>
  <dc:creator>Kristy</dc:creator>
  <dc:description>10.2a | Employment in the health and social work sector is a higher share of total civilian employment in the U.S. than in other G7 nations</dc:description>
  <dc:language>en-US</dc:language>
  <cp:lastModifiedBy>Jia Yao</cp:lastModifiedBy>
  <dcterms:modified xsi:type="dcterms:W3CDTF">2013-09-06T15:03:51Z</dcterms:modified>
  <cp:revision>12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10.2a | Employment in the health and social work sector is a higher share of total civilian employment in the U.S. than in other G7 nations</vt:lpwstr>
  </property>
</Properties>
</file>