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A9D-0CF4-45A8-81E7-1A2DEA68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B23-F1E7-43CC-BC20-9271C360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3D9-3877-41E7-A9CE-085EB03C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236-88B5-4517-A06F-8379F550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097-3B48-4ED1-83DB-1020DFF0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895-B7F0-4CFA-93CC-1587A63E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0BC-0FD8-484F-BE3A-BEB074C5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0CE-4592-4DF5-8CE2-D4922CC7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F42-C009-4AEA-B093-31F3113D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DFB-341D-48D3-93FF-3DD92D39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5E8-2AEC-44A3-9DCE-7B97B2A7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76B-B721-4AD8-A0AC-DFD19D99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92FB-5151-49CF-8E68-8BB4D08C0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2Z</dcterms:modified>
  <cp:revision>35</cp:revision>
  <dc:subject/>
  <dc:title>PowerPoint Presentation</dc:title>
</cp:coreProperties>
</file>