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8A91-C5B5-4D9E-9F71-D3362A936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A40-B27B-4827-8EAE-21E1717ABD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b | ADMINISTRATIVE EXPENSES OF PRIVATE HEALTH PLANS </a:t>
            </a:r>
            <a:br>
              <a:rPr sz="1400"/>
            </a:b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626-6ED7-4C46-B6AE-62ED5CBF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24F-0A7A-4A72-B1B7-CD22EAA4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C0D-7A47-445A-B731-1A0E1FFD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EC4-CAEF-47CD-B2EA-1B5056FF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76AE-B25B-402F-B06A-38F5C203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F9F9-8F9B-4C3D-8464-E20CA43E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DAA1-93E1-45E2-9B22-322FAD3E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BC3C-B55D-47C7-BDB8-86A86B33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687F-DE40-4F52-BDED-4AC3A9D1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8D44-853A-4D7B-BB3B-E8BC2DC8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8C56-E6DB-4D33-9280-FEDFAE07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AC6-F379-441A-B975-323088ED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6D75-4F84-431B-8147-99A4114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94CD-4F22-4F19-81AF-F4E04C34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8412-3D07-4926-8F87-149D2E0F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E60D-8063-41F5-9761-FF9747C6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6A1C-E1ED-4643-883E-52EA677D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A50-FAAD-4FF1-BF8C-CAA52B57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922-409E-425A-A175-1956696B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034-27C0-45F5-BD64-CFC449FB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A8A9-EDE7-4B36-9591-08F09D21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FDF-AD79-456D-B173-E44DC24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156-1D7A-472B-B88A-B0142A7C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2D7-7124-4B78-82D1-1E9720F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01DE-9AD5-455B-BB7D-E88882B23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B4D9-A8A3-4A67-89BE-3FBAB57AC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b | If private health insurance covered a similar mix of services as Medicare, this alone would cut average administrative costs by half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lue 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b | If private health insurance covered a similar mix of services as Medicare, this alone would cut average administrative costs by half</dc:description>
  <dc:language>en-US</dc:language>
  <cp:lastModifiedBy>Jia Yao</cp:lastModifiedBy>
  <cp:lastPrinted>2002-05-16T21:44:34Z</cp:lastPrinted>
  <dcterms:modified xsi:type="dcterms:W3CDTF">2013-09-04T18:13:18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b | If private health insurance covered a similar mix of services as Medicare, this alone would cut average administrative costs by half</vt:lpwstr>
  </property>
</Properties>
</file>