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3B5D-F676-4633-8908-9F6DAD1AA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6a | Trends in Per Capita Health Spending by Geographic Region, 1966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D28-83CD-438D-AFD7-F34971D59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BDE-4E79-466C-A434-8A7F95AA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C8D-F092-43F3-AF55-609E044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AA0-DBA0-4C72-B79E-8A9C210F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943-5093-4E2D-885C-275B5DC9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731-97C0-45FE-BB9C-A9AE290F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6A6-F9D6-44F6-AC80-CFEB9071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6B1-9ABA-4190-8695-1A70317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743-CC51-4479-A048-1F6E6DC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9DD-83E7-486B-AFEA-210241E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D61-B12C-4342-A0C1-3192E69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62C-B95B-4D5F-B6F9-639EC19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5E1-F3FE-4393-867A-BFAF9366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C846-F255-4C64-B15A-8F0BDED8A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6a | Regional differences in per capita health spending narrowed from 1966 to about 1985 and widened there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87883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Per Capita Health Spending by Location of Service (100=U.S. Aver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6095880"/>
            <a:ext cx="81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not available for years 1967-68 ,1970-71 or 1973-1975, so they have been interpolated to avoid distorting the length of the bottom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6a | Regional differences in per capita health spending narrowed from 1966 to about 1985 and widened thereafter</dc:description>
  <dc:language>en-US</dc:language>
  <cp:lastModifiedBy>Jia Yao</cp:lastModifiedBy>
  <dcterms:modified xsi:type="dcterms:W3CDTF">2013-09-06T15:13:1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6a | Regional differences in per capita health spending narrowed from 1966 to about 1985 and widened thereafter</vt:lpwstr>
  </property>
</Properties>
</file>