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FF3C-D125-4B43-99E9-4D1B28D84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0556-DC18-49FB-B3B9-3A99630E5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8106-74D0-4DB0-9C84-D5FF38FDC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4328-58A5-4889-82E9-E5B34F511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21A7-959A-4EB9-A847-40954F135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D4A6-A92F-4E52-8EC6-044C6F1EF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F082-32F9-45B0-9D06-3211AB794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A386-9FBF-4031-BB94-2FB9ACEAF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8928-1DC3-417B-9454-41078B9CF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C5BA-89C4-4B59-B932-35DC4CF42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C2F7-6D06-481C-BA4C-849F72073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3EAE-F324-4400-8230-A8587F8EB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B7877-E0F0-46B2-936D-B46DFFAD8B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52280"/>
            <a:ext cx="908208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6:35Z</dcterms:modified>
  <cp:revision>35</cp:revision>
  <dc:subject/>
  <dc:title>PowerPoint Presentation</dc:title>
</cp:coreProperties>
</file>