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21A1-B702-4509-A3A6-1F349965D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3A | U.S. SHARE OF PHARMACEUTICAL EXPORTS AND IMPORTS AMONG OECD NATIONS, 1980-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C0F2-4AD4-4298-917E-AE472A948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D2F-C027-4E49-8F43-A61CA367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52E-C24F-4DF9-AA97-43300C2C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E2D-CA42-406B-9681-20D8DB38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113-F6BB-4F33-BEC6-F093D16B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D83-E876-4240-884B-955655A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C7D-4AD6-49A1-A799-788420A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E76-11D5-4EBC-8305-78115F67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845-E297-482C-B3D9-C13EE86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0EE-670A-4BAD-97D2-FEC3F412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F08-7775-46DE-ACDF-F1C970C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DC6-1A9B-49E4-A365-EBC5A96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E1C-2A75-412C-B1BC-8DB9C88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DDDB-0F66-4D8B-9401-EAF0A086E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3a | Since 1980, the U.S. share of pharmaceutical exports within the OECD has been declining while its share of imports has increased since 198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521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30080" y="1447920"/>
            <a:ext cx="66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.S. share of aggregate value of pharmaceuticals traded, in U.S. dollars, P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3a | Since 1980, the U.S. share of pharmaceutical exports within the OECD has been declining while its share of imports has increased since 1980</dc:description>
  <dc:language>en-US</dc:language>
  <cp:lastModifiedBy>Jia Yao</cp:lastModifiedBy>
  <dcterms:modified xsi:type="dcterms:W3CDTF">2013-09-06T15:33:59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3a | Since 1980, the U.S. share of pharmaceutical exports within the OECD has been declining while its share of imports has increased since 1980</vt:lpwstr>
  </property>
</Properties>
</file>