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6F5-2502-4007-A7AF-1C6B7402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FC6-95A1-47B9-A9C3-4DF0EE22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DCA-6409-473D-9C48-0E989182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2F0-FE42-4D7D-8A6C-F57576BD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941-8ECE-49C0-8A0C-7854A789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9B8-F476-491A-80AC-3E79A2B8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9C6-EAC8-4DF5-81CC-0B9F650D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7F1-BF3E-4FF0-921E-B41408D8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B47-13EA-4A9D-AD21-DE431A69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801-4C54-4C33-AAF1-A69222CF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9537-8051-4707-9055-A14C9765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797-7F87-4DD1-A087-122874DE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2AB3-8818-4DC6-BEB8-C6121872C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904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35Z</dcterms:modified>
  <cp:revision>30</cp:revision>
  <dc:subject/>
  <dc:title>PowerPoint Presentation</dc:title>
</cp:coreProperties>
</file>