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6522-F346-4FC9-B703-FDF39FF5A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1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A4E-F5E6-4D15-9984-921038AE6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09FB-3E95-474F-A670-BC119271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EE3-54F7-4AA4-AF9C-926BCD35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46D-C95E-408F-9168-104E81E2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E00-8770-459F-9AA8-BD87A799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953-545D-419D-AB4A-4C07895F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B9F-C0AD-40D1-982D-867B192A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E855-A71E-48DE-AF06-39EDE119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D92-24E8-4C33-A93F-C6AD241D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94E-CA21-4B82-B957-1EE2AF01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F5F-BEED-4AE8-AF9A-86EB25BF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C03-B5E9-4A86-B797-9ED18BF7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BB2-20C8-4894-AB30-36F1FD13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D5A0-732D-44F3-B336-88FEAB6C5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1 | Public and non-profit owners dominate the hospital sector and provide a large fraction of nursing home and home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1 | Public and non-profit owners dominate the hospital sector and provide a large fraction of nursing home and home health care</dc:description>
  <dc:language>en-US</dc:language>
  <cp:lastModifiedBy>Jia Yao</cp:lastModifiedBy>
  <dcterms:modified xsi:type="dcterms:W3CDTF">2013-09-06T14:09:47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1 | Public and non-profit owners dominate the hospital sector and provide a large fraction of nursing home and home health care</vt:lpwstr>
  </property>
</Properties>
</file>