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08CE-A491-4667-9090-D5D416EC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B3F-9355-4840-98D0-25C53E51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3A30-85C2-47B5-8D3E-59E48CF0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9EA5-BA4A-4B84-8FD7-974A283F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477E-F0B3-4EA6-BF5D-11EA521E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9E9-4164-4299-9C5B-72C9E575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130F-5D42-480F-844B-C6A11A67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8D04-E2DC-48DF-9384-F201B482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5EF-0A9E-4931-BAEA-662A8866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688-29FC-45D5-8194-7A8DB63D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448B-21EB-489F-929B-94C040E7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0DF2-1848-4B13-9219-CFBCE7FC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90BE-D9B1-4B7B-9E3E-A4D300A4B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49280"/>
            <a:ext cx="91314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3Z</dcterms:modified>
  <cp:revision>20</cp:revision>
  <dc:subject/>
  <dc:title>PowerPoint Presentation</dc:title>
</cp:coreProperties>
</file>