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CAA-3409-4293-9B09-E71388BE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8F4-41C1-42CB-8537-D055888A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DCB-18CE-46B0-B9A4-653CE55A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17F-5539-4F6A-A528-6D53FEE3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468-A5C8-402E-99EF-B3E2536F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0E3-08CD-43E2-9811-15E92CFC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2E84-4A14-456C-B4C9-1C961C1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63F-0F30-43A8-8D8F-98D76294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72C-4B96-4649-BD5E-D9A53D0F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87E-F67F-4B2A-A5F2-17CE3E45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1AA-64E3-46E8-A2A6-8B33EC17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79E-1963-47B3-89C3-862459F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510-F912-4789-BEB7-6EC4201F5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203480"/>
            <a:ext cx="89582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6Z</dcterms:modified>
  <cp:revision>39</cp:revision>
  <dc:subject/>
  <dc:title>PowerPoint Presentation</dc:title>
</cp:coreProperties>
</file>