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4FD-CFF0-49B5-AA9F-579EFC98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1B98-3D7C-4DAC-88AD-4C877FBD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831-DB2A-4461-8F44-7EB366BF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E8A-4A1C-49BC-86D7-5DD0388A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623-B36D-4F1A-88C3-3F503A72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BF75-838C-46C4-9B2D-FF539964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C12-C7A3-41DD-80E1-DA5EC19A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36C7-7646-498F-AE73-4C1C013A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B5A-0127-4CEC-8D02-2736C940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0A1-64DA-4BE3-9ACA-715D058A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4AF7-A5E3-4DAC-83EC-A1E5C617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6ABD-1213-4307-A2D1-7FDBC7BD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685B-B80C-43E2-84E0-2C9C99392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4Z</dcterms:modified>
  <cp:revision>12</cp:revision>
  <dc:subject/>
  <dc:title>PowerPoint Presentation</dc:title>
</cp:coreProperties>
</file>