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ACF-3C74-4A66-9FD3-C1352E5F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7E2-1A48-4D95-8408-46078529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D9A-FB2C-4708-AC21-6C74E41A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6BA-93B1-4CB8-8AA9-EB3E4665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A1D-965E-4A83-9037-354C8E0E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2D8-AE2A-4D92-965F-B668B283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F08-AE1C-4D37-95FA-2B42E234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D16-17FA-403D-8C03-CBAD4584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C90-223F-42FA-A9D5-73CA239D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715A-F324-45F4-8A54-7D3BC552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677-DEBA-4BBA-8F3B-80C0CF37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722-448F-4178-A112-60E3EDE1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BE9B-679C-48A1-96A5-141E9FC80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19040"/>
            <a:ext cx="9085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30Z</dcterms:modified>
  <cp:revision>37</cp:revision>
  <dc:subject/>
  <dc:title>PowerPoint Presentation</dc:title>
</cp:coreProperties>
</file>